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MayItBe_Enya_LordOfTheRings.wav" ContentType="audio/x-wav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863-5641-422A-B7B9-749FD90E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7F1-0E59-43F5-A9EB-22A20D5D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7FA-3751-4D5A-97A3-11D34FB7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C30-4153-420D-80E5-0F55E6DF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C7B-2943-415E-8E31-CB7C3A36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C3D-E1CC-4494-98ED-478CC0D7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0AE-62AF-4E56-BAF9-5963A4BC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ED6-71B6-4B37-ADCB-11251BA6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356-D203-45A8-97AC-918EA12A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357-9EE2-4726-BF8B-F63C26D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FC8-EAF3-4958-B83A-604802B1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759-8B5B-4B28-8335-56022A1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3D74-42F4-4BE6-99C0-22CC1AB28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MayItBe_Enya_LordOfTheRing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3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rohe Weihnachten!! von Andreas Stöckl"/>
          <p:cNvPicPr/>
          <p:nvPr/>
        </p:nvPicPr>
        <p:blipFill>
          <a:blip r:embed="rId1"/>
          <a:stretch/>
        </p:blipFill>
        <p:spPr>
          <a:xfrm>
            <a:off x="304920" y="152280"/>
            <a:ext cx="4662360" cy="6553440"/>
          </a:xfrm>
          <a:prstGeom prst="rect">
            <a:avLst/>
          </a:prstGeom>
          <a:ln w="127080">
            <a:solidFill>
              <a:srgbClr val="cc33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219640" y="83664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ff3300"/>
                </a:solidFill>
                <a:latin typeface="Walt Disney Script v4.1"/>
              </a:rPr>
              <a:t>Licht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kerst_kaarsen/kaars162fa.gif"/>
          <p:cNvPicPr/>
          <p:nvPr/>
        </p:nvPicPr>
        <p:blipFill>
          <a:blip r:embed="rId2"/>
          <a:stretch/>
        </p:blipFill>
        <p:spPr>
          <a:xfrm>
            <a:off x="5724360" y="2421000"/>
            <a:ext cx="2857680" cy="37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kerst_ster/etoil004.gif"/>
          <p:cNvPicPr/>
          <p:nvPr/>
        </p:nvPicPr>
        <p:blipFill>
          <a:blip r:embed="rId3"/>
          <a:stretch/>
        </p:blipFill>
        <p:spPr>
          <a:xfrm>
            <a:off x="2514600" y="10666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kerst_ster/etoil004.gif"/>
          <p:cNvPicPr/>
          <p:nvPr/>
        </p:nvPicPr>
        <p:blipFill>
          <a:blip r:embed="rId4"/>
          <a:stretch/>
        </p:blipFill>
        <p:spPr>
          <a:xfrm>
            <a:off x="457200" y="533520"/>
            <a:ext cx="762120" cy="712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Allen frohe Weihnachten von Michael Clau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54864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Aan degene die zo dierbaar voor je i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kerst_ster/etoil004.gif"/>
          <p:cNvPicPr/>
          <p:nvPr/>
        </p:nvPicPr>
        <p:blipFill>
          <a:blip r:embed="rId2"/>
          <a:stretch/>
        </p:blipFill>
        <p:spPr>
          <a:xfrm>
            <a:off x="5029200" y="190980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kerst_ster/etoil004.gif"/>
          <p:cNvPicPr/>
          <p:nvPr/>
        </p:nvPicPr>
        <p:blipFill>
          <a:blip r:embed="rId3"/>
          <a:stretch/>
        </p:blipFill>
        <p:spPr>
          <a:xfrm>
            <a:off x="2057400" y="24382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kerst_ster/etoil004.gif"/>
          <p:cNvPicPr/>
          <p:nvPr/>
        </p:nvPicPr>
        <p:blipFill>
          <a:blip r:embed="rId4"/>
          <a:stretch/>
        </p:blipFill>
        <p:spPr>
          <a:xfrm>
            <a:off x="6705720" y="2438280"/>
            <a:ext cx="761760" cy="712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6021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Frohe Weihnachten von Matthias Aeh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63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0292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En die het ook weer doorgeeft,                                        zodat het kan groeien en schit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kerst_ster/etoil004.gif"/>
          <p:cNvPicPr/>
          <p:nvPr/>
        </p:nvPicPr>
        <p:blipFill>
          <a:blip r:embed="rId2"/>
          <a:stretch/>
        </p:blipFill>
        <p:spPr>
          <a:xfrm>
            <a:off x="6248520" y="1219320"/>
            <a:ext cx="761760" cy="71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kerst_ster/etoil004.gif"/>
          <p:cNvPicPr/>
          <p:nvPr/>
        </p:nvPicPr>
        <p:blipFill>
          <a:blip r:embed="rId3"/>
          <a:stretch/>
        </p:blipFill>
        <p:spPr>
          <a:xfrm>
            <a:off x="3124080" y="2514600"/>
            <a:ext cx="609840" cy="569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kerst_ster/etoil004.gif"/>
          <p:cNvPicPr/>
          <p:nvPr/>
        </p:nvPicPr>
        <p:blipFill>
          <a:blip r:embed="rId4"/>
          <a:stretch/>
        </p:blipFill>
        <p:spPr>
          <a:xfrm>
            <a:off x="3352680" y="1143000"/>
            <a:ext cx="609840" cy="569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kerst_ster/etoil004.gif"/>
          <p:cNvPicPr/>
          <p:nvPr/>
        </p:nvPicPr>
        <p:blipFill>
          <a:blip r:embed="rId5"/>
          <a:stretch/>
        </p:blipFill>
        <p:spPr>
          <a:xfrm>
            <a:off x="1371600" y="1828800"/>
            <a:ext cx="609480" cy="569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360" y="6093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1144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- von Marion Kl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38280" y="6172200"/>
            <a:ext cx="58676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8672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3300"/>
                </a:solidFill>
                <a:latin typeface="Walt Disney Script v4.1"/>
              </a:rPr>
              <a:t>In het hart van ieder me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81480"/>
            <a:ext cx="1447560" cy="1295640"/>
          </a:xfrm>
          <a:custGeom>
            <a:avLst/>
            <a:gdLst>
              <a:gd name="textAreaLeft" fmla="*/ 340200 w 1447560"/>
              <a:gd name="textAreaRight" fmla="*/ 1106280 w 1447560"/>
              <a:gd name="textAreaTop" fmla="*/ 152280 h 1295640"/>
              <a:gd name="textAreaBottom" fmla="*/ 812880 h 129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724280"/>
            <a:ext cx="1371600" cy="1295640"/>
          </a:xfrm>
          <a:custGeom>
            <a:avLst/>
            <a:gdLst>
              <a:gd name="textAreaLeft" fmla="*/ 322200 w 1371600"/>
              <a:gd name="textAreaRight" fmla="*/ 1048320 w 1371600"/>
              <a:gd name="textAreaTop" fmla="*/ 152280 h 1295640"/>
              <a:gd name="textAreaBottom" fmla="*/ 812880 h 129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kerst_ster/etoil004.gif"/>
          <p:cNvPicPr/>
          <p:nvPr/>
        </p:nvPicPr>
        <p:blipFill>
          <a:blip r:embed="rId2"/>
          <a:stretch/>
        </p:blipFill>
        <p:spPr>
          <a:xfrm>
            <a:off x="6400800" y="1427040"/>
            <a:ext cx="685800" cy="641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kerst_ster/etoil004.gif"/>
          <p:cNvPicPr/>
          <p:nvPr/>
        </p:nvPicPr>
        <p:blipFill>
          <a:blip r:embed="rId3"/>
          <a:stretch/>
        </p:blipFill>
        <p:spPr>
          <a:xfrm>
            <a:off x="5410080" y="2209680"/>
            <a:ext cx="876600" cy="81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kerst_ster/etoil004.gif"/>
          <p:cNvPicPr/>
          <p:nvPr/>
        </p:nvPicPr>
        <p:blipFill>
          <a:blip r:embed="rId4"/>
          <a:stretch/>
        </p:blipFill>
        <p:spPr>
          <a:xfrm>
            <a:off x="7315200" y="2443320"/>
            <a:ext cx="609480" cy="569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kerst_ster/etoil004.gif"/>
          <p:cNvPicPr/>
          <p:nvPr/>
        </p:nvPicPr>
        <p:blipFill>
          <a:blip r:embed="rId5"/>
          <a:stretch/>
        </p:blipFill>
        <p:spPr>
          <a:xfrm>
            <a:off x="5791320" y="3581280"/>
            <a:ext cx="571320" cy="534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kerst_ster/etoil004.gif"/>
          <p:cNvPicPr/>
          <p:nvPr/>
        </p:nvPicPr>
        <p:blipFill>
          <a:blip r:embed="rId6"/>
          <a:stretch/>
        </p:blipFill>
        <p:spPr>
          <a:xfrm>
            <a:off x="7010280" y="3794040"/>
            <a:ext cx="685800" cy="641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kerst_ster/etoil004.gif"/>
          <p:cNvPicPr/>
          <p:nvPr/>
        </p:nvPicPr>
        <p:blipFill>
          <a:blip r:embed="rId7"/>
          <a:stretch/>
        </p:blipFill>
        <p:spPr>
          <a:xfrm>
            <a:off x="6629400" y="3062160"/>
            <a:ext cx="57168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kerst_ster/etoil004.gif"/>
          <p:cNvPicPr/>
          <p:nvPr/>
        </p:nvPicPr>
        <p:blipFill>
          <a:blip r:embed="rId8"/>
          <a:stretch/>
        </p:blipFill>
        <p:spPr>
          <a:xfrm>
            <a:off x="6248520" y="457200"/>
            <a:ext cx="685800" cy="641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 flipH="1" rot="16200000">
            <a:off x="-2527920" y="3213720"/>
            <a:ext cx="6248520" cy="27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 flipH="1" rot="16200000">
            <a:off x="5396400" y="3366000"/>
            <a:ext cx="6248520" cy="27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zarter Hauch von Rainer Schomm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kerst_lijnen/50.gif"/>
          <p:cNvPicPr/>
          <p:nvPr/>
        </p:nvPicPr>
        <p:blipFill>
          <a:blip r:embed="rId2"/>
          <a:stretch/>
        </p:blipFill>
        <p:spPr>
          <a:xfrm>
            <a:off x="1143000" y="6477120"/>
            <a:ext cx="6869160" cy="239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kerst_lijnen/50.gif"/>
          <p:cNvPicPr/>
          <p:nvPr/>
        </p:nvPicPr>
        <p:blipFill>
          <a:blip r:embed="rId3"/>
          <a:stretch/>
        </p:blipFill>
        <p:spPr>
          <a:xfrm>
            <a:off x="1219320" y="152280"/>
            <a:ext cx="6869160" cy="239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280" y="380880"/>
            <a:ext cx="883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Kaarsjes in het donker zo teer ,                                    zo fijn  kunnen je leven verlichten.                 Doordat er dan Warmte ,                                Gezelligheid en Vriendschap kan zij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429000"/>
            <a:ext cx="8991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Het geringste zuchtje wind…                                       blaast het kaarsje uit.                                      Daarom laten wij in elkaar slaan onze handen.                   En zorgen dat de kaarsjes blijven branden !</a:t>
            </a:r>
            <a:r>
              <a:rPr b="0" lang="nl-BE" sz="4000" spc="-1" strike="noStrike">
                <a:solidFill>
                  <a:srgbClr val="ffcc00"/>
                </a:solidFill>
                <a:latin typeface="Walt Disney Script v4.1"/>
              </a:rPr>
              <a:t>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kerst_ster/etoil004.gif"/>
          <p:cNvPicPr/>
          <p:nvPr/>
        </p:nvPicPr>
        <p:blipFill>
          <a:blip r:embed="rId4"/>
          <a:stretch/>
        </p:blipFill>
        <p:spPr>
          <a:xfrm>
            <a:off x="4284720" y="2205000"/>
            <a:ext cx="838080" cy="784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kerst_ster/etoil004.gif"/>
          <p:cNvPicPr/>
          <p:nvPr/>
        </p:nvPicPr>
        <p:blipFill>
          <a:blip r:embed="rId5"/>
          <a:stretch/>
        </p:blipFill>
        <p:spPr>
          <a:xfrm>
            <a:off x="6629400" y="533520"/>
            <a:ext cx="914400" cy="855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Besinnliche Weihnachten von Martin Oliver Scher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71800" y="609480"/>
            <a:ext cx="556272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kerst_lijnen/49.gif"/>
          <p:cNvPicPr/>
          <p:nvPr/>
        </p:nvPicPr>
        <p:blipFill>
          <a:blip r:embed="rId2"/>
          <a:stretch/>
        </p:blipFill>
        <p:spPr>
          <a:xfrm>
            <a:off x="533520" y="6172200"/>
            <a:ext cx="8076960" cy="26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kerst_lijnen/49.gif"/>
          <p:cNvPicPr/>
          <p:nvPr/>
        </p:nvPicPr>
        <p:blipFill>
          <a:blip r:embed="rId3"/>
          <a:stretch/>
        </p:blipFill>
        <p:spPr>
          <a:xfrm>
            <a:off x="533520" y="380880"/>
            <a:ext cx="800100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kerst_ster/etoil004.gif"/>
          <p:cNvPicPr/>
          <p:nvPr/>
        </p:nvPicPr>
        <p:blipFill>
          <a:blip r:embed="rId4"/>
          <a:stretch/>
        </p:blipFill>
        <p:spPr>
          <a:xfrm>
            <a:off x="1981080" y="1600200"/>
            <a:ext cx="1067040" cy="998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Walt Disney Script v4.1"/>
              </a:rPr>
              <a:t>Fons en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 flipH="1" rot="16200000">
            <a:off x="-2756520" y="3137400"/>
            <a:ext cx="6248520" cy="27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 flipH="1" rot="16200000">
            <a:off x="5701680" y="3290040"/>
            <a:ext cx="6248160" cy="277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457200"/>
            <a:ext cx="8686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3300"/>
                </a:solidFill>
                <a:latin typeface="Walt Disney Script v4.1"/>
              </a:rPr>
              <a:t>Geef het lichtje door                             zodat het in </a:t>
            </a:r>
            <a:r>
              <a:rPr b="0" lang="nl-BE" sz="4800" spc="-1" strike="noStrike">
                <a:solidFill>
                  <a:srgbClr val="ff3300"/>
                </a:solidFill>
                <a:latin typeface="Walt Disney Script v4.1"/>
              </a:rPr>
              <a:t>alle</a:t>
            </a:r>
            <a:r>
              <a:rPr b="0" lang="nl-BE" sz="4400" spc="-1" strike="noStrike">
                <a:solidFill>
                  <a:srgbClr val="ff3300"/>
                </a:solidFill>
                <a:latin typeface="Walt Disney Script v4.1"/>
              </a:rPr>
              <a:t>                                                    harten kan blijven branden !</a:t>
            </a: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75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2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Weinachtsfest von Vilma Machado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507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765000"/>
            <a:ext cx="6409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540-8911-4C8D-A147-73EA48FBD125}" type="datetime2">
              <a:rPr b="1" lang="nl-BE" sz="4800" spc="-1" strike="noStrike">
                <a:solidFill>
                  <a:srgbClr val="ff3300"/>
                </a:solidFill>
                <a:latin typeface="Walt Disney Script v4.1"/>
              </a:rPr>
              <a:t>woensdag 29 juli 2026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581360"/>
            <a:ext cx="60483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7966-FF3F-4946-93BD-CD1A9DEFF25A}" type="datetime10">
              <a:rPr b="1" lang="nl-BE" sz="4800" spc="-1" strike="noStrike">
                <a:solidFill>
                  <a:srgbClr val="ff3300"/>
                </a:solidFill>
                <a:latin typeface="Walt Disney Script v4.1"/>
              </a:rPr>
              <a:t>18:24</a:t>
            </a:fld>
            <a:r>
              <a:rPr b="1" lang="nl-BE" sz="4800" spc="-1" strike="noStrike">
                <a:solidFill>
                  <a:srgbClr val="ff3300"/>
                </a:solidFill>
                <a:latin typeface="Walt Disney Script v4.1"/>
              </a:rPr>
              <a:t> uu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95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kerst_ster/etoil004.gif"/>
          <p:cNvPicPr/>
          <p:nvPr/>
        </p:nvPicPr>
        <p:blipFill>
          <a:blip r:embed="rId2"/>
          <a:stretch/>
        </p:blipFill>
        <p:spPr>
          <a:xfrm>
            <a:off x="3924360" y="1413000"/>
            <a:ext cx="83808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an alle fc ler Fröhliche Weihnacht von Peter Mühlbac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105264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Enya : May it 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 </a:t>
            </a: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Lord  Of  The  R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kerst_ster/etoil004.gif"/>
          <p:cNvPicPr/>
          <p:nvPr/>
        </p:nvPicPr>
        <p:blipFill>
          <a:blip r:embed="rId2"/>
          <a:stretch/>
        </p:blipFill>
        <p:spPr>
          <a:xfrm>
            <a:off x="3132000" y="2997360"/>
            <a:ext cx="838440" cy="78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kerst_ster/etoil004.gif"/>
          <p:cNvPicPr/>
          <p:nvPr/>
        </p:nvPicPr>
        <p:blipFill>
          <a:blip r:embed="rId3"/>
          <a:stretch/>
        </p:blipFill>
        <p:spPr>
          <a:xfrm>
            <a:off x="4572000" y="2708280"/>
            <a:ext cx="838080" cy="78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kerst_ster/etoil004.gif"/>
          <p:cNvPicPr/>
          <p:nvPr/>
        </p:nvPicPr>
        <p:blipFill>
          <a:blip r:embed="rId4"/>
          <a:stretch/>
        </p:blipFill>
        <p:spPr>
          <a:xfrm>
            <a:off x="6012000" y="3429000"/>
            <a:ext cx="838080" cy="78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kerst_ster/etoil004.gif"/>
          <p:cNvPicPr/>
          <p:nvPr/>
        </p:nvPicPr>
        <p:blipFill>
          <a:blip r:embed="rId5"/>
          <a:stretch/>
        </p:blipFill>
        <p:spPr>
          <a:xfrm>
            <a:off x="6804000" y="3068640"/>
            <a:ext cx="838080" cy="78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595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Frohe Weihnachten! von Anwar- Nieninqe (Marion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kerst_lijnen/lijn128kgoud.gif"/>
          <p:cNvPicPr/>
          <p:nvPr/>
        </p:nvPicPr>
        <p:blipFill>
          <a:blip r:embed="rId2"/>
          <a:stretch/>
        </p:blipFill>
        <p:spPr>
          <a:xfrm>
            <a:off x="1371600" y="6400800"/>
            <a:ext cx="6858000" cy="228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kerst_lijnen/lijn128kgoud.gif"/>
          <p:cNvPicPr/>
          <p:nvPr/>
        </p:nvPicPr>
        <p:blipFill>
          <a:blip r:embed="rId3"/>
          <a:stretch/>
        </p:blipFill>
        <p:spPr>
          <a:xfrm>
            <a:off x="1219320" y="228600"/>
            <a:ext cx="6858000" cy="22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kerst_ster/etoil004.gif"/>
          <p:cNvPicPr/>
          <p:nvPr/>
        </p:nvPicPr>
        <p:blipFill>
          <a:blip r:embed="rId4"/>
          <a:stretch/>
        </p:blipFill>
        <p:spPr>
          <a:xfrm>
            <a:off x="4038480" y="533520"/>
            <a:ext cx="838440" cy="78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48769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Dat ene lichtje,                                       dat aanwezig is in mijn h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 flipH="1" rot="16200000">
            <a:off x="-2756520" y="3213720"/>
            <a:ext cx="6248520" cy="27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flipH="1" rot="16200000">
            <a:off x="5587200" y="3251880"/>
            <a:ext cx="6477120" cy="27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Licht im Dunkel von Erich Martin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51055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Dat lichtje van hoop en vriendschap,                           dat geef ik nu door aan j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kerst_ster/etoil004.gif"/>
          <p:cNvPicPr/>
          <p:nvPr/>
        </p:nvPicPr>
        <p:blipFill>
          <a:blip r:embed="rId2"/>
          <a:stretch/>
        </p:blipFill>
        <p:spPr>
          <a:xfrm>
            <a:off x="4191120" y="0"/>
            <a:ext cx="761760" cy="71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kerst_ster/sterren14.gif"/>
          <p:cNvPicPr/>
          <p:nvPr/>
        </p:nvPicPr>
        <p:blipFill>
          <a:blip r:embed="rId3"/>
          <a:stretch/>
        </p:blipFill>
        <p:spPr>
          <a:xfrm>
            <a:off x="755640" y="54936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kerst_ster/sterren14.gif"/>
          <p:cNvPicPr/>
          <p:nvPr/>
        </p:nvPicPr>
        <p:blipFill>
          <a:blip r:embed="rId4"/>
          <a:stretch/>
        </p:blipFill>
        <p:spPr>
          <a:xfrm>
            <a:off x="2124000" y="90792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kerst_ster/sterren14.gif"/>
          <p:cNvPicPr/>
          <p:nvPr/>
        </p:nvPicPr>
        <p:blipFill>
          <a:blip r:embed="rId5"/>
          <a:stretch/>
        </p:blipFill>
        <p:spPr>
          <a:xfrm>
            <a:off x="826920" y="1700280"/>
            <a:ext cx="628920" cy="51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kerst_ster/sterren14.gif"/>
          <p:cNvPicPr/>
          <p:nvPr/>
        </p:nvPicPr>
        <p:blipFill>
          <a:blip r:embed="rId6"/>
          <a:stretch/>
        </p:blipFill>
        <p:spPr>
          <a:xfrm>
            <a:off x="7885080" y="54936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kerst_ster/sterren14.gif"/>
          <p:cNvPicPr/>
          <p:nvPr/>
        </p:nvPicPr>
        <p:blipFill>
          <a:blip r:embed="rId7"/>
          <a:stretch/>
        </p:blipFill>
        <p:spPr>
          <a:xfrm>
            <a:off x="7020000" y="155736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kerst_ster/sterren14.gif"/>
          <p:cNvPicPr/>
          <p:nvPr/>
        </p:nvPicPr>
        <p:blipFill>
          <a:blip r:embed="rId8"/>
          <a:stretch/>
        </p:blipFill>
        <p:spPr>
          <a:xfrm>
            <a:off x="5724360" y="476280"/>
            <a:ext cx="628920" cy="51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6237360"/>
            <a:ext cx="20574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Kristallkerzen von Stefanie W.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502920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Opdat je het zou bewaren,                                    daar in je h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19320"/>
            <a:ext cx="990360" cy="838080"/>
          </a:xfrm>
          <a:custGeom>
            <a:avLst/>
            <a:gdLst>
              <a:gd name="textAreaLeft" fmla="*/ 232560 w 990360"/>
              <a:gd name="textAreaRight" fmla="*/ 757080 w 99036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1523880"/>
            <a:ext cx="990720" cy="838440"/>
          </a:xfrm>
          <a:custGeom>
            <a:avLst/>
            <a:gdLst>
              <a:gd name="textAreaLeft" fmla="*/ 232920 w 990720"/>
              <a:gd name="textAreaRight" fmla="*/ 757440 w 990720"/>
              <a:gd name="textAreaTop" fmla="*/ 98280 h 838440"/>
              <a:gd name="textAreaBottom" fmla="*/ 525960 h 838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kerst_ster/etoil004.gif"/>
          <p:cNvPicPr/>
          <p:nvPr/>
        </p:nvPicPr>
        <p:blipFill>
          <a:blip r:embed="rId2"/>
          <a:stretch/>
        </p:blipFill>
        <p:spPr>
          <a:xfrm>
            <a:off x="4876920" y="762120"/>
            <a:ext cx="990360" cy="927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6237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Have Yourself A Merry Little Christmas von Peter Fr.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019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54100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En warmte moet je het geven,                                  opdat je het nimmer koud zult hebb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kerst_ster/etoil004.gif"/>
          <p:cNvPicPr/>
          <p:nvPr/>
        </p:nvPicPr>
        <p:blipFill>
          <a:blip r:embed="rId2"/>
          <a:stretch/>
        </p:blipFill>
        <p:spPr>
          <a:xfrm>
            <a:off x="2743200" y="685800"/>
            <a:ext cx="685800" cy="641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flipH="1" rot="16200000">
            <a:off x="-2680920" y="3137760"/>
            <a:ext cx="6248520" cy="277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 flipH="1" rot="16200000">
            <a:off x="5625000" y="3366000"/>
            <a:ext cx="6248520" cy="277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erry Christmas... von Brigitte Ma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53341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En licht, ja veel licht, opdat je nooit…                              bang hoeft te zijn in het donker.</a:t>
            </a:r>
            <a:r>
              <a:rPr b="0" lang="nl-BE" sz="4000" spc="-1" strike="noStrike">
                <a:solidFill>
                  <a:srgbClr val="ffcc00"/>
                </a:solidFill>
                <a:latin typeface="Walt Disney Script v4.1"/>
              </a:rPr>
              <a:t>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kerst_ster/etoil004.gif"/>
          <p:cNvPicPr/>
          <p:nvPr/>
        </p:nvPicPr>
        <p:blipFill>
          <a:blip r:embed="rId2"/>
          <a:stretch/>
        </p:blipFill>
        <p:spPr>
          <a:xfrm>
            <a:off x="4343400" y="274320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kerst_ster/etoil004.gif"/>
          <p:cNvPicPr/>
          <p:nvPr/>
        </p:nvPicPr>
        <p:blipFill>
          <a:blip r:embed="rId3"/>
          <a:stretch/>
        </p:blipFill>
        <p:spPr>
          <a:xfrm>
            <a:off x="2743200" y="10666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kerst_ster/etoil004.gif"/>
          <p:cNvPicPr/>
          <p:nvPr/>
        </p:nvPicPr>
        <p:blipFill>
          <a:blip r:embed="rId4"/>
          <a:stretch/>
        </p:blipFill>
        <p:spPr>
          <a:xfrm>
            <a:off x="3200400" y="15238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kerst_ster/etoil004.gif"/>
          <p:cNvPicPr/>
          <p:nvPr/>
        </p:nvPicPr>
        <p:blipFill>
          <a:blip r:embed="rId5"/>
          <a:stretch/>
        </p:blipFill>
        <p:spPr>
          <a:xfrm>
            <a:off x="2438280" y="533520"/>
            <a:ext cx="762120" cy="71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6237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Advent von Bernhard Caviez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19720" y="457200"/>
            <a:ext cx="4343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08464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Maar vooral veel liefde,                                     zodat je het kunt doorg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kerst_ster/etoil004.gif"/>
          <p:cNvPicPr/>
          <p:nvPr/>
        </p:nvPicPr>
        <p:blipFill>
          <a:blip r:embed="rId2"/>
          <a:stretch/>
        </p:blipFill>
        <p:spPr>
          <a:xfrm>
            <a:off x="3733920" y="914400"/>
            <a:ext cx="342720" cy="320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kerst_ster/etoil004.gif"/>
          <p:cNvPicPr/>
          <p:nvPr/>
        </p:nvPicPr>
        <p:blipFill>
          <a:blip r:embed="rId3"/>
          <a:stretch/>
        </p:blipFill>
        <p:spPr>
          <a:xfrm>
            <a:off x="2819520" y="990720"/>
            <a:ext cx="342720" cy="320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kerst_ster/etoil004.gif"/>
          <p:cNvPicPr/>
          <p:nvPr/>
        </p:nvPicPr>
        <p:blipFill>
          <a:blip r:embed="rId4"/>
          <a:stretch/>
        </p:blipFill>
        <p:spPr>
          <a:xfrm>
            <a:off x="2590920" y="685800"/>
            <a:ext cx="761760" cy="712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kerst_ster/etoil004.gif"/>
          <p:cNvPicPr/>
          <p:nvPr/>
        </p:nvPicPr>
        <p:blipFill>
          <a:blip r:embed="rId5"/>
          <a:stretch/>
        </p:blipFill>
        <p:spPr>
          <a:xfrm>
            <a:off x="3581280" y="6094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kerst_ster/etoil004.gif"/>
          <p:cNvPicPr/>
          <p:nvPr/>
        </p:nvPicPr>
        <p:blipFill>
          <a:blip r:embed="rId6"/>
          <a:stretch/>
        </p:blipFill>
        <p:spPr>
          <a:xfrm>
            <a:off x="6705720" y="1447920"/>
            <a:ext cx="761760" cy="712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6165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22:10:21Z</dcterms:created>
  <dc:creator>Fons en Maria</dc:creator>
  <dc:description>Niets aan veranderen a.u.b.                              Beter zelf een maken !                                                Maria</dc:description>
  <dc:language>en-US</dc:language>
  <cp:lastModifiedBy>Maria</cp:lastModifiedBy>
  <dcterms:modified xsi:type="dcterms:W3CDTF">2009-11-06T12:55:44Z</dcterms:modified>
  <cp:revision>10</cp:revision>
  <dc:subject/>
  <dc:title>Licht.....</dc:title>
</cp:coreProperties>
</file>