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08%20Lara%20Fabian%20-%20Wonderful%20Lif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383-2390-4821-A5CD-31D06E2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309-51A9-4231-94EA-CC2036C8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268-0F34-407F-AD0F-64D6868E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53E-3358-4F42-AD85-C9A87D17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068B-5DFF-4FC4-86DE-683793DB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1F6-8E97-47B1-8340-6CF6AD7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E70-46DA-4F31-8F12-B62253F5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761C-66CA-49CB-80D5-B73BCEC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542-56F3-4573-8286-17DF140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1B54-BF9F-4480-8DFC-54DF948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EF0-1696-4553-913C-3D10861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09A-40AD-4AB2-B25B-543CF9CB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1EB0-3308-454F-B405-95FFEA31975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8%20Lara%20Fabian%20-%20Wonderful%20Lif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41440" y="-73080"/>
            <a:ext cx="10382400" cy="693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28720" y="66204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Wondervol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00000" y="604044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uziek: Lara Fa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  <p:sndAc>
      <p:stSnd>
        <p:snd r:embed="rId2" name="08%20Lara%20Fabian%20-%20Wonderful%20Lif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27640" y="404640"/>
            <a:ext cx="29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Bedek de vleugels van een vogel met goud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hij zal nooit meer vlie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044720" y="0"/>
            <a:ext cx="10373040" cy="6918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443700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lke dag word je aangereik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een eeuwigheid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om gelukkig te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828360" cy="6929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62720" y="4888080"/>
            <a:ext cx="391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kleinigheid drijf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ensen uit elkaar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catastrofe brengt z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tot elk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2268360" y="-1539720"/>
            <a:ext cx="13261680" cy="994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9720" y="189000"/>
            <a:ext cx="36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leven snelt voorbij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an wie in haast re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10742400" cy="8056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32960" y="423720"/>
            <a:ext cx="429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Stilte verlicht je levenspad,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door niet te spreken,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zie je duidelij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541440" y="-460440"/>
            <a:ext cx="10442520" cy="7832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0840" y="0"/>
            <a:ext cx="649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ansen kloppen vaak maar heel stilletj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an de deur, luister daarom g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4840" y="274680"/>
            <a:ext cx="819288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05040" y="476280"/>
            <a:ext cx="539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Het leven is een boeiende reis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met slechts 1 minpuntje, 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je kunt geen stukje terug rijden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om het uitzicht nog eens te bewond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24000" y="-171360"/>
            <a:ext cx="9864720" cy="7397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707440" y="260280"/>
            <a:ext cx="301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eel erger dan j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geld verliez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je enthousiasm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erlie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404360" cy="6931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9240" y="4437000"/>
            <a:ext cx="412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Belangrijker dan hoeveel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je hebt om </a:t>
            </a: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Trebuchet MS"/>
              </a:rPr>
              <a:t>van</a:t>
            </a: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 te lev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hoeveel je hebt om </a:t>
            </a: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Trebuchet MS"/>
              </a:rPr>
              <a:t>voor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te l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68360" y="-819000"/>
            <a:ext cx="11322000" cy="8489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48360" y="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gevoel geen haast te heb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op zichzelf een vorm van lu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0728360" cy="704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27880" y="62064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huis je belangrijkste bezit vormt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het je gevange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549440" y="-892080"/>
            <a:ext cx="11185560" cy="8389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189000"/>
            <a:ext cx="33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Je moet je hel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vooral met jezelf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oorbrengen, wees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aarom prettig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gezelsch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00" y="-316080"/>
            <a:ext cx="9936360" cy="745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" y="351000"/>
            <a:ext cx="802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denkt dat je alles in een volgend leven anders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ou doen, waarom dan niet nu mete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1721960" cy="8791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95160" y="333360"/>
            <a:ext cx="801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Muren rond een kerkhof zijn een nutteloze uitgave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ij die er binnen zijn kunnen er niet ui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zij die er buiten zijn, willen er niet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1206360" y="-531720"/>
            <a:ext cx="10645560" cy="798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59120" y="765000"/>
            <a:ext cx="60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n welke situatie wij ons ook bevind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het is altijd mogelijk deze met een 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positieve houding te benad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1116000" y="-114480"/>
            <a:ext cx="10785600" cy="703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91560" y="0"/>
            <a:ext cx="665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ingen zijn zoals jij ze zie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us kun je ze maar beter positief bek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252360" y="-531720"/>
            <a:ext cx="10566360" cy="79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8200" y="189000"/>
            <a:ext cx="50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tevreden mens is nooit 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en ontevreden mens echter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al nimmer rijk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494172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Gister is verleden tij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Morgen is een myster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rebuchet MS"/>
              </a:rPr>
              <a:t>Vandaag is een gesche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1116000" y="-963720"/>
            <a:ext cx="12238200" cy="9178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5800" y="3510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i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332000" y="-819000"/>
            <a:ext cx="11017440" cy="8262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34936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ie veel lacht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rijgt later rimpels op de juiste pla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316880" cy="688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4700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Wanneer je je aan niets meer vastklamp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zul je in vrede lev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7308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33360"/>
            <a:ext cx="434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We hebben een hekel aan sleur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Trebuchet MS"/>
              </a:rPr>
              <a:t>maar zijn bang voor verander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57880" y="260280"/>
            <a:ext cx="45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e reden waarom en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kunnen vlieg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dat ze zo licht over zich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en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04360" cy="6935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9960" y="260280"/>
            <a:ext cx="81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at met geweld moet worden vastgehoud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is niet blijv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Wat van harte wordt vastgehouden, blijft bestend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765440" y="-892080"/>
            <a:ext cx="11574720" cy="8678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13280" y="135000"/>
            <a:ext cx="47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Zelfs wanneer je op het goede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spoor zit, word je overreden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als je er op blijft st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81080" y="-674640"/>
            <a:ext cx="11004480" cy="825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860640"/>
            <a:ext cx="43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Durf je probleem vrij te laten,</a:t>
            </a:r>
            <a:br>
              <a:rPr sz="2400"/>
            </a:br>
            <a:r>
              <a:rPr b="1" lang="nl-NL" sz="2400" spc="-1" strike="noStrike">
                <a:solidFill>
                  <a:srgbClr val="ffffff"/>
                </a:solidFill>
                <a:latin typeface="Trebuchet MS"/>
              </a:rPr>
              <a:t>en het keert terug met een oplo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7:05:10Z</dcterms:created>
  <dc:creator>Sytske</dc:creator>
  <dc:description/>
  <dc:language>en-US</dc:language>
  <cp:lastModifiedBy>Jos van Lunenburg</cp:lastModifiedBy>
  <dcterms:modified xsi:type="dcterms:W3CDTF">2010-10-22T09:17:37Z</dcterms:modified>
  <cp:revision>42</cp:revision>
  <dc:subject/>
  <dc:title>een wondervol leven</dc:title>
</cp:coreProperties>
</file>