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08%20Lara%20Fabian%20-%20Wonderful%20Lif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E66-330C-4362-A70A-2D0435B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CD5-7A9F-48AE-A54E-B288E47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B7E-E4C7-456F-9B5F-CE4F6A18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595-DEC0-4BB6-829B-C34D4560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9EA-BF3B-408F-8210-74A19545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59A-8646-4964-AD84-1188A38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9BD-4A1B-4150-9B79-9CEF615B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DC6-FA8C-448F-A48E-45BE4FC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DB8-6278-4142-9DF4-052339C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C27-5A0E-4BB4-8596-B09D8E4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B8-E88C-4C84-B9FE-CC3B16EE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411-9572-4D54-9131-78AF245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6192-4BB7-4BD0-B0E4-F630524A16D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Lara%20Fabian%20-%20Wonderful%20Lif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-73080"/>
            <a:ext cx="10382400" cy="69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28720" y="66204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Wondervol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0000" y="60404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uziek: Lara Fa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08%20Lara%20Fabian%20-%20Wonderful%20Lif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27640" y="404640"/>
            <a:ext cx="29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Bedek de vleugels van een vogel met goud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hij zal nooit meer vlie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044720" y="0"/>
            <a:ext cx="10373040" cy="6918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443700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lke dag word je aangereik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een eeuwigheid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om gelukkig te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28360" cy="6929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62720" y="4888080"/>
            <a:ext cx="391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kleinigheid drijf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ensen uit elkaar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catastrofe brengt z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tot elk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268360" y="-1539720"/>
            <a:ext cx="13261680" cy="994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9720" y="189000"/>
            <a:ext cx="36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leven snelt voorbij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an wie in haast re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10742400" cy="8056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2960" y="42372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Stilte verlicht je levenspad,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door niet te spreken,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zie je duidelij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541440" y="-460440"/>
            <a:ext cx="10442520" cy="783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0840" y="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ansen kloppen vaak maar heel stilletj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an de deur, luister daarom g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4840" y="274680"/>
            <a:ext cx="819288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5040" y="476280"/>
            <a:ext cx="539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Het leven is een boeiende reis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met slechts 1 minpuntje, 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je kunt geen stukje terug rijden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om het uitzicht nog eens te bewond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64720" cy="739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07440" y="260280"/>
            <a:ext cx="301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eel erger dan j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geld verliez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je enthousiasm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erlie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404360" cy="6931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9240" y="4437000"/>
            <a:ext cx="412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Belangrijker dan hoeveel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je hebt om </a:t>
            </a: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Trebuchet MS"/>
              </a:rPr>
              <a:t>van</a:t>
            </a: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 te lev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hoeveel je hebt om </a:t>
            </a: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Trebuchet MS"/>
              </a:rPr>
              <a:t>voor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te l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68360" y="-819000"/>
            <a:ext cx="11322000" cy="8489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48360" y="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gevoel geen haast te heb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op zichzelf een vorm van lu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0728360" cy="704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7880" y="62064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huis je belangrijkste bezit vorm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het je gevange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549440" y="-892080"/>
            <a:ext cx="11185560" cy="838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189000"/>
            <a:ext cx="33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Je moet je hel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ooral met jezelf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oorbrengen, we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aarom prettig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gezelsch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936360" cy="745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" y="35100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denkt dat je alles in een volgend leven anders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ou doen, waarom dan niet nu met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1721960" cy="8791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5160" y="333360"/>
            <a:ext cx="801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uren rond een kerkhof zijn een nutteloze uitgave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ij die er binnen zijn kunnen er niet ui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zij die er buiten zijn, willen er niet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206360" y="-531720"/>
            <a:ext cx="10645560" cy="798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59120" y="765000"/>
            <a:ext cx="60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n welke situatie wij ons ook bevind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is altijd mogelijk deze met een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positieve houding te benad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116000" y="-114480"/>
            <a:ext cx="10785600" cy="703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91560" y="0"/>
            <a:ext cx="66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ingen zijn zoals jij ze zie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us kun je ze maar beter positief bek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10566360" cy="79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8200" y="189000"/>
            <a:ext cx="50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tevreden mens is nooit 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ontevreden mens echter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al nimmer rijk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494172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Gister is verleden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Morgen is een myst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Vandaag is een gesche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116000" y="-963720"/>
            <a:ext cx="12238200" cy="917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5800" y="351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332000" y="-819000"/>
            <a:ext cx="11017440" cy="826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4936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ie veel lach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rijgt later rimpels op de juiste pla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31688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7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Wanneer je je aan niets meer vastklamp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zul je in vrede l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33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We hebben een hekel aan sleur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maar zijn bang voor verander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57880" y="260280"/>
            <a:ext cx="45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e reden waarom en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unnen vlie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dat ze zo licht ove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e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960" y="26028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at met geweld moet worden vastgehoud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niet blijv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at van harte wordt vastgehouden, blijft best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765440" y="-892080"/>
            <a:ext cx="11574720" cy="8678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13280" y="1350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elfs wanneer je op het goed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spoor zit, word je overreden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er op blijft st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11004480" cy="825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86064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urf je probleem vrij te lat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het keert terug met een oplo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7:05:10Z</dcterms:created>
  <dc:creator>Sytske</dc:creator>
  <dc:description/>
  <dc:language>en-US</dc:language>
  <cp:lastModifiedBy>Jos van Lunenburg</cp:lastModifiedBy>
  <dcterms:modified xsi:type="dcterms:W3CDTF">2010-10-22T09:17:37Z</dcterms:modified>
  <cp:revision>42</cp:revision>
  <dc:subject/>
  <dc:title>een wondervol leven</dc:title>
</cp:coreProperties>
</file>