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ccord%C3%A9on%20Yvette%20Horner%20%20Moni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760-9B01-4A92-A092-A307BEBF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931-9E77-4EB4-9A77-07366172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D9E-A419-4CDF-AE64-4B6DBB2C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B7E-EAEF-45C5-953D-9E07589D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A36-E02B-4A93-BC36-0475B593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48E-9CF3-4306-BCE7-227404F1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BEC-BB59-4C0D-8FD5-C1893D16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03D-FAFF-44AA-B383-7C7F81AA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9F5-1A7B-43AC-A3B3-E246ECD7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F69-C6B9-4D11-B98B-0BB94C53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6E2D-15FB-4E3A-87E0-428CFA70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A78-A8BD-4A7C-BF83-F6A197E4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3BC1-781A-4679-B244-F4D1CB0ADBBD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ccord&#233;on%20Yvette%20Horner%20%20Moni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272360" cy="540072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0920" y="18900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628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fffff"/>
                </a:solidFill>
                <a:latin typeface="comic"/>
              </a:rPr>
              <a:t>Indien de wereld</a:t>
            </a:r>
            <a:r>
              <a:rPr b="1" lang="fr-CA" sz="96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fr-CA" sz="4800" spc="-1" strike="noStrike">
                <a:solidFill>
                  <a:srgbClr val="ffffff"/>
                </a:solidFill>
                <a:latin typeface="Harlow Solid Ital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5084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comic"/>
              </a:rPr>
              <a:t>Van mij was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  <p:sndAc>
      <p:stSnd>
        <p:snd r:embed="rId2" name="accord%C3%A9on%20Yvette%20Horner%20%20Moni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75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620640"/>
            <a:ext cx="73152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23736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6093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cc"/>
                </a:solidFill>
                <a:latin typeface="comic"/>
              </a:rPr>
              <a:t>Groetjes en een fijne dag toegew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685800"/>
            <a:ext cx="73152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63640" y="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comic"/>
              </a:rPr>
              <a:t>Ach  ja……………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609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"/>
              </a:rPr>
              <a:t>Indien ik de regels kon ver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417080" cy="511344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cc"/>
                </a:solidFill>
                <a:latin typeface="comic"/>
              </a:rPr>
              <a:t>Dan zouden er meer gelegenheden zijn om te ontspannen</a:t>
            </a:r>
            <a:r>
              <a:rPr b="1" lang="fr-CA" sz="36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59500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"/>
              </a:rPr>
              <a:t>En zich te vermaken met de geliefde scheps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985080" cy="51134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84360" y="3222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6600"/>
                </a:solidFill>
                <a:latin typeface="comic"/>
              </a:rPr>
              <a:t>Er zou meer gelach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6021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6600"/>
                </a:solidFill>
                <a:latin typeface="comic"/>
              </a:rPr>
              <a:t>En minder tijd om te  piekere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765000"/>
            <a:ext cx="73152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comic"/>
              </a:rPr>
              <a:t>Er zou meer tijd zijn 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62784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comic"/>
              </a:rPr>
              <a:t>De natuur en zijn schoonheden te bewondere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85080" cy="504036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9280" y="11592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comic"/>
              </a:rPr>
              <a:t>Indien de wereld van mij was zou ik 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6021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comic"/>
              </a:rPr>
              <a:t>Een heel pak magische momenten toezende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00"/>
            </a:gs>
            <a:gs pos="100000">
              <a:srgbClr val="17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840720" cy="504036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95280" y="1159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comic"/>
              </a:rPr>
              <a:t>Opdat je  zou kunnen  wegglijden in je dr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6021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comic"/>
              </a:rPr>
              <a:t>Op zoek naar de projecten die je dierbaar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75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2436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826920" y="18900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"/>
              </a:rPr>
              <a:t>Niet enkel vand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60102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"/>
              </a:rPr>
              <a:t>Maar elke dag van je l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685800"/>
            <a:ext cx="73152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comic"/>
              </a:rPr>
              <a:t>Deze boodschap breng ik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61657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comic"/>
              </a:rPr>
              <a:t>Aan u mijn vriend(in)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18:38:07Z</dcterms:created>
  <dc:creator/>
  <dc:description/>
  <dc:language>en-US</dc:language>
  <cp:lastModifiedBy>Nel</cp:lastModifiedBy>
  <dcterms:modified xsi:type="dcterms:W3CDTF">2007-09-22T19:25:04Z</dcterms:modified>
  <cp:revision>4</cp:revision>
  <dc:subject/>
  <dc:title>Diapositive 1</dc:title>
</cp:coreProperties>
</file>