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time_to_say_goodbye.wav" ContentType="audio/x-wav"/>
  <Override PartName="/ppt/media/image14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2BA-16EA-4219-B75E-BDAA2C22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2F8F-35C6-4290-B7B4-E408B0F4C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A53-8BCF-406A-9429-458718AE66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0787-70B9-4711-B8AD-E63F76B50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2381-074D-4E81-92CF-D6A8FAD894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4F88-BE4E-49E7-BC9B-E0523DB8E1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A04F-E9D6-4627-B10D-9D1548447D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E04B-FC6B-4109-95E9-4C220C66A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2DC-2953-4276-A11A-AA9125641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9311-5F95-42E0-BD63-A018F21C76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4761-7EED-40C4-99C4-959A23275D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5E1-95ED-4134-ABEE-E1F24AC168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AA96-F507-4441-813C-B38C056E75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80F7-65A6-4171-83E3-2E27663168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11F1-2433-492F-BE95-E6DD6DA820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450-F623-4307-9475-E9B7A96EDF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3E99-FA16-42DE-9686-BCFD0A8128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7E11-8B16-42F5-8B1B-4BAB87FB6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BB0F-3CE4-4840-95B1-2EAF28EE51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5996-2AC8-4E1D-AEC9-3EDA8AC48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2AA-2FD5-4D47-BEB0-665A4E3B0B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A3AD-A853-4BC1-83DD-ACC748C82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DB5D-A529-4078-B035-603C2D6E21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80E-D5E2-421F-AA76-177CC43380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7BBF-04CF-430C-99F5-BFBD5CB9FA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359-DCC2-4F9E-B269-624126F81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4D7B-E1A9-4B42-9EBA-6F2738EB03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742F-B59D-4A66-B1D6-0C1DEA7305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D7C-FCDF-433F-A4A1-E64106E06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1849-6B48-4060-8706-B902194F2C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042A-C81D-47FF-A101-58B078689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4A23-5FC4-497E-8E41-D050251BFA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D6A0-3572-4D0E-841B-880772DB02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2378-2B32-4EF1-817F-96490FFF1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E1D-FF52-4797-B50E-52541F7C1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88F6-E005-455F-99AD-F70EC164E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5DC-65C0-47DA-8F1F-062F9769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807-8F55-4784-8375-574FC4FF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885-DC5E-4978-9318-6AE9C438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925-3ABD-4DA0-9154-77FE061E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13F-58C9-4FCE-BB50-8D6821A1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90E-4B32-447F-806D-11B72C0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355-6BD2-4BDA-987D-B596CE92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883-D605-48CC-9C40-C8F4981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E84-566C-4EF5-A7D6-924DDBAE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7EF-F3E9-4516-A876-D6A2F13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D83-C5BB-4837-8539-15FF46FB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784-57BF-4091-A2C8-3CEEA1C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126-FA70-4B35-BF66-06467E9B508C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ime_to_say_goodby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Arial Rounded MT Bold"/>
              </a:rPr>
              <a:t>Zwitserland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067280" y="5589720"/>
            <a:ext cx="482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Rounded MT Bold"/>
              </a:rPr>
              <a:t>Muziek:</a:t>
            </a:r>
            <a:r>
              <a:rPr b="1" lang="es-ES" sz="2000" spc="-1" strike="noStrike">
                <a:solidFill>
                  <a:srgbClr val="dfd293"/>
                </a:solidFill>
                <a:latin typeface="Arial Rounded MT Bold"/>
              </a:rPr>
              <a:t> ‘</a:t>
            </a:r>
            <a:r>
              <a:rPr b="1" lang="fr-FR" sz="2000" spc="-1" strike="noStrike">
                <a:solidFill>
                  <a:srgbClr val="d3a219"/>
                </a:solidFill>
                <a:latin typeface="Arial Rounded MT Bold"/>
              </a:rPr>
              <a:t>Time to said goodbye’</a:t>
            </a:r>
            <a:br>
              <a:rPr sz="2000"/>
            </a:br>
            <a:r>
              <a:rPr b="1" lang="fr-FR" sz="2000" spc="-1" strike="noStrike">
                <a:solidFill>
                  <a:srgbClr val="d3a219"/>
                </a:solidFill>
                <a:latin typeface="Arial Rounded MT Bold"/>
              </a:rPr>
              <a:t>(Sarah Brightman y Andrea Bocell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  <p:sndAc>
      <p:stSnd>
        <p:snd r:embed="rId1" name="time_to_say_goodby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497544147ftsKrH_ph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95280" y="5805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We komen nooit verder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97544482GQboU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50920" y="5877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als we niet weten waar we heen gaa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97544751dOqTc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6048360" y="530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Je kunt leven zonder lief te hebb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97544763MWdzF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50920" y="573408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maar je kunt niet liefhebben zonder te geve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497545340eaxBI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211640" y="5805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99"/>
                </a:solidFill>
                <a:latin typeface="Comic Sans MS"/>
              </a:rPr>
              <a:t>Als het nooit zou regen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497546813SQqxp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084720" y="40464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99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99"/>
                </a:solidFill>
                <a:latin typeface="Comic Sans MS"/>
              </a:rPr>
              <a:t>zou je nooit de regenboog zie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497547396Umslth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771640" y="616572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33cc"/>
                </a:solidFill>
                <a:latin typeface="Comic Sans MS"/>
              </a:rPr>
              <a:t>Het is niet zo belangrijk wat je denk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97547623STxgu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6093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33cc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33cc"/>
                </a:solidFill>
                <a:latin typeface="Comic Sans MS"/>
              </a:rPr>
              <a:t>het is belangrijk wat je voelt</a:t>
            </a:r>
            <a:r>
              <a:rPr b="1" i="1" lang="nl-BE" sz="1800" spc="-1" strike="noStrike">
                <a:solidFill>
                  <a:srgbClr val="ff33cc"/>
                </a:solidFill>
                <a:latin typeface="Comic Sans MS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97548447WUOEWv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0920" y="623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800000"/>
                </a:solidFill>
                <a:latin typeface="Comic Sans MS"/>
              </a:rPr>
              <a:t>De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nl-BE" sz="2400" spc="-1" strike="noStrike">
                <a:solidFill>
                  <a:srgbClr val="800000"/>
                </a:solidFill>
                <a:latin typeface="Comic Sans MS"/>
              </a:rPr>
              <a:t>maat van de liefde </a:t>
            </a:r>
            <a:r>
              <a:rPr b="1" i="1" lang="nl-BE" sz="1800" spc="-1" strike="noStrike">
                <a:solidFill>
                  <a:srgbClr val="8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497550775dEReAk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356000" y="595008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is liefde zonder grenze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497540103HitsG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5280" y="5516640"/>
            <a:ext cx="352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Zodra er een begin is, volgt de rest vanz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497551063CxBIZx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39640" y="6093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Hou van mensen zoals ze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531527828kUkoy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95280" y="59500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ze zijn stuk voor stuk heel bijzo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531528068qzVpb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076720" y="623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Liefde is niet te koop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531531477PrmHn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79280" y="609300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maar wel het kostbaarste wat er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531906044ououu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492360" y="603576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Veel kennis is nog geen wijshei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61480730017316690odEpkx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076720" y="333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cc3300"/>
                </a:solidFill>
                <a:latin typeface="Comic Sans MS"/>
              </a:rPr>
              <a:t>En veel geld maakt nog niet altijd gelukki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089640520017316690EfeyO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Verstandig is het om overal de helft van te gelove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77080" y="486900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ijs ben je pas, als je weet welke hel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094261690017316690DfLNWv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0" y="616572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Luister</a:t>
            </a: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niet naar de herrie van de werel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252423350017316690WJlgcD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348000" y="6165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maar</a:t>
            </a: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naar de stilte van je zie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317039780017316690LKfXd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012000" y="6093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ees jezelf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497540350rhUGK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95280" y="47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ie de wijsheid zoekt, is wij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522072820017316690QGBKl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609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Er zijn al anderen genoeg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705615720017316690BUeLCV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79280" y="620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Met genoeg karakter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948360" y="414972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heb je geen behoefte aan overdrevenbez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827418270017316690dsuwGg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0" y="6165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Herinner je gistere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914995930017316690keYcpA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076720" y="609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droom van morg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2952029230017316690CNLjK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292720" y="5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maar leef vandaag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Een heel fijne dag verd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met de allerbeste groet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497540922yzrCgA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33336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cc3300"/>
                </a:solidFill>
                <a:latin typeface="Comic Sans MS"/>
              </a:rPr>
              <a:t>Wie zichzelf verbeeldt de wijsheid gevonden te hebben, </a:t>
            </a:r>
            <a:r>
              <a:rPr b="1" i="1" lang="nl-BE" sz="2400" spc="-1" strike="noStrike">
                <a:solidFill>
                  <a:srgbClr val="800000"/>
                </a:solidFill>
                <a:latin typeface="Comic Sans MS"/>
              </a:rPr>
              <a:t>is een dwaa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497540954mlFiWE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68360" y="59500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Als je denkt dat alles tegen zit…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497541171HoRcZq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84720" y="6093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denk dan nog eens opnieu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97541868SgJDZb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24000" y="692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ind je gerust eens op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497541910YpGPa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877080" y="623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maar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497543377MseuW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572000" y="609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loop wel op tijd af …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1:22:33Z</dcterms:created>
  <dc:creator>Unknown</dc:creator>
  <dc:description/>
  <dc:language>en-US</dc:language>
  <cp:lastModifiedBy>Werner</cp:lastModifiedBy>
  <dcterms:modified xsi:type="dcterms:W3CDTF">2008-07-16T10:06:35Z</dcterms:modified>
  <cp:revision>15</cp:revision>
  <dc:subject>Power Point Show</dc:subject>
  <dc:title>Switzerland</dc:title>
</cp:coreProperties>
</file>