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time_to_say_goodbye.wav" ContentType="audio/x-wav"/>
  <Override PartName="/ppt/media/image14.jpeg" ContentType="image/jpeg"/>
  <Override PartName="/ppt/media/image1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3EC7-5487-4232-9053-34574E95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6E0-CE15-4F0F-8E7F-8D0EBE3B5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6BC3-5B50-45E9-87B8-9A980FCC71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558A-BEF3-4777-B362-BE9B510F0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1FEA-DBB4-4066-A82D-74B850BB3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A0CC-A05A-4C22-BFA6-F45C79B2BE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64E3-17F1-4CC2-8B28-116CE10799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765F-B5C9-4716-BDF8-7A66982F1C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CB1C-0BAA-484C-A734-DCEE33D4D2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093C-8465-42AC-8014-F84F875813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E3C8-06D0-40D4-AD67-6CC80645C4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A55-5D8D-46C3-9684-ABFB93D633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0D29-4313-447C-AF4F-9E651C7BC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C36A-35F4-444B-B30B-08AB35D0D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CD0-0271-488B-BDBE-60601CE678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8F4F-1378-4A87-96F9-F211D014E3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832-D9B8-4396-B763-35743371ED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E517-C6AE-443A-B7C4-9DBDBF6E29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7C89-CF89-4B9E-86DB-A5C8864B25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52D4-83D6-45D8-986E-EF7497BF11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40C-7E7F-470D-A738-EE72EADB7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1EA9-73C9-4EA8-B49C-2B01F89D86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4039-C42C-459B-9364-B0FDEA52E7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15F6-7B9B-4B58-A12E-92ED6517B6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D6E3-A3F5-41E6-9056-FA79B232B4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C003-47CD-4052-8B7B-0AF9176BA3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7456-4575-4B18-8CEE-592DC14CB3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1920-7437-403D-A585-B3777EFAF4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D1F9-18DD-4A75-A1D1-FE66840A9E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6828-EDE8-4FFA-839E-8FB1A7C2CA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C969-616F-4267-BC60-4774B1612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EA2-E809-4034-BAB8-A3447DED93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C667-654C-4E19-AC9F-FED518876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2F0E-20E4-4AAC-BA27-30220F4035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34AF-4741-4B08-A67A-C4B901487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54A3-CEC1-424B-8A40-69DEC8E5E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63D-DFB7-4F61-AA87-C15F1DA6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CA0-D7E6-425B-B7EE-EFBADC77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978-498E-408F-9C89-43C6EADE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C75-7902-46D8-A3B4-D76C41D1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1DF-6EAB-4F5B-97FC-46242058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117-001C-4101-BB41-2D87AC41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8E-603D-4631-8DD6-AE79AC33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D93-CF98-4947-BAD9-765792EA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90C-D1D7-4277-8884-6A4A1BC4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7D2-5E48-4EB8-86DA-3C09D1FE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485-0FA1-4E32-984E-AB48F979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139-45CE-4B23-8089-643E07D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02A4-263C-4EA7-992D-AE79E679AEBB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ime_to_say_goodby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Arial Rounded MT Bold"/>
              </a:rPr>
              <a:t>Zwitserland</a:t>
            </a:r>
            <a:endParaRPr b="0" lang="en-US" sz="7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067280" y="5589720"/>
            <a:ext cx="4825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Rounded MT Bold"/>
              </a:rPr>
              <a:t>Muziek:</a:t>
            </a:r>
            <a:r>
              <a:rPr b="1" lang="es-ES" sz="2000" spc="-1" strike="noStrike">
                <a:solidFill>
                  <a:srgbClr val="dfd293"/>
                </a:solidFill>
                <a:latin typeface="Arial Rounded MT Bold"/>
              </a:rPr>
              <a:t> ‘</a:t>
            </a:r>
            <a:r>
              <a:rPr b="1" lang="fr-FR" sz="2000" spc="-1" strike="noStrike">
                <a:solidFill>
                  <a:srgbClr val="d3a219"/>
                </a:solidFill>
                <a:latin typeface="Arial Rounded MT Bold"/>
              </a:rPr>
              <a:t>Time to said goodbye’</a:t>
            </a:r>
            <a:br>
              <a:rPr sz="2000"/>
            </a:br>
            <a:r>
              <a:rPr b="1" lang="fr-FR" sz="2000" spc="-1" strike="noStrike">
                <a:solidFill>
                  <a:srgbClr val="d3a219"/>
                </a:solidFill>
                <a:latin typeface="Arial Rounded MT Bold"/>
              </a:rPr>
              <a:t>(Sarah Brightman y Andrea Bocell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  <p:sndAc>
      <p:stSnd>
        <p:snd r:embed="rId1" name="time_to_say_goodby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497544147ftsKrH_ph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95280" y="5805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We komen nooit verder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497544482GQboU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50920" y="5877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als we niet weten waar we heen gaa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497544751dOqTc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6048360" y="530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Je kunt leven zonder lief te hebb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497544763MWdzF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50920" y="5734080"/>
            <a:ext cx="45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maar je kunt niet liefhebben zonder te geve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497545340eaxBI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211640" y="5805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99"/>
                </a:solidFill>
                <a:latin typeface="Comic Sans MS"/>
              </a:rPr>
              <a:t>Als het nooit zou regen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497546813SQqxp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084720" y="40464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99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99"/>
                </a:solidFill>
                <a:latin typeface="Comic Sans MS"/>
              </a:rPr>
              <a:t>zou je nooit de regenboog zie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497547396Umslth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2771640" y="616572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33cc"/>
                </a:solidFill>
                <a:latin typeface="Comic Sans MS"/>
              </a:rPr>
              <a:t>Het is niet zo belangrijk wat je denkt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497547623STxguO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0" y="6093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33cc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33cc"/>
                </a:solidFill>
                <a:latin typeface="Comic Sans MS"/>
              </a:rPr>
              <a:t>het is belangrijk wat je voelt</a:t>
            </a:r>
            <a:r>
              <a:rPr b="1" i="1" lang="nl-BE" sz="1800" spc="-1" strike="noStrike">
                <a:solidFill>
                  <a:srgbClr val="ff33cc"/>
                </a:solidFill>
                <a:latin typeface="Comic Sans MS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97548447WUOEWv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0920" y="6237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800000"/>
                </a:solidFill>
                <a:latin typeface="Comic Sans MS"/>
              </a:rPr>
              <a:t>De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nl-BE" sz="2400" spc="-1" strike="noStrike">
                <a:solidFill>
                  <a:srgbClr val="800000"/>
                </a:solidFill>
                <a:latin typeface="Comic Sans MS"/>
              </a:rPr>
              <a:t>maat van de liefde </a:t>
            </a:r>
            <a:r>
              <a:rPr b="1" i="1" lang="nl-BE" sz="1800" spc="-1" strike="noStrike">
                <a:solidFill>
                  <a:srgbClr val="8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497550775dEReAk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356000" y="595008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is liefde zonder grenzen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497540103HitsGj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95280" y="5516640"/>
            <a:ext cx="352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Zodra er een begin is, volgt de rest vanze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497551063CxBIZx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39640" y="6093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Hou van mensen zoals ze zij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531527828kUkoy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395280" y="595008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ze zijn stuk voor stuk heel bijzo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531528068qzVpbr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076720" y="623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Liefde is niet te koop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531531477PrmHnm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179280" y="609300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maar wel het kostbaarste wat er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531906044ououuc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492360" y="603576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Veel kennis is nog geen wijshei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2061480730017316690odEpkx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076720" y="333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cc3300"/>
                </a:solidFill>
                <a:latin typeface="Comic Sans MS"/>
              </a:rPr>
              <a:t>En veel geld maakt nog niet altijd gelukki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089640520017316690EfeyOW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194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Verstandig is het om overal de helft van te gelove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77080" y="486900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ijs ben je pas, als je weet welke helf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2094261690017316690DfLNWv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0" y="616572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Luister</a:t>
            </a:r>
            <a:r>
              <a:rPr b="1" i="1" lang="nl-BE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niet naar de herrie van de werel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252423350017316690WJlgcD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348000" y="6165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maar</a:t>
            </a: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naar de stilte van je zie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317039780017316690LKfXdL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012000" y="6093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ees jezelf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497540350rhUGKN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95280" y="476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ie de wijsheid zoekt, is wij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522072820017316690QGBKl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6093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Er zijn al anderen genoeg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2705615720017316690BUeLCV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79280" y="6206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Met genoeg karakter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948360" y="4149720"/>
            <a:ext cx="18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heb je geen behoefte aan overdrevenbez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827418270017316690dsuwGg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0" y="6165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Herinner je gistere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914995930017316690keYcpA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076720" y="609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ff"/>
                </a:solidFill>
                <a:latin typeface="Comic Sans MS"/>
              </a:rPr>
              <a:t>droom van morgen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2952029230017316690CNLjKf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292720" y="5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maar leef vandaag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636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Een heel fijne dag verd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Handwriting"/>
              </a:rPr>
              <a:t>met de allerbeste groet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497540922yzrCgA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333360"/>
            <a:ext cx="35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cc3300"/>
                </a:solidFill>
                <a:latin typeface="Comic Sans MS"/>
              </a:rPr>
              <a:t>Wie zichzelf verbeeldt de wijsheid gevonden te hebben, </a:t>
            </a:r>
            <a:r>
              <a:rPr b="1" i="1" lang="nl-BE" sz="2400" spc="-1" strike="noStrike">
                <a:solidFill>
                  <a:srgbClr val="800000"/>
                </a:solidFill>
                <a:latin typeface="Comic Sans MS"/>
              </a:rPr>
              <a:t>is een dwaa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497540954mlFiWE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68360" y="59500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Als je denkt dat alles tegen zit…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497541171HoRcZq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84720" y="609300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denk dan nog eens opnieuw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497541868SgJDZb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24000" y="692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Wind je gerust eens op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497541910YpGPat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877080" y="623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maar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497543377MseuWz_p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572000" y="609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1" i="1" lang="nl-BE" sz="2400" spc="-1" strike="noStrike">
                <a:solidFill>
                  <a:srgbClr val="ffff00"/>
                </a:solidFill>
                <a:latin typeface="Comic Sans MS"/>
              </a:rPr>
              <a:t>loop wel op tijd af …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1:22:33Z</dcterms:created>
  <dc:creator>Unknown</dc:creator>
  <dc:description/>
  <dc:language>en-US</dc:language>
  <cp:lastModifiedBy>Werner</cp:lastModifiedBy>
  <dcterms:modified xsi:type="dcterms:W3CDTF">2008-07-16T10:06:35Z</dcterms:modified>
  <cp:revision>15</cp:revision>
  <dc:subject>Power Point Show</dc:subject>
  <dc:title>Switzerland</dc:title>
</cp:coreProperties>
</file>