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image3.gif" ContentType="image/gif"/>
  <Override PartName="/ppt/media/Track%20No04.wav" ContentType="audio/x-wav"/>
  <Override PartName="/ppt/media/image17.jpeg" ContentType="image/jpeg"/>
  <Override PartName="/ppt/media/image15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4.jpeg" ContentType="image/jpeg"/>
  <Override PartName="/ppt/media/image1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A43-F3C0-49C4-BF6B-6169333E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EDA-2431-43AD-B5AC-141FFFBD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F81-ED52-4D8E-804E-9EE2BE24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B23-E52D-4A85-9FAF-40F53572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AF6-A74B-43A4-890B-F83F567E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032-0944-478F-B339-5626B707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E45-3159-49CC-BE71-91ABE1EF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B4D-4CF1-4DA9-B9E0-461766D9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DE2-68D0-42C9-9452-66FA106D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FBF-1E8D-4C34-9FD0-95695AEA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1FE-715D-42B2-B0F0-3032A869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91A-7535-444C-9DB9-B91756A6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22B0-5356-40E7-9EEA-E82949748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audio" Target="../media/Track%20No04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80808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755640" y="5875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Black Chancery"/>
              </a:rPr>
              <a:t>Een echte (email)-vriend(in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Black Chancery"/>
              </a:rPr>
              <a:t>   </a:t>
            </a:r>
            <a:r>
              <a:rPr b="0" lang="fr-BE" sz="4000" spc="-1" strike="noStrike">
                <a:solidFill>
                  <a:srgbClr val="ffffff"/>
                </a:solidFill>
                <a:latin typeface="Black Chancery"/>
              </a:rPr>
              <a:t>ben je pas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969600">
            <a:off x="8027640" y="4653000"/>
            <a:ext cx="665280" cy="1328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9093200">
            <a:off x="7066080" y="4967280"/>
            <a:ext cx="628560" cy="115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948360" y="6021360"/>
            <a:ext cx="1771920" cy="428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308720" y="6093000"/>
            <a:ext cx="952560" cy="2854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  <p:sndAc>
      <p:stSnd>
        <p:snd r:embed="rId6" name="Track%20No0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4560" cy="6191280"/>
          </a:xfrm>
          <a:prstGeom prst="rect">
            <a:avLst/>
          </a:prstGeom>
          <a:ln w="27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95280" y="4653000"/>
            <a:ext cx="835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Black Chancery"/>
              </a:rPr>
              <a:t>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Als je ooit een vriend(in) ontmoet 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  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een zonnestraa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laat je dan bestralen zonder te dralen...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333333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95280" y="4925880"/>
            <a:ext cx="8507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Als je  kennis, kunde en vriendschap hebt verspre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        </a:t>
            </a: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maakte je jezelf bekend wijd en zij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    </a:t>
            </a: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maar vriendschap = bovenal jezelf geve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2720"/>
          </a:xfrm>
          <a:prstGeom prst="rect">
            <a:avLst/>
          </a:prstGeom>
          <a:ln w="279360">
            <a:solidFill>
              <a:srgbClr val="9933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73400" y="5013360"/>
            <a:ext cx="796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en... als er nooit een laatste einde i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is er altijd nog een nieuw begi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16840"/>
          </a:xfrm>
          <a:prstGeom prst="rect">
            <a:avLst/>
          </a:prstGeom>
          <a:ln w="279360">
            <a:solidFill>
              <a:srgbClr val="80808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39640" y="4581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Als je zo geen vriend hebt of herken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vertrouw dan op je wegwijz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en je zal hem of haar vinden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8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2627280" y="549360"/>
            <a:ext cx="590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Daarom: als het allerkleinste beet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     </a:t>
            </a: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koester ik onze vrien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             </a:t>
            </a: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maar, dat weet j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400" y="5141880"/>
            <a:ext cx="76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want zonder vriendschap om me h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    </a:t>
            </a: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voel ik mij eenzaam en allee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26028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Black Chancery"/>
              </a:rPr>
              <a:t>   </a:t>
            </a: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Bedankt voor je (internet)-vrien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       </a:t>
            </a: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je berichtjes en je mooie mailtj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         </a:t>
            </a: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Groetj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     </a:t>
            </a: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Stuur deze boodschap door aan al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         </a:t>
            </a: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email- of internetvriende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40360" y="3645000"/>
            <a:ext cx="2160720" cy="180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940360" y="3429000"/>
            <a:ext cx="2149560" cy="2057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940360" y="4292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Black Chancery"/>
              </a:rPr>
              <a:t> </a:t>
            </a:r>
            <a:r>
              <a:rPr b="1" lang="fr-BE" sz="1800" spc="-1" strike="noStrike">
                <a:solidFill>
                  <a:srgbClr val="ffffff"/>
                </a:solidFill>
                <a:latin typeface="Black Chancery"/>
              </a:rPr>
              <a:t>Speciaal voor jou.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940360" y="3357720"/>
            <a:ext cx="2149560" cy="213012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10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92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192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192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192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00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468360" y="530064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als je elke nieuwe dag telke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begint met een stralende glimlach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2720"/>
          </a:xfrm>
          <a:prstGeom prst="rect">
            <a:avLst/>
          </a:prstGeom>
          <a:ln w="2793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24000" y="5013360"/>
            <a:ext cx="8569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Black Chancery"/>
              </a:rPr>
              <a:t>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als je dan met een blij gezic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denkt aan al je PC-vrienden en je plicht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279360">
            <a:solidFill>
              <a:srgbClr val="003366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95280" y="53006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en als je zonder veel gepraa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je vrienden helpt met woord en daad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438280" y="281952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als je steeds naar het beste streef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weet da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dat je goed hebt geleefd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666699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50920" y="486900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Als je dan steeds al je vrienden  met een emailt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een berichtje, of een grap hebt verblij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heb je altijd vriendschap om je heen verspreid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0033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838080" y="1447920"/>
            <a:ext cx="75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Maar een echte vriend(in) ben je pa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als je iemand die zit te treur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met een schouderklopje of met 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e-mailtje weer weet op te beuren.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666699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250920" y="429264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ls je altijd bereid was 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te helpen waar je k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bracht je bij ve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vriendschap, warmte en een beetje zo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3366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755640" y="450864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Als je bovendi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steeds het goede voorbeeld hebt gege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had je een waardevol en goed leve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7:25:56Z</dcterms:created>
  <dc:creator> Papa Leone</dc:creator>
  <dc:description>Powerpointje by: info@papaleone.be                  (c) All Rights Reserved !!! </dc:description>
  <dc:language>en-US</dc:language>
  <cp:lastModifiedBy> Van den Bogerd</cp:lastModifiedBy>
  <dcterms:modified xsi:type="dcterms:W3CDTF">2008-09-13T07:43:31Z</dcterms:modified>
  <cp:revision>22</cp:revision>
  <dc:subject>Een echte vriend(in) ben je pas...</dc:subject>
  <dc:title>Een echte vriend(in) ben je pas...</dc:title>
</cp:coreProperties>
</file>