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eurige%20muziek%20Auswitch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5C6-A4D8-40F6-8A17-E889F470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95F-48AB-48DD-9624-A7B717CE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814-5414-45CA-89E2-3FC29081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370-B4C1-4019-8437-0AA029EB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01A-C485-489E-936B-84A6535B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16F-1F29-45F4-A82D-67E1E6F5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761E-0F9C-4D6D-9AE1-706B1093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54D-E028-4B8F-B4ED-3913EFB4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6CB-B8C7-4112-A3F7-EBB79FF1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2C3-BCE0-47BA-8414-2B153622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B2E8-156F-4CEF-8145-89AA48D9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BF9-9F8F-40B7-95A2-915760C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805-2780-48A3-9A27-51CBE4F6C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eurige%20muziek%20Auswitc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Bar dir="vert"/>
    <p:sndAc>
      <p:stSnd>
        <p:snd r:embed="rId2" name="Treurige%20muziek%20Auswitc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mpsmap" descr=""/>
          <p:cNvPicPr/>
          <p:nvPr/>
        </p:nvPicPr>
        <p:blipFill>
          <a:blip r:embed="rId1"/>
          <a:stretch/>
        </p:blipFill>
        <p:spPr>
          <a:xfrm>
            <a:off x="12600" y="46044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ctim%20map-800" descr=""/>
          <p:cNvPicPr/>
          <p:nvPr/>
        </p:nvPicPr>
        <p:blipFill>
          <a:blip r:embed="rId1"/>
          <a:stretch/>
        </p:blipFill>
        <p:spPr>
          <a:xfrm>
            <a:off x="901800" y="-76320"/>
            <a:ext cx="7175520" cy="701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Dia3"/>
          <p:cNvPicPr/>
          <p:nvPr/>
        </p:nvPicPr>
        <p:blipFill>
          <a:blip r:embed="rId2"/>
          <a:stretch/>
        </p:blipFill>
        <p:spPr>
          <a:xfrm>
            <a:off x="120600" y="0"/>
            <a:ext cx="9023400" cy="6767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ia2"/>
          <p:cNvPicPr/>
          <p:nvPr/>
        </p:nvPicPr>
        <p:blipFill>
          <a:blip r:embed="rId2"/>
          <a:stretch/>
        </p:blipFill>
        <p:spPr>
          <a:xfrm>
            <a:off x="0" y="92160"/>
            <a:ext cx="9021600" cy="6765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Pres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51:47Z</dcterms:created>
  <dc:creator/>
  <dc:description/>
  <dc:language>en-US</dc:language>
  <cp:lastModifiedBy>roda</cp:lastModifiedBy>
  <dcterms:modified xsi:type="dcterms:W3CDTF">2010-01-23T21:03:32Z</dcterms:modified>
  <cp:revision>11</cp:revision>
  <dc:subject/>
  <dc:title>Dia 1</dc:title>
</cp:coreProperties>
</file>