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eurige%20muziek%20Auswitch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B4E-3455-4D62-A9BC-D6A79B8C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0CD-429F-4ED3-8352-84CF71D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450-EBD6-4C8B-B5C8-34F2A722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D1F-86F4-478A-9185-755660BE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311-236E-4F95-ADC9-9F79B6EA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C6C-7309-466A-8D07-80D67B5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4F8-7B2C-4DA8-898B-13D00887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A46-F70D-4718-9397-0B88111B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194-5B6C-4393-9EB3-41F2FE3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8DB-A9CB-491C-89B0-171CC4FC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3CB-4F60-4FCB-9E6B-9675480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CC8-3252-48AE-800B-8F0CB22C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886-E881-4637-ADE3-0FAFE92AE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eurige%20muziek%20Auswitc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vert"/>
    <p:sndAc>
      <p:stSnd>
        <p:snd r:embed="rId2" name="Treurige%20muziek%20Auswitc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mpsmap" descr=""/>
          <p:cNvPicPr/>
          <p:nvPr/>
        </p:nvPicPr>
        <p:blipFill>
          <a:blip r:embed="rId1"/>
          <a:stretch/>
        </p:blipFill>
        <p:spPr>
          <a:xfrm>
            <a:off x="12600" y="46044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ctim%20map-800" descr=""/>
          <p:cNvPicPr/>
          <p:nvPr/>
        </p:nvPicPr>
        <p:blipFill>
          <a:blip r:embed="rId1"/>
          <a:stretch/>
        </p:blipFill>
        <p:spPr>
          <a:xfrm>
            <a:off x="901800" y="-76320"/>
            <a:ext cx="7175520" cy="701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Dia3"/>
          <p:cNvPicPr/>
          <p:nvPr/>
        </p:nvPicPr>
        <p:blipFill>
          <a:blip r:embed="rId2"/>
          <a:stretch/>
        </p:blipFill>
        <p:spPr>
          <a:xfrm>
            <a:off x="120600" y="0"/>
            <a:ext cx="90234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ia2"/>
          <p:cNvPicPr/>
          <p:nvPr/>
        </p:nvPicPr>
        <p:blipFill>
          <a:blip r:embed="rId2"/>
          <a:stretch/>
        </p:blipFill>
        <p:spPr>
          <a:xfrm>
            <a:off x="0" y="92160"/>
            <a:ext cx="9021600" cy="676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res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51:47Z</dcterms:created>
  <dc:creator/>
  <dc:description/>
  <dc:language>en-US</dc:language>
  <cp:lastModifiedBy>roda</cp:lastModifiedBy>
  <dcterms:modified xsi:type="dcterms:W3CDTF">2010-01-23T21:03:32Z</dcterms:modified>
  <cp:revision>11</cp:revision>
  <dc:subject/>
  <dc:title>Dia 1</dc:title>
</cp:coreProperties>
</file>