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Kl%C3%A4nge%20der%20Heimat%20-%20Stefan%20Mross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790-9F7A-4161-B122-3BB7C0B9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FF5-8493-4A00-B2F2-4ABE44D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A93-0F95-4CBA-A349-C8E5D7A1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F43-F7EB-4AD8-A86C-51590323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C59-91E7-45EC-A58A-B2610C8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43-4323-4EE1-8ECE-C4A6E26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847-70F3-4BD7-BA93-1B2846D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756-F529-48B5-A68F-46231BE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7DA-6057-4E90-B0B4-A9C40D04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942-375A-4991-A2EC-CDAFB66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FB4-FD2E-43CC-A4A0-F0A4F9C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5D3-E2A7-4CD4-B1E0-F8E1638D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4A9-BB5E-4A7B-B090-E55D1AAE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Kl&#228;nge%20der%20Heimat%20-%20Stefan%20Mros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kjohnson307/daniel_stowe&amp;page=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ovo's Garten 4 von Wo 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371600"/>
            <a:ext cx="7391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MA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           </a:t>
            </a: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TIJ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OM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6021360"/>
            <a:ext cx="2525760" cy="37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  <p:sndAc>
      <p:stSnd>
        <p:snd r:embed="rId3" name="Kl%C3%A4nge%20der%20Heimat%20-%20Stefan%20Mro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Teil des Japanischen Gartens von Ingolf Höl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86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positief te zijn ,                                                      het is een deel van langer l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5e"/>
            </a:gs>
            <a:gs pos="5000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990720"/>
            <a:ext cx="7543800" cy="44956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525780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nsel Mainau von AH H."/>
          <p:cNvPicPr/>
          <p:nvPr/>
        </p:nvPicPr>
        <p:blipFill>
          <a:blip r:embed="rId1"/>
          <a:stretch/>
        </p:blipFill>
        <p:spPr>
          <a:xfrm>
            <a:off x="990720" y="228600"/>
            <a:ext cx="7111800" cy="495288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33520" y="5715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er eens uit te zijn ,                                                      het is een zalig gev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590920"/>
            <a:ext cx="8610480" cy="3886200"/>
          </a:xfrm>
          <a:prstGeom prst="ellipse">
            <a:avLst/>
          </a:prstGeom>
          <a:solidFill>
            <a:srgbClr val="ffff99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029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9900"/>
                </a:solidFill>
                <a:latin typeface="Palatino Linotype"/>
              </a:rPr>
              <a:t>Maak tijd voor je gezin ,                                                                  het is de bron van grote rijk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die Ecke in der Ecke....... von Britt-Marie Künzler"/>
          <p:cNvPicPr/>
          <p:nvPr/>
        </p:nvPicPr>
        <p:blipFill>
          <a:blip r:embed="rId1"/>
          <a:stretch/>
        </p:blipFill>
        <p:spPr>
          <a:xfrm>
            <a:off x="533520" y="609480"/>
            <a:ext cx="8115120" cy="3951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 advTm="9000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2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Durch's Jahr 2006 - I von Marion Kl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5105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99"/>
                </a:solidFill>
                <a:latin typeface="Palatino Linotype"/>
              </a:rPr>
              <a:t>Maak tijd voor je medemens ,                                                               het geeft je ‘t gevoel van verbondenheid</a:t>
            </a:r>
            <a:r>
              <a:rPr b="1" i="1" lang="nl-BE" sz="3200" spc="-1" strike="noStrike">
                <a:solidFill>
                  <a:srgbClr val="cc33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"/>
            <a:ext cx="8076960" cy="5867280"/>
          </a:xfrm>
          <a:prstGeom prst="rect">
            <a:avLst/>
          </a:prstGeom>
          <a:noFill/>
          <a:ln w="317520">
            <a:solidFill>
              <a:srgbClr val="6699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Chinesische Gartenanlange von Silvia Mildenberger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85" name=""/>
          <p:cNvSpPr/>
          <p:nvPr/>
        </p:nvSpPr>
        <p:spPr>
          <a:xfrm rot="10800000">
            <a:off x="1447920" y="4723920"/>
            <a:ext cx="6324480" cy="167652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75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Palatino Linotype"/>
              </a:rPr>
              <a:t>Maak tijd om te vergeven ,                                                     het geeft je gemoedsrust en 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Botanischer Garten Augsburg von Andreas H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5334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99"/>
                </a:solidFill>
                <a:latin typeface="Palatino Linotype"/>
              </a:rPr>
              <a:t>Maak tijd om te danken ,                                                            het brengt je dichter bij elka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fauenvogel von Sir Walt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Pfauenvogel von Sir Wal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43640" y="59500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cc3300"/>
                </a:solidFill>
                <a:latin typeface="Britannic Bold"/>
              </a:rPr>
              <a:t>ei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066680"/>
            <a:ext cx="8305920" cy="54864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BigFountain1.jpg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5221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9640" y="53038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werken ,                                                                   het is de prijs die je voor je resultaten beta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ountain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04920"/>
            <a:ext cx="6705720" cy="5013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Fountain9.jpg"/>
          <p:cNvPicPr/>
          <p:nvPr/>
        </p:nvPicPr>
        <p:blipFill>
          <a:blip r:embed="rId3"/>
          <a:stretch/>
        </p:blipFill>
        <p:spPr>
          <a:xfrm>
            <a:off x="7885080" y="333360"/>
            <a:ext cx="914400" cy="6172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9" name="" descr="Fountain9.jpg"/>
          <p:cNvPicPr/>
          <p:nvPr/>
        </p:nvPicPr>
        <p:blipFill>
          <a:blip r:embed="rId4"/>
          <a:stretch/>
        </p:blipFill>
        <p:spPr>
          <a:xfrm>
            <a:off x="533520" y="5562720"/>
            <a:ext cx="7238880" cy="9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4365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Britannic Bold"/>
              </a:rPr>
              <a:t>Maak tijd om te denken ,                                                      het is de bron van je k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990720"/>
            <a:ext cx="7619760" cy="541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4100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spelen ,                                                    het is het geheim van je jeu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Der Löwe ist (nicht) los. von Angie Becker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49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 advTm="8000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981080"/>
            <a:ext cx="8229600" cy="4648320"/>
          </a:xfrm>
          <a:prstGeom prst="ellipse">
            <a:avLst/>
          </a:prstGeom>
          <a:solidFill>
            <a:srgbClr val="ccffcc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ich von Herbert van der Stok"/>
          <p:cNvPicPr/>
          <p:nvPr/>
        </p:nvPicPr>
        <p:blipFill>
          <a:blip r:embed="rId1"/>
          <a:stretch/>
        </p:blipFill>
        <p:spPr>
          <a:xfrm>
            <a:off x="533520" y="457200"/>
            <a:ext cx="6324480" cy="48070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14400" y="52578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lezen ,                                                        het is de basis van je k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Lake Landscape Reflect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4100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je vrienden te helpen en te verblijden , het is de bron van vreug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444600">
            <a:solidFill>
              <a:srgbClr val="9933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57913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beminnen ,                                                         het maakt je leven tot een ze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867280"/>
            <a:ext cx="1067040" cy="7621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5791320"/>
            <a:ext cx="1066680" cy="7617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Grüne Idylle von Michael Müller ( Frustbaer )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11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 advTm="8000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Romantisch von Melanie Schau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3341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dromen,                                                                    het tilt je op naar de ster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858"/>
            </a:gs>
            <a:gs pos="5000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onnen-Garten von Rosemarie Märtens"/>
          <p:cNvPicPr/>
          <p:nvPr/>
        </p:nvPicPr>
        <p:blipFill>
          <a:blip r:embed="rId1"/>
          <a:stretch/>
        </p:blipFill>
        <p:spPr>
          <a:xfrm>
            <a:off x="533520" y="228600"/>
            <a:ext cx="7978680" cy="56484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33520" y="5943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zingen ,                                                                      het is ‘t lied dat de harten lichter maa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53:53Z</dcterms:created>
  <dc:creator/>
  <dc:description>Cat</dc:description>
  <cp:keywords>Catharina.18-02-09</cp:keywords>
  <dc:language>en-US</dc:language>
  <cp:lastModifiedBy>H.Verburg</cp:lastModifiedBy>
  <dcterms:modified xsi:type="dcterms:W3CDTF">2009-02-18T19:10:19Z</dcterms:modified>
  <cp:revision>124</cp:revision>
  <dc:subject>Hans &amp; Nine</dc:subject>
  <dc:title>Maak tijd om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lpwstr>26 juni 2006</vt:lpwstr>
  </property>
  <property fmtid="{D5CDD505-2E9C-101B-9397-08002B2CF9AE}" pid="3" name="Editor">
    <vt:lpwstr>Paco</vt:lpwstr>
  </property>
</Properties>
</file>