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Kl%C3%A4nge%20der%20Heimat%20-%20Stefan%20Mross.wav" ContentType="audio/x-wav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398-1CCD-4563-987C-27EED43F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9D0-D941-40EE-8B83-CF2AE75D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68A-7CBF-4B07-9448-E805099C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235-4ABB-4EA5-A406-AA09E8DC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B3D-1897-4F1A-A1AE-C383B052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C24-A026-4BFF-A5AB-90AA9A86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099-CE78-46B3-A086-C6A15642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0A2-1B2D-431C-BBA0-BC2535F1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5A2-FD50-4A36-B79C-C441207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E2B-AE7B-4985-88F0-02185BA2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A4E-DCDD-4327-98C9-DCA26DC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92F-FD01-49A9-A8A5-42D218A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2CC2-0B81-4235-B917-3D6A46589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Kl&#228;nge%20der%20Heimat%20-%20Stefan%20Mros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ase.com/kjohnson307/daniel_stowe&amp;page=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ovo's Garten 4 von Wo V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371600"/>
            <a:ext cx="7391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MA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           </a:t>
            </a: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TIJ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5400" spc="-1" strike="noStrike">
                <a:solidFill>
                  <a:srgbClr val="ffffff"/>
                </a:solidFill>
                <a:latin typeface="Palatino Linotype"/>
              </a:rPr>
              <a:t>OM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6021360"/>
            <a:ext cx="2525760" cy="37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  <p:sndAc>
      <p:stSnd>
        <p:snd r:embed="rId3" name="Kl%C3%A4nge%20der%20Heimat%20-%20Stefan%20Mros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Teil des Japanischen Gartens von Ingolf Hölze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5486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positief te zijn ,                                                      het is een deel van langer le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5e"/>
            </a:gs>
            <a:gs pos="5000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990720"/>
            <a:ext cx="7543800" cy="44956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525780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Insel Mainau von AH H."/>
          <p:cNvPicPr/>
          <p:nvPr/>
        </p:nvPicPr>
        <p:blipFill>
          <a:blip r:embed="rId1"/>
          <a:stretch/>
        </p:blipFill>
        <p:spPr>
          <a:xfrm>
            <a:off x="990720" y="228600"/>
            <a:ext cx="7111800" cy="4952880"/>
          </a:xfrm>
          <a:prstGeom prst="rect">
            <a:avLst/>
          </a:prstGeom>
          <a:ln w="57240">
            <a:solidFill>
              <a:srgbClr val="993366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533520" y="57150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er eens uit te zijn ,                                                      het is een zalig gev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590920"/>
            <a:ext cx="8610480" cy="3886200"/>
          </a:xfrm>
          <a:prstGeom prst="ellipse">
            <a:avLst/>
          </a:prstGeom>
          <a:solidFill>
            <a:srgbClr val="ffff99">
              <a:alpha val="50000"/>
            </a:srgbClr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502920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009900"/>
                </a:solidFill>
                <a:latin typeface="Palatino Linotype"/>
              </a:rPr>
              <a:t>Maak tijd voor je gezin ,                                                                  het is de bron van grote rijkd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die Ecke in der Ecke....... von Britt-Marie Künzler"/>
          <p:cNvPicPr/>
          <p:nvPr/>
        </p:nvPicPr>
        <p:blipFill>
          <a:blip r:embed="rId1"/>
          <a:stretch/>
        </p:blipFill>
        <p:spPr>
          <a:xfrm>
            <a:off x="533520" y="609480"/>
            <a:ext cx="8115120" cy="395136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 advTm="9000">
    <p:blinds dir="horz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2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Durch's Jahr 2006 - I von Marion Klin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51055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99"/>
                </a:solidFill>
                <a:latin typeface="Palatino Linotype"/>
              </a:rPr>
              <a:t>Maak tijd voor je medemens ,                                                               het geeft je ‘t gevoel van verbondenheid</a:t>
            </a:r>
            <a:r>
              <a:rPr b="1" i="1" lang="nl-BE" sz="3200" spc="-1" strike="noStrike">
                <a:solidFill>
                  <a:srgbClr val="cc3300"/>
                </a:solidFill>
                <a:latin typeface="Palatino Linotyp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04920"/>
            <a:ext cx="8382240" cy="61722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"/>
            <a:ext cx="8076960" cy="5867280"/>
          </a:xfrm>
          <a:prstGeom prst="rect">
            <a:avLst/>
          </a:prstGeom>
          <a:noFill/>
          <a:ln w="317520">
            <a:solidFill>
              <a:srgbClr val="6699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Chinesische Gartenanlange von Silvia Mildenberger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sp>
        <p:nvSpPr>
          <p:cNvPr id="85" name=""/>
          <p:cNvSpPr/>
          <p:nvPr/>
        </p:nvSpPr>
        <p:spPr>
          <a:xfrm rot="10800000">
            <a:off x="1447920" y="4723920"/>
            <a:ext cx="6324480" cy="1676520"/>
          </a:xfrm>
          <a:custGeom>
            <a:avLst/>
            <a:gdLst>
              <a:gd name="textAreaLeft" fmla="*/ 1443600 w 6324480"/>
              <a:gd name="textAreaRight" fmla="*/ 4880880 w 63244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75000"/>
            </a:srgbClr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ffff99"/>
                </a:solidFill>
                <a:latin typeface="Palatino Linotype"/>
              </a:rPr>
              <a:t>Maak tijd om te vergeven ,                                                     het geeft je gemoedsrust en vre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2f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Botanischer Garten Augsburg von Andreas H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5334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99"/>
                </a:solidFill>
                <a:latin typeface="Palatino Linotype"/>
              </a:rPr>
              <a:t>Maak tijd om te danken ,                                                            het brengt je dichter bij elka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2000">
    <p:blinds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Pfauenvogel von Sir Walt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Pfauenvogel von Sir Wal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43640" y="59500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cc3300"/>
                </a:solidFill>
                <a:latin typeface="Britannic Bold"/>
              </a:rPr>
              <a:t>ein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46"/>
            </a:gs>
            <a:gs pos="50000">
              <a:srgbClr val="ffcc99"/>
            </a:gs>
            <a:gs pos="100000">
              <a:srgbClr val="75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066680"/>
            <a:ext cx="8305920" cy="54864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BigFountain1.jpg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52214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39640" y="530388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werken ,                                                                   het is de prijs die je voor je resultaten beta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Fountain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04920"/>
            <a:ext cx="6705720" cy="5013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" descr="Fountain9.jpg"/>
          <p:cNvPicPr/>
          <p:nvPr/>
        </p:nvPicPr>
        <p:blipFill>
          <a:blip r:embed="rId3"/>
          <a:stretch/>
        </p:blipFill>
        <p:spPr>
          <a:xfrm>
            <a:off x="7885080" y="333360"/>
            <a:ext cx="914400" cy="6172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9" name="" descr="Fountain9.jpg"/>
          <p:cNvPicPr/>
          <p:nvPr/>
        </p:nvPicPr>
        <p:blipFill>
          <a:blip r:embed="rId4"/>
          <a:stretch/>
        </p:blipFill>
        <p:spPr>
          <a:xfrm>
            <a:off x="533520" y="5562720"/>
            <a:ext cx="7238880" cy="9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0" y="4365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Britannic Bold"/>
              </a:rPr>
              <a:t>Maak tijd om te denken ,                                                      het is de bron van je kr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46"/>
            </a:gs>
            <a:gs pos="50000">
              <a:srgbClr val="ff9999"/>
            </a:gs>
            <a:gs pos="100000">
              <a:srgbClr val="7546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990720"/>
            <a:ext cx="7619760" cy="541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4100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spelen ,                                                    het is het geheim van je jeu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Der Löwe ist (nicht) los. von Angie Becker"/>
          <p:cNvPicPr/>
          <p:nvPr/>
        </p:nvPicPr>
        <p:blipFill>
          <a:blip r:embed="rId1"/>
          <a:stretch/>
        </p:blipFill>
        <p:spPr>
          <a:xfrm>
            <a:off x="457200" y="457200"/>
            <a:ext cx="7391520" cy="4933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 advTm="8000"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755e"/>
            </a:gs>
            <a:gs pos="50000">
              <a:srgbClr val="ccffcc"/>
            </a:gs>
            <a:gs pos="100000">
              <a:srgbClr val="5e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981080"/>
            <a:ext cx="8229600" cy="4648320"/>
          </a:xfrm>
          <a:prstGeom prst="ellipse">
            <a:avLst/>
          </a:prstGeom>
          <a:solidFill>
            <a:srgbClr val="ccffcc">
              <a:alpha val="50000"/>
            </a:srgbClr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eich von Herbert van der Stok"/>
          <p:cNvPicPr/>
          <p:nvPr/>
        </p:nvPicPr>
        <p:blipFill>
          <a:blip r:embed="rId1"/>
          <a:stretch/>
        </p:blipFill>
        <p:spPr>
          <a:xfrm>
            <a:off x="533520" y="457200"/>
            <a:ext cx="6324480" cy="4807080"/>
          </a:xfrm>
          <a:prstGeom prst="rect">
            <a:avLst/>
          </a:prstGeom>
          <a:ln w="57240">
            <a:solidFill>
              <a:srgbClr val="00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14400" y="52578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lezen ,                                                        het is de basis van je ken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Lake Landscape Reflecti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4100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je vrienden te helpen en te verblijden , het is de bron van vreug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444600">
            <a:solidFill>
              <a:srgbClr val="993366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57913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beminnen ,                                                         het maakt je leven tot een ze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867280"/>
            <a:ext cx="1067040" cy="7621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5791320"/>
            <a:ext cx="1066680" cy="7617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Grüne Idylle von Michael Müller ( Frustbaer )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11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med" advTm="8000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5e75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Romantisch von Melanie Schau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3341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dromen,                                                                    het tilt je op naar de ster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blinds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5858"/>
            </a:gs>
            <a:gs pos="50000">
              <a:srgbClr val="c0c0c0"/>
            </a:gs>
            <a:gs pos="100000">
              <a:srgbClr val="5858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Sonnen-Garten von Rosemarie Märtens"/>
          <p:cNvPicPr/>
          <p:nvPr/>
        </p:nvPicPr>
        <p:blipFill>
          <a:blip r:embed="rId1"/>
          <a:stretch/>
        </p:blipFill>
        <p:spPr>
          <a:xfrm>
            <a:off x="533520" y="228600"/>
            <a:ext cx="7978680" cy="564840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33520" y="594360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200" spc="-1" strike="noStrike">
                <a:solidFill>
                  <a:srgbClr val="ffffff"/>
                </a:solidFill>
                <a:latin typeface="Palatino Linotype"/>
              </a:rPr>
              <a:t>Maak tijd om te zingen ,                                                                      het is ‘t lied dat de harten lichter maa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3000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06:53:53Z</dcterms:created>
  <dc:creator/>
  <dc:description>Cat</dc:description>
  <cp:keywords>Catharina.18-02-09</cp:keywords>
  <dc:language>en-US</dc:language>
  <cp:lastModifiedBy>H.Verburg</cp:lastModifiedBy>
  <dcterms:modified xsi:type="dcterms:W3CDTF">2009-02-18T19:10:19Z</dcterms:modified>
  <cp:revision>124</cp:revision>
  <dc:subject>Hans &amp; Nine</dc:subject>
  <dc:title>Maak tijd om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lpwstr>26 juni 2006</vt:lpwstr>
  </property>
  <property fmtid="{D5CDD505-2E9C-101B-9397-08002B2CF9AE}" pid="3" name="Editor">
    <vt:lpwstr>Paco</vt:lpwstr>
  </property>
</Properties>
</file>