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Floyd%20Cramer%20-%20Unchained%20Melody.wav" ContentType="audio/x-wav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32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049-8431-4F10-8C10-2C351DEA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35E-9390-416B-99CB-ADEE3578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009-AE5D-43A9-A9F3-BD00A740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4F1-6448-47E9-A2EE-E94626D9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B6B-3E5E-4E2E-8B4A-23204DDE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9C2-AB03-4542-B3C0-651CE0F9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C5F-10F6-4791-8EA6-913E01A5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CB6-44DE-496D-BCA4-91838B6A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502-799B-4F9B-BCE7-EAAD065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C4B-0ABC-4004-A704-6CECA24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CA4-A0F3-48DB-B88B-C6A5B06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869-26D5-4F5C-95E4-60E4E06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C1F-73D5-4715-A750-B1F0509D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file:///tmp/home/.config/libreoffice/4/user/gallery/merel.wav" TargetMode="External"/><Relationship Id="rId5" Type="http://schemas.microsoft.com/office/2007/relationships/media" Target="file:///tmp/home/.config/libreoffice/4/user/gallery/merel.wav" TargetMode="External"/><Relationship Id="rId6" Type="http://schemas.openxmlformats.org/officeDocument/2006/relationships/image" Target="../media/image4.png"/><Relationship Id="rId7" Type="http://schemas.openxmlformats.org/officeDocument/2006/relationships/audio" Target="file:///tmp/home/.config/libreoffice/4/user/gallery/zanglijster.wav" TargetMode="External"/><Relationship Id="rId8" Type="http://schemas.microsoft.com/office/2007/relationships/media" Target="file:///tmp/home/.config/libreoffice/4/user/gallery/zanglijster.wav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Floyd%20Cramer%20-%20Unchained%20Melo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352728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308400">
            <a:off x="5292360" y="3068280"/>
            <a:ext cx="2743200" cy="289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79560" y="1125360"/>
            <a:ext cx="718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iverse vogels</a:t>
            </a:r>
            <a:endParaRPr b="0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16720" y="623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cec8e"/>
                </a:solidFill>
                <a:uFillTx/>
                <a:latin typeface="Times New Roman"/>
              </a:rPr>
              <a:t>Niet kli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98920" y="227664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 spreu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88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387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42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609300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Begin de dag met anderen, en jezelf te ver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>
            <a:lum bright="6000"/>
          </a:blip>
          <a:srcRect l="4643" t="6047" r="4643" b="15668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093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Wijsheid is de beloning voor een leven lang luis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>
            <a:lum bright="6000"/>
          </a:blip>
          <a:srcRect l="5805" t="2740" r="3344" b="463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60357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Ik laat me niet opjagen,                                                                       ik ben aan het werk, niet op de vlu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>
            <a:lum bright="6000"/>
          </a:blip>
          <a:srcRect l="0" t="0" r="4882" b="10687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60357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Het zijn de dingen die we denken te weten,                                      die ons er juist van weerhouden dingen te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>
            <a:lum bright="6000"/>
          </a:blip>
          <a:srcRect l="454" t="644" r="454" b="644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2560" y="6165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Wie een vriend zoekt zonder fouten, blijft zonder vri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602136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Eergevoel is als een rivier,                                                                   ze mag zwellen maar niet buiten haar oevers 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Het beste dat we elkaar kunnen geven, is onze liefde,             niet ons advies en zeker niet ons oord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>
            <a:lum bright="6000"/>
          </a:blip>
          <a:srcRect l="787" t="1049" r="787" b="1049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63640" y="60357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Een beetje liefde kan als een druppel water zijn,                            die een bloem de kracht geeft zich weer op te r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>
            <a:lum bright="6000"/>
          </a:blip>
          <a:srcRect l="0" t="0" r="4543" b="65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60357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Vergeten en lachen is verreweg beter dan,                                 herinneren en treurig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920" y="60213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Haast dient meestal om minuten te sparen,                                        nadat uren verloren zijn geg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900000" y="890640"/>
            <a:ext cx="7344000" cy="50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1928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cec8e"/>
                </a:solidFill>
                <a:latin typeface="Times New Roman"/>
              </a:rPr>
              <a:t>Muziek; Floyd Cramer - Unchained mel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  <p:sndAc>
      <p:stSnd>
        <p:snd r:embed="rId3" name="Floyd%20Cramer%20-%20Unchained%20Melo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bright="6000"/>
          </a:blip>
          <a:srcRect l="3040" t="2726" r="3040" b="8177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609300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Als er rust is in jezelf, is er ruimte voor een 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6560" y="609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Het allerbelangrijkste mensenrecht, is het recht om te dr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40000" y="6093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Doe niet geleerd, wees wij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6000"/>
          </a:blip>
          <a:srcRect l="2056" t="1429" r="2007" b="4286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60213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Reik naar de zon, wanneer je die mist,                                         beland je altijd nog tussen ste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>
            <a:lum bright="6000"/>
          </a:blip>
          <a:srcRect l="1389" t="2172" r="1389" b="36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6560" y="60357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Blijf niet hangen in het verleden, droom niet van de toekomst, maar concentreer je geest op het huidig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lum bright="6000"/>
          </a:blip>
          <a:srcRect l="1960" t="2858" r="2941" b="7144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602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De grootste veranderingen gebeuren,                                                    als je stopt te geloven dat je zou moeten ver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>
            <a:lum bright="6000"/>
          </a:blip>
          <a:srcRect l="1389" t="2172" r="1389" b="36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90560" y="60357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Veel wat aanvankelijk alleen in verbeelding bestaat,               wordt werkelijk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>
            <a:lum bright="6000"/>
          </a:blip>
          <a:srcRect l="984" t="1447" r="984" b="3617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7280" y="603576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Wat wij in het leven het meest nodig hebben,                                             is iemand die ons er toe brengt te doe waartoe wij in staat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>
            <a:lum bright="6000"/>
          </a:blip>
          <a:srcRect l="992" t="1448" r="992" b="36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6021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Het leven moet met liefde en humor worden geleefd:                        liefde om het te begrijpen en humor om het te d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90560" y="60357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Iets niet weten is gewoonlijk een stadium                                         op weg naar nieuw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676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2560" y="602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Een vijand neemt meer plaats in ons hoofd in,                                                                  dan een vriend in ons 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7632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>
            <a:lum bright="6000"/>
          </a:blip>
          <a:srcRect l="587" t="840" r="587" b="5039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9280" y="60357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Opvoeding is kwestie van liefde, geduld en wijsheid,                       de laatste twee groeien waar de eerste hee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36000" y="4941720"/>
            <a:ext cx="1042920" cy="10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6920" y="60213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Afscheid nemen is het moeilijkste in het leven,                                  je leert het eigenlijk noo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7640" y="61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Je bent gelukkig door wat je voelt, en niet door wat je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>
            <a:lum bright="6000"/>
          </a:blip>
          <a:srcRect l="2019" t="0" r="0" b="463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6165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De zon droogt zonder voorkeur het hemd van arm en 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6364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De goedkoopste facelift is een l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>
            <a:lum bright="6000"/>
          </a:blip>
          <a:srcRect l="968" t="1413" r="968" b="3533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59500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Wanneer een probleem je pad kruist,                                             verander dan je richting maar niet je be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6000"/>
          </a:blip>
          <a:srcRect l="9744" t="12225" r="0" b="1535"/>
          <a:stretch/>
        </p:blipFill>
        <p:spPr>
          <a:xfrm>
            <a:off x="900000" y="907920"/>
            <a:ext cx="7356600" cy="5067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71640" y="609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Als de leerling bereid is, dient de leermeester zich 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60357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Alles wat ons ergert aan andere,                                                     kan ons ertoe brengen onszelf beter te be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0:13:00Z</dcterms:created>
  <dc:creator>John van Zantvliet</dc:creator>
  <dc:description/>
  <dc:language>en-US</dc:language>
  <cp:lastModifiedBy>John van Zantvliet</cp:lastModifiedBy>
  <dcterms:modified xsi:type="dcterms:W3CDTF">2008-02-24T17:12:18Z</dcterms:modified>
  <cp:revision>11</cp:revision>
  <dc:subject/>
  <dc:title>Dia 1</dc:title>
</cp:coreProperties>
</file>