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4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10.gif" ContentType="image/gif"/>
  <Override PartName="/ppt/media/image24.jpeg" ContentType="image/jpeg"/>
  <Override PartName="/ppt/media/image30.png" ContentType="image/png"/>
  <Override PartName="/ppt/media/image3.jpeg" ContentType="image/jpeg"/>
  <Override PartName="/ppt/media/image11.jpeg" ContentType="image/jpeg"/>
  <Override PartName="/ppt/media/lionelrichietenderheart.wav" ContentType="audio/x-wav"/>
  <Override PartName="/ppt/media/image2.png" ContentType="image/png"/>
  <Override PartName="/ppt/media/image25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14.gif" ContentType="image/gif"/>
  <Override PartName="/ppt/media/image15.gif" ContentType="image/gif"/>
  <Override PartName="/ppt/media/image28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A52-D916-4B88-82C4-575ECDB7B0F9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42A-3815-410C-8855-9DC15E16944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574-70DA-45DF-9CC7-6BB2A8DEECB9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6AA-A8E3-4AE0-8F72-532F2C0B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F82-3238-4DE1-B533-065FE6A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21D-2690-4592-99CA-7E4CF40B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0E3-7BE3-4318-8CCC-9C8F067C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3C5-8C6A-4E6A-8C43-7E980042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9ED-A9DC-49F1-B2D9-033A9DD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654-F016-44AC-A497-B95C5964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7EE-4314-42A7-93E6-24BACC7F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24F-1F4F-4463-AB57-6845E876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894-6233-4891-B16B-E12DD53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312-54E0-46B0-9EEE-FAB6C09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F9C-D9E3-45F5-94A7-39C137B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07D-EDF8-4096-A698-68A29762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lionelrichietenderhea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50000">
              <a:srgbClr val="009800"/>
            </a:gs>
            <a:gs pos="100000">
              <a:srgbClr val="004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ACD-1091-4B7A-A6B3-1D33E5CC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3d_131"/>
          <p:cNvPicPr/>
          <p:nvPr/>
        </p:nvPicPr>
        <p:blipFill>
          <a:blip r:embed="rId1"/>
          <a:stretch/>
        </p:blipFill>
        <p:spPr>
          <a:xfrm>
            <a:off x="714240" y="357120"/>
            <a:ext cx="7488360" cy="56199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52" name="WordArt 7"/>
          <p:cNvSpPr txBox="1"/>
          <p:nvPr/>
        </p:nvSpPr>
        <p:spPr>
          <a:xfrm>
            <a:off x="-324000" y="-357120"/>
            <a:ext cx="7991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Ronn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Presente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92360" y="2286000"/>
            <a:ext cx="6048360" cy="33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Sprek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en Gezegde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934920" y="5229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ccff66"/>
                </a:solidFill>
                <a:latin typeface="Arial"/>
              </a:rPr>
              <a:t>Wanneer een rijke valt zegt men: het was een ongev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ccff66"/>
                </a:solidFill>
                <a:latin typeface="Arial"/>
              </a:rPr>
              <a:t>valt een arme dan beweert men:  hij is weer dronken…</a:t>
            </a:r>
            <a:r>
              <a:rPr b="0" i="1" lang="en-SG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68360" y="4221000"/>
            <a:ext cx="64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lionelrichietenderheart.wav" descr=""/>
          <p:cNvPicPr/>
          <p:nvPr/>
        </p:nvPicPr>
        <p:blipFill>
          <a:blip r:embed="rId2"/>
          <a:stretch/>
        </p:blipFill>
        <p:spPr>
          <a:xfrm>
            <a:off x="7215120" y="785880"/>
            <a:ext cx="357120" cy="500040"/>
          </a:xfrm>
          <a:prstGeom prst="rect">
            <a:avLst/>
          </a:prstGeom>
          <a:ln w="0">
            <a:noFill/>
          </a:ln>
        </p:spPr>
      </p:pic>
      <p:sp>
        <p:nvSpPr>
          <p:cNvPr id="57" name="Tekstvak 11"/>
          <p:cNvSpPr/>
          <p:nvPr/>
        </p:nvSpPr>
        <p:spPr>
          <a:xfrm>
            <a:off x="642960" y="6215040"/>
            <a:ext cx="2857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olgende dia  muiskl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  <p:sndAc>
      <p:stSnd>
        <p:snd r:embed="rId3" name="lionelrichietenderhea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B712-4EBA-4A58-BADC-AAC8FB55C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isc08"/>
          <p:cNvPicPr/>
          <p:nvPr/>
        </p:nvPicPr>
        <p:blipFill>
          <a:blip r:embed="rId1"/>
          <a:stretch/>
        </p:blipFill>
        <p:spPr>
          <a:xfrm>
            <a:off x="1266840" y="770040"/>
            <a:ext cx="6905520" cy="5180040"/>
          </a:xfrm>
          <a:prstGeom prst="rect">
            <a:avLst/>
          </a:prstGeom>
          <a:ln w="76320">
            <a:solidFill>
              <a:srgbClr val="4d658f"/>
            </a:solidFill>
            <a:miter/>
          </a:ln>
        </p:spPr>
      </p:pic>
      <p:sp>
        <p:nvSpPr>
          <p:cNvPr id="133" name="AutoShape 5"/>
          <p:cNvSpPr/>
          <p:nvPr/>
        </p:nvSpPr>
        <p:spPr>
          <a:xfrm>
            <a:off x="216000" y="360360"/>
            <a:ext cx="684000" cy="630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388360" y="504720"/>
            <a:ext cx="684360" cy="630900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258920" y="71280"/>
            <a:ext cx="6842160" cy="619200"/>
          </a:xfrm>
          <a:prstGeom prst="irregularSeal1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1357200" y="6238800"/>
            <a:ext cx="6842160" cy="619200"/>
          </a:xfrm>
          <a:prstGeom prst="irregularSeal1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79520" y="836640"/>
            <a:ext cx="6384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Jeugd is een voorsch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            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Ouderdom is de afrek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4BD7-FE43-4F7A-A03A-74E9A951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56_1111980305"/>
          <p:cNvPicPr/>
          <p:nvPr/>
        </p:nvPicPr>
        <p:blipFill>
          <a:blip r:embed="rId1"/>
          <a:stretch/>
        </p:blipFill>
        <p:spPr>
          <a:xfrm>
            <a:off x="1835280" y="1042920"/>
            <a:ext cx="6049800" cy="45468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466560" y="3357720"/>
            <a:ext cx="1368720" cy="2735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 rot="10800000">
            <a:off x="539640" y="404280"/>
            <a:ext cx="1224000" cy="2762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7451640" y="3473280"/>
            <a:ext cx="1152720" cy="2692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 rot="10800000">
            <a:off x="7453080" y="475920"/>
            <a:ext cx="1150920" cy="27334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1835280" y="262080"/>
            <a:ext cx="5256000" cy="718920"/>
          </a:xfrm>
          <a:custGeom>
            <a:avLst/>
            <a:gdLst>
              <a:gd name="textAreaLeft" fmla="*/ 2165760 w 5256000"/>
              <a:gd name="textAreaRight" fmla="*/ 3090240 w 525600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000160" y="5643720"/>
            <a:ext cx="5256360" cy="718920"/>
          </a:xfrm>
          <a:custGeom>
            <a:avLst/>
            <a:gdLst>
              <a:gd name="textAreaLeft" fmla="*/ 2165760 w 5256360"/>
              <a:gd name="textAreaRight" fmla="*/ 3090600 w 525636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24000" y="260280"/>
            <a:ext cx="8569080" cy="6264360"/>
          </a:xfrm>
          <a:prstGeom prst="rect">
            <a:avLst/>
          </a:prstGeom>
          <a:noFill/>
          <a:ln w="76320">
            <a:solidFill>
              <a:srgbClr val="f73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440000" y="404640"/>
            <a:ext cx="6264000" cy="2016360"/>
          </a:xfrm>
          <a:custGeom>
            <a:avLst/>
            <a:gdLst>
              <a:gd name="textAreaLeft" fmla="*/ 0 w 6264000"/>
              <a:gd name="textAreaRight" fmla="*/ 6264360 w 626400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721963"/>
              </a:gs>
              <a:gs pos="50000">
                <a:srgbClr val="f737d7"/>
              </a:gs>
              <a:gs pos="100000">
                <a:srgbClr val="7219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Stoppen met ro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is net als de eerste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in het nudistenka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je weet niet waar je met je handen moet blijven.</a:t>
            </a:r>
            <a:r>
              <a:rPr b="1" i="1" lang="en-S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979640" y="5516640"/>
            <a:ext cx="115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cc00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2C4-ABB7-4054-9CE1-D6693B34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flowers_231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22720"/>
          </a:xfrm>
          <a:prstGeom prst="rect">
            <a:avLst/>
          </a:prstGeom>
          <a:ln w="76320">
            <a:solidFill>
              <a:srgbClr val="94c800"/>
            </a:solidFill>
            <a:miter/>
          </a:ln>
        </p:spPr>
      </p:pic>
      <p:sp>
        <p:nvSpPr>
          <p:cNvPr id="153" name="AutoShape 5"/>
          <p:cNvSpPr/>
          <p:nvPr/>
        </p:nvSpPr>
        <p:spPr>
          <a:xfrm>
            <a:off x="324000" y="474840"/>
            <a:ext cx="647640" cy="58338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8245440" y="547560"/>
            <a:ext cx="647640" cy="5834160"/>
          </a:xfrm>
          <a:prstGeom prst="plus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1187280" y="144360"/>
            <a:ext cx="6842160" cy="6206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187280" y="6021360"/>
            <a:ext cx="6842160" cy="62064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379520" y="4580280"/>
            <a:ext cx="6383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Een onbekwame advocaat kan een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aanden of jaren ophoud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een bekwaam advocaat zelfs nog langer.</a:t>
            </a:r>
            <a:r>
              <a:rPr b="1" i="1" lang="nl-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1975"/>
            </a:gs>
            <a:gs pos="50000">
              <a:srgbClr val="c935fd"/>
            </a:gs>
            <a:gs pos="100000">
              <a:srgbClr val="5d19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26CC-9310-43EE-8C84-54832AE0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06"/>
          <p:cNvPicPr/>
          <p:nvPr/>
        </p:nvPicPr>
        <p:blipFill>
          <a:blip r:embed="rId1"/>
          <a:stretch/>
        </p:blipFill>
        <p:spPr>
          <a:xfrm>
            <a:off x="1547640" y="907920"/>
            <a:ext cx="5759640" cy="4656240"/>
          </a:xfrm>
          <a:prstGeom prst="rect">
            <a:avLst/>
          </a:prstGeom>
          <a:ln w="76320">
            <a:solidFill>
              <a:srgbClr val="da0ecb"/>
            </a:solidFill>
            <a:miter/>
          </a:ln>
        </p:spPr>
      </p:pic>
      <p:sp>
        <p:nvSpPr>
          <p:cNvPr id="160" name="Oval 5"/>
          <p:cNvSpPr/>
          <p:nvPr/>
        </p:nvSpPr>
        <p:spPr>
          <a:xfrm>
            <a:off x="466560" y="0"/>
            <a:ext cx="79236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7740720" y="0"/>
            <a:ext cx="79200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-34920" y="5734080"/>
            <a:ext cx="9144000" cy="57636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-34920" y="189000"/>
            <a:ext cx="9144000" cy="576000"/>
          </a:xfrm>
          <a:prstGeom prst="irregularSeal2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050920" y="10515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Mijn vrouw is op die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kokosnoten en banan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Ze is niet afgeval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maar ze kan wel in een boom klimme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162"/>
            </a:gs>
            <a:gs pos="50000">
              <a:srgbClr val="6f6ad4"/>
            </a:gs>
            <a:gs pos="100000">
              <a:srgbClr val="33316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928-3176-4574-9E0C-F0B036E0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!cid_006f01c5bffc$842d43f0$6500a8c0@GEORGES"/>
          <p:cNvPicPr/>
          <p:nvPr/>
        </p:nvPicPr>
        <p:blipFill>
          <a:blip r:embed="rId1"/>
          <a:stretch/>
        </p:blipFill>
        <p:spPr>
          <a:xfrm>
            <a:off x="898560" y="879480"/>
            <a:ext cx="7273800" cy="48499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68" name="AutoShape 5"/>
          <p:cNvSpPr/>
          <p:nvPr/>
        </p:nvSpPr>
        <p:spPr>
          <a:xfrm>
            <a:off x="250920" y="115920"/>
            <a:ext cx="503280" cy="6859440"/>
          </a:xfrm>
          <a:custGeom>
            <a:avLst/>
            <a:gdLst>
              <a:gd name="textAreaLeft" fmla="*/ 0 w 503280"/>
              <a:gd name="textAreaRight" fmla="*/ 503640 w 503280"/>
              <a:gd name="textAreaTop" fmla="*/ 1714680 h 6859440"/>
              <a:gd name="textAreaBottom" fmla="*/ 5144760 h 6859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389800" y="0"/>
            <a:ext cx="503280" cy="6859440"/>
          </a:xfrm>
          <a:custGeom>
            <a:avLst/>
            <a:gdLst>
              <a:gd name="textAreaLeft" fmla="*/ 0 w 503280"/>
              <a:gd name="textAreaRight" fmla="*/ 503640 w 503280"/>
              <a:gd name="textAreaTop" fmla="*/ 1714680 h 6859440"/>
              <a:gd name="textAreaBottom" fmla="*/ 5144760 h 6859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042920" y="115920"/>
            <a:ext cx="7058160" cy="71928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042920" y="5950080"/>
            <a:ext cx="7058160" cy="718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128600" y="1222560"/>
            <a:ext cx="6885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Sommige politiekers zou je tweemaal en m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willen begrav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om zeker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e76"/>
            </a:gs>
            <a:gs pos="50000">
              <a:srgbClr val="ffa9ff"/>
            </a:gs>
            <a:gs pos="100000">
              <a:srgbClr val="764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B1A4-FA74-454A-B8A4-DFD9815D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!cid_005501c5bffc$842d43f0$6500a8c0@GEORGES"/>
          <p:cNvPicPr/>
          <p:nvPr/>
        </p:nvPicPr>
        <p:blipFill>
          <a:blip r:embed="rId1"/>
          <a:stretch/>
        </p:blipFill>
        <p:spPr>
          <a:xfrm>
            <a:off x="826920" y="1108080"/>
            <a:ext cx="7469280" cy="4721400"/>
          </a:xfrm>
          <a:prstGeom prst="rect">
            <a:avLst/>
          </a:prstGeom>
          <a:ln w="0">
            <a:noFill/>
          </a:ln>
        </p:spPr>
      </p:pic>
      <p:sp>
        <p:nvSpPr>
          <p:cNvPr id="175" name="Oval 5"/>
          <p:cNvSpPr/>
          <p:nvPr/>
        </p:nvSpPr>
        <p:spPr>
          <a:xfrm>
            <a:off x="395280" y="0"/>
            <a:ext cx="57636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8172360" y="0"/>
            <a:ext cx="57636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0" y="5734080"/>
            <a:ext cx="9144000" cy="50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36360" y="692280"/>
            <a:ext cx="914400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0" y="5256360"/>
            <a:ext cx="1619280" cy="1557360"/>
          </a:xfrm>
          <a:prstGeom prst="irregularSeal1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7451640" y="5229360"/>
            <a:ext cx="1619280" cy="1557360"/>
          </a:xfrm>
          <a:prstGeom prst="irregularSeal1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7524720" y="189000"/>
            <a:ext cx="1619280" cy="1557360"/>
          </a:xfrm>
          <a:prstGeom prst="irregularSeal1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0" y="115920"/>
            <a:ext cx="1619280" cy="1557360"/>
          </a:xfrm>
          <a:prstGeom prst="irregularSeal1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128600" y="5063040"/>
            <a:ext cx="68868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b1ff"/>
                </a:solidFill>
                <a:latin typeface="Arial"/>
              </a:rPr>
              <a:t>Sinds ik in de auto een bril dra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b1ff"/>
                </a:solidFill>
                <a:latin typeface="Arial"/>
              </a:rPr>
              <a:t>is het verkeer veel drukker geworden.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2800"/>
            </a:gs>
            <a:gs pos="50000">
              <a:srgbClr val="ac5600"/>
            </a:gs>
            <a:gs pos="100000">
              <a:srgbClr val="502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C474-0A2D-4AFF-8EC2-7D71CEC0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357200" y="4858920"/>
            <a:ext cx="1473696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b1ff"/>
                </a:solidFill>
                <a:latin typeface="Arial"/>
              </a:rPr>
              <a:t>Sinds ik in de auto een bril dra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b1ff"/>
                </a:solidFill>
                <a:latin typeface="Arial"/>
              </a:rPr>
              <a:t>is het verkeer veel drukker geworde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87280" y="907920"/>
            <a:ext cx="6624720" cy="496908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6920" y="620640"/>
            <a:ext cx="7344000" cy="561672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28760" y="357120"/>
            <a:ext cx="8208720" cy="626436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Figuur3"/>
          <p:cNvPicPr/>
          <p:nvPr/>
        </p:nvPicPr>
        <p:blipFill>
          <a:blip r:embed="rId1"/>
          <a:stretch/>
        </p:blipFill>
        <p:spPr>
          <a:xfrm>
            <a:off x="971640" y="620640"/>
            <a:ext cx="7200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0"/>
          <p:cNvSpPr/>
          <p:nvPr/>
        </p:nvSpPr>
        <p:spPr>
          <a:xfrm>
            <a:off x="34920" y="100080"/>
            <a:ext cx="8964720" cy="678492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1403280" y="3429000"/>
            <a:ext cx="6335640" cy="2228760"/>
          </a:xfrm>
          <a:custGeom>
            <a:avLst/>
            <a:gdLst>
              <a:gd name="textAreaLeft" fmla="*/ 0 w 6335640"/>
              <a:gd name="textAreaRight" fmla="*/ 6336000 w 6335640"/>
              <a:gd name="textAreaTop" fmla="*/ 288720 h 2228760"/>
              <a:gd name="textAreaBottom" fmla="*/ 194004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a05000"/>
          </a:solidFill>
          <a:ln w="7632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Wanneer je de draad kwijt b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en een steek laat val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is er maar één oplossing, de knoop doorhak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1557360"/>
            <a:ext cx="3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2e00"/>
            </a:gs>
            <a:gs pos="50000">
              <a:srgbClr val="ff9933"/>
            </a:gs>
            <a:gs pos="100000">
              <a:srgbClr val="f42e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35E-F711-4AA7-8E46-C91E92A4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landscape06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96" name="Rectangle 18"/>
          <p:cNvSpPr/>
          <p:nvPr/>
        </p:nvSpPr>
        <p:spPr>
          <a:xfrm>
            <a:off x="216000" y="476280"/>
            <a:ext cx="755640" cy="568944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8900000"/>
          </a:gradFill>
          <a:ln w="7632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324000" y="835200"/>
            <a:ext cx="502920" cy="518616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8209080" y="476280"/>
            <a:ext cx="755640" cy="568944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8900000"/>
          </a:gradFill>
          <a:ln w="7632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>
            <a:off x="8317080" y="765000"/>
            <a:ext cx="502920" cy="5186520"/>
          </a:xfrm>
          <a:prstGeom prst="pi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2"/>
          <p:cNvSpPr/>
          <p:nvPr/>
        </p:nvSpPr>
        <p:spPr>
          <a:xfrm>
            <a:off x="1116000" y="71280"/>
            <a:ext cx="69134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1042920" y="6093000"/>
            <a:ext cx="6913800" cy="5490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Rechthoek 10" descr=""/>
          <p:cNvPicPr/>
          <p:nvPr/>
        </p:nvPicPr>
        <p:blipFill>
          <a:blip r:embed="rId6"/>
          <a:stretch/>
        </p:blipFill>
        <p:spPr>
          <a:xfrm>
            <a:off x="1322280" y="2749680"/>
            <a:ext cx="2975040" cy="1145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ACB-CC93-4EB2-9922-365976B3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5" descr="3d_559"/>
          <p:cNvPicPr/>
          <p:nvPr/>
        </p:nvPicPr>
        <p:blipFill>
          <a:blip r:embed="rId1"/>
          <a:stretch/>
        </p:blipFill>
        <p:spPr>
          <a:xfrm>
            <a:off x="826920" y="500040"/>
            <a:ext cx="7561440" cy="56656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60" name="Picture 37" descr="Knipoog"/>
          <p:cNvPicPr/>
          <p:nvPr/>
        </p:nvPicPr>
        <p:blipFill>
          <a:blip r:embed="rId2"/>
          <a:stretch/>
        </p:blipFill>
        <p:spPr>
          <a:xfrm>
            <a:off x="971640" y="2637000"/>
            <a:ext cx="1231920" cy="1439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0"/>
          <p:cNvSpPr/>
          <p:nvPr/>
        </p:nvSpPr>
        <p:spPr>
          <a:xfrm>
            <a:off x="857160" y="571680"/>
            <a:ext cx="7459920" cy="131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Ik kon niet geloven dat je in het ziekenhuis 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Gisterenavond zag ik je 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met een mooie blonde vrou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Dat klopt, haar man zag mij ook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0"/>
            <a:ext cx="252360" cy="685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50000">
              <a:srgbClr val="007600"/>
            </a:gs>
            <a:gs pos="100000">
              <a:srgbClr val="003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FDAC-4641-4320-B97E-6C26EA7F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3d_586"/>
          <p:cNvPicPr/>
          <p:nvPr/>
        </p:nvPicPr>
        <p:blipFill>
          <a:blip r:embed="rId1"/>
          <a:stretch/>
        </p:blipFill>
        <p:spPr>
          <a:xfrm>
            <a:off x="971640" y="657360"/>
            <a:ext cx="7345440" cy="5508360"/>
          </a:xfrm>
          <a:prstGeom prst="rect">
            <a:avLst/>
          </a:prstGeom>
          <a:ln w="76320">
            <a:solidFill>
              <a:srgbClr val="a2dc00"/>
            </a:solidFill>
            <a:miter/>
          </a:ln>
        </p:spPr>
      </p:pic>
      <p:pic>
        <p:nvPicPr>
          <p:cNvPr id="69" name="Picture 10" descr="Figuur1"/>
          <p:cNvPicPr/>
          <p:nvPr/>
        </p:nvPicPr>
        <p:blipFill>
          <a:blip r:embed="rId2"/>
          <a:stretch/>
        </p:blipFill>
        <p:spPr>
          <a:xfrm>
            <a:off x="1069920" y="4365720"/>
            <a:ext cx="2133720" cy="1476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7"/>
          <p:cNvSpPr/>
          <p:nvPr/>
        </p:nvSpPr>
        <p:spPr>
          <a:xfrm>
            <a:off x="914400" y="6206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Uitspraak landlop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Men heeft mij maar één keer aan werk willen hel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Voor de rest zijn de mensen altijd vriendelijk tegen mij geweest</a:t>
            </a:r>
            <a:r>
              <a:rPr b="1" i="1" lang="en-SG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Vlinder3a"/>
          <p:cNvPicPr/>
          <p:nvPr/>
        </p:nvPicPr>
        <p:blipFill>
          <a:blip r:embed="rId3"/>
          <a:stretch/>
        </p:blipFill>
        <p:spPr>
          <a:xfrm>
            <a:off x="6929280" y="5000760"/>
            <a:ext cx="933480" cy="847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1D0-4666-4FFA-B3A1-244DF060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d_56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5" name="Line 6"/>
          <p:cNvSpPr/>
          <p:nvPr/>
        </p:nvSpPr>
        <p:spPr>
          <a:xfrm>
            <a:off x="539640" y="2205000"/>
            <a:ext cx="1728720" cy="316872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332000" y="1700280"/>
            <a:ext cx="431640" cy="453708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 flipH="1">
            <a:off x="1187280" y="2205000"/>
            <a:ext cx="936720" cy="338472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sterrejje"/>
          <p:cNvPicPr/>
          <p:nvPr/>
        </p:nvPicPr>
        <p:blipFill>
          <a:blip r:embed="rId2"/>
          <a:stretch/>
        </p:blipFill>
        <p:spPr>
          <a:xfrm>
            <a:off x="1181160" y="1549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terrejje"/>
          <p:cNvPicPr/>
          <p:nvPr/>
        </p:nvPicPr>
        <p:blipFill>
          <a:blip r:embed="rId3"/>
          <a:stretch/>
        </p:blipFill>
        <p:spPr>
          <a:xfrm>
            <a:off x="1042920" y="54388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terrejje"/>
          <p:cNvPicPr/>
          <p:nvPr/>
        </p:nvPicPr>
        <p:blipFill>
          <a:blip r:embed="rId4"/>
          <a:stretch/>
        </p:blipFill>
        <p:spPr>
          <a:xfrm>
            <a:off x="1979640" y="2060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terrejje"/>
          <p:cNvPicPr/>
          <p:nvPr/>
        </p:nvPicPr>
        <p:blipFill>
          <a:blip r:embed="rId5"/>
          <a:stretch/>
        </p:blipFill>
        <p:spPr>
          <a:xfrm>
            <a:off x="2116080" y="5221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terrejje"/>
          <p:cNvPicPr/>
          <p:nvPr/>
        </p:nvPicPr>
        <p:blipFill>
          <a:blip r:embed="rId6"/>
          <a:stretch/>
        </p:blipFill>
        <p:spPr>
          <a:xfrm>
            <a:off x="1619280" y="6013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terrejje"/>
          <p:cNvPicPr/>
          <p:nvPr/>
        </p:nvPicPr>
        <p:blipFill>
          <a:blip r:embed="rId7"/>
          <a:stretch/>
        </p:blipFill>
        <p:spPr>
          <a:xfrm>
            <a:off x="395280" y="206064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Oval 15"/>
          <p:cNvSpPr/>
          <p:nvPr/>
        </p:nvSpPr>
        <p:spPr>
          <a:xfrm>
            <a:off x="6732720" y="1919160"/>
            <a:ext cx="2087280" cy="3454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733320" y="455760"/>
            <a:ext cx="7677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leeft en je wordt oud,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het warm, je hebt het koud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liefde, je hebt haa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plezier en je hebt smaad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wordt oud,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Schat, staat de Bokma kou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1200"/>
            </a:gs>
            <a:gs pos="50000">
              <a:srgbClr val="c82600"/>
            </a:gs>
            <a:gs pos="100000">
              <a:srgbClr val="5d1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1357-FFA4-499E-BE3C-E3632F38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Figuur2"/>
          <p:cNvPicPr/>
          <p:nvPr/>
        </p:nvPicPr>
        <p:blipFill>
          <a:blip r:embed="rId1"/>
          <a:stretch/>
        </p:blipFill>
        <p:spPr>
          <a:xfrm>
            <a:off x="571680" y="5357880"/>
            <a:ext cx="2209680" cy="100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876240" y="69120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Wat hebt u tegen ambtenar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Die mensen doen toch niks…</a:t>
            </a:r>
            <a:r>
              <a:rPr b="1" lang="nl-NL" sz="2000" spc="-1" strike="noStrike">
                <a:solidFill>
                  <a:srgbClr val="ff832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68360" y="547560"/>
            <a:ext cx="8280360" cy="6121440"/>
          </a:xfrm>
          <a:prstGeom prst="rect">
            <a:avLst/>
          </a:prstGeom>
          <a:noFill/>
          <a:ln w="76320">
            <a:solidFill>
              <a:srgbClr val="c8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Afbeelding 12" descr="garfield_011.gif"/>
          <p:cNvPicPr/>
          <p:nvPr/>
        </p:nvPicPr>
        <p:blipFill>
          <a:blip r:embed="rId2"/>
          <a:stretch/>
        </p:blipFill>
        <p:spPr>
          <a:xfrm>
            <a:off x="2214720" y="2500200"/>
            <a:ext cx="2971800" cy="302904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14" descr="garfield_011.gif"/>
          <p:cNvPicPr/>
          <p:nvPr/>
        </p:nvPicPr>
        <p:blipFill>
          <a:blip r:embed="rId3"/>
          <a:stretch/>
        </p:blipFill>
        <p:spPr>
          <a:xfrm>
            <a:off x="5786280" y="3357720"/>
            <a:ext cx="2971800" cy="302868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15" descr="garfield_011.gif"/>
          <p:cNvPicPr/>
          <p:nvPr/>
        </p:nvPicPr>
        <p:blipFill>
          <a:blip r:embed="rId4"/>
          <a:stretch/>
        </p:blipFill>
        <p:spPr>
          <a:xfrm>
            <a:off x="4000680" y="3143160"/>
            <a:ext cx="2971800" cy="3029040"/>
          </a:xfrm>
          <a:prstGeom prst="rect">
            <a:avLst/>
          </a:prstGeom>
          <a:ln w="0">
            <a:noFill/>
          </a:ln>
        </p:spPr>
      </p:pic>
      <p:pic>
        <p:nvPicPr>
          <p:cNvPr id="93" name="Afbeelding 16" descr="garfield_011.gif"/>
          <p:cNvPicPr/>
          <p:nvPr/>
        </p:nvPicPr>
        <p:blipFill>
          <a:blip r:embed="rId5"/>
          <a:stretch/>
        </p:blipFill>
        <p:spPr>
          <a:xfrm>
            <a:off x="214200" y="2143080"/>
            <a:ext cx="2971800" cy="3029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3e76"/>
            </a:gs>
            <a:gs pos="50000">
              <a:srgbClr val="c285ff"/>
            </a:gs>
            <a:gs pos="100000">
              <a:srgbClr val="5a3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9AC-E207-4B7E-86DC-533B6F2FC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isc10"/>
          <p:cNvPicPr/>
          <p:nvPr/>
        </p:nvPicPr>
        <p:blipFill>
          <a:blip r:embed="rId1"/>
          <a:stretch/>
        </p:blipFill>
        <p:spPr>
          <a:xfrm>
            <a:off x="539640" y="765000"/>
            <a:ext cx="7993080" cy="5200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611280" y="76500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66560" y="765000"/>
            <a:ext cx="7993080" cy="5185080"/>
          </a:xfrm>
          <a:prstGeom prst="rect">
            <a:avLst/>
          </a:prstGeom>
          <a:noFill/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468360" y="3860640"/>
            <a:ext cx="7632720" cy="1800360"/>
          </a:xfrm>
          <a:prstGeom prst="leftArrow">
            <a:avLst>
              <a:gd name="adj1" fmla="val 50000"/>
              <a:gd name="adj2" fmla="val 105989"/>
            </a:avLst>
          </a:pr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000000"/>
                </a:solidFill>
                <a:latin typeface="Arial"/>
              </a:rPr>
              <a:t>Waar is de tijd dat 'veilig vrijen' beteke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000000"/>
                </a:solidFill>
                <a:latin typeface="Arial"/>
              </a:rPr>
              <a:t>dat je ouders een weekendje uit huis war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042920" y="98100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e76"/>
            </a:gs>
            <a:gs pos="50000">
              <a:srgbClr val="7da8ff"/>
            </a:gs>
            <a:gs pos="100000">
              <a:srgbClr val="3a4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068-DBAE-4410-A5E6-0EEB15106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animal-18"/>
          <p:cNvPicPr/>
          <p:nvPr/>
        </p:nvPicPr>
        <p:blipFill>
          <a:blip r:embed="rId1"/>
          <a:stretch/>
        </p:blipFill>
        <p:spPr>
          <a:xfrm>
            <a:off x="928800" y="928800"/>
            <a:ext cx="6913440" cy="5130720"/>
          </a:xfrm>
          <a:prstGeom prst="rect">
            <a:avLst/>
          </a:prstGeom>
          <a:ln w="0">
            <a:noFill/>
          </a:ln>
        </p:spPr>
      </p:pic>
      <p:sp>
        <p:nvSpPr>
          <p:cNvPr id="102" name="Oval 19"/>
          <p:cNvSpPr/>
          <p:nvPr/>
        </p:nvSpPr>
        <p:spPr>
          <a:xfrm>
            <a:off x="539640" y="0"/>
            <a:ext cx="64764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7885080" y="0"/>
            <a:ext cx="64764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0" y="5000760"/>
            <a:ext cx="914400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0" y="406440"/>
            <a:ext cx="9144000" cy="718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3714840" y="5300640"/>
            <a:ext cx="1584360" cy="1557360"/>
          </a:xfrm>
          <a:prstGeom prst="irregularSeal1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7559640" y="2637000"/>
            <a:ext cx="1584360" cy="1557000"/>
          </a:xfrm>
          <a:prstGeom prst="irregularSeal1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3851280" y="0"/>
            <a:ext cx="1584360" cy="1557360"/>
          </a:xfrm>
          <a:prstGeom prst="irregularSeal1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0" y="2492280"/>
            <a:ext cx="1584360" cy="1557360"/>
          </a:xfrm>
          <a:prstGeom prst="irregularSeal1">
            <a:avLst/>
          </a:prstGeom>
          <a:blipFill rotWithShape="0">
            <a:blip r:embed="rId9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1128600" y="1411920"/>
            <a:ext cx="68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cc"/>
                </a:solidFill>
                <a:latin typeface="Arial"/>
              </a:rPr>
              <a:t>Aantrekkelijkheid is beter dan schoon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3271"/>
            </a:gs>
            <a:gs pos="50000">
              <a:srgbClr val="036bf5"/>
            </a:gs>
            <a:gs pos="100000">
              <a:srgbClr val="01327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810-A09A-470C-B533-EB4C6720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roded"/>
          <p:cNvPicPr/>
          <p:nvPr/>
        </p:nvPicPr>
        <p:blipFill>
          <a:blip r:embed="rId1"/>
          <a:stretch/>
        </p:blipFill>
        <p:spPr>
          <a:xfrm>
            <a:off x="1260360" y="765000"/>
            <a:ext cx="6624720" cy="4969080"/>
          </a:xfrm>
          <a:prstGeom prst="rect">
            <a:avLst/>
          </a:prstGeom>
          <a:ln w="76320">
            <a:solidFill>
              <a:srgbClr val="639deb"/>
            </a:solidFill>
            <a:miter/>
          </a:ln>
        </p:spPr>
      </p:pic>
      <p:sp>
        <p:nvSpPr>
          <p:cNvPr id="113" name="AutoShape 5"/>
          <p:cNvSpPr/>
          <p:nvPr/>
        </p:nvSpPr>
        <p:spPr>
          <a:xfrm>
            <a:off x="216000" y="333360"/>
            <a:ext cx="684000" cy="2735280"/>
          </a:xfrm>
          <a:prstGeom prst="flowChartMerg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16000" y="3213000"/>
            <a:ext cx="684000" cy="280836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57240" y="2637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172360" y="477720"/>
            <a:ext cx="684360" cy="2735280"/>
          </a:xfrm>
          <a:prstGeom prst="flowChartMerg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172360" y="3357720"/>
            <a:ext cx="684360" cy="280800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8028000" y="270828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1357200" y="6215040"/>
            <a:ext cx="6551640" cy="287280"/>
          </a:xfrm>
          <a:custGeom>
            <a:avLst/>
            <a:gdLst>
              <a:gd name="textAreaLeft" fmla="*/ 2699640 w 6551640"/>
              <a:gd name="textAreaRight" fmla="*/ 3852000 w 6551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1332000" y="262080"/>
            <a:ext cx="6551640" cy="287280"/>
          </a:xfrm>
          <a:custGeom>
            <a:avLst/>
            <a:gdLst>
              <a:gd name="textAreaLeft" fmla="*/ 2699640 w 6551640"/>
              <a:gd name="textAreaRight" fmla="*/ 3852000 w 6551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1085760" y="1052640"/>
            <a:ext cx="697248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a8c9f4"/>
                </a:solidFill>
                <a:latin typeface="Arial"/>
              </a:rPr>
              <a:t>Ik discussieer graag met de jeug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a8c9f4"/>
                </a:solidFill>
                <a:latin typeface="Arial"/>
              </a:rPr>
              <a:t>ze herinnert mij eraan dat ik het vroeger ook niet w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7E9-6AF1-4909-AC4A-91EBB35D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wans"/>
          <p:cNvPicPr/>
          <p:nvPr/>
        </p:nvPicPr>
        <p:blipFill>
          <a:blip r:embed="rId1"/>
          <a:stretch/>
        </p:blipFill>
        <p:spPr>
          <a:xfrm>
            <a:off x="1457280" y="907920"/>
            <a:ext cx="6499440" cy="48754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5" name="Oval 5"/>
          <p:cNvSpPr/>
          <p:nvPr/>
        </p:nvSpPr>
        <p:spPr>
          <a:xfrm>
            <a:off x="179280" y="2160720"/>
            <a:ext cx="863640" cy="3860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8317080" y="360360"/>
            <a:ext cx="718920" cy="342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547640" y="73080"/>
            <a:ext cx="6264360" cy="691920"/>
          </a:xfrm>
          <a:prstGeom prst="flowChartDecision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43040" y="6165720"/>
            <a:ext cx="6264360" cy="692280"/>
          </a:xfrm>
          <a:prstGeom prst="flowChartDecision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487520" y="4581360"/>
            <a:ext cx="616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Werken is goed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maar het mag niet teve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van je vrije tijd in beslag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1:42:22Z</dcterms:created>
  <dc:creator>jos vervoort</dc:creator>
  <dc:description/>
  <dc:language>en-US</dc:language>
  <cp:lastModifiedBy>GRETA</cp:lastModifiedBy>
  <dcterms:modified xsi:type="dcterms:W3CDTF">2008-05-25T18:24:51Z</dcterms:modified>
  <cp:revision>20</cp:revision>
  <dc:subject/>
  <dc:title>Dia 1</dc:title>
</cp:coreProperties>
</file>