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4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10.gif" ContentType="image/gif"/>
  <Override PartName="/ppt/media/image24.jpeg" ContentType="image/jpeg"/>
  <Override PartName="/ppt/media/image30.png" ContentType="image/png"/>
  <Override PartName="/ppt/media/image3.jpeg" ContentType="image/jpeg"/>
  <Override PartName="/ppt/media/image11.jpeg" ContentType="image/jpeg"/>
  <Override PartName="/ppt/media/lionelrichietenderheart.wav" ContentType="audio/x-wav"/>
  <Override PartName="/ppt/media/image2.png" ContentType="image/png"/>
  <Override PartName="/ppt/media/image25.jpeg" ContentType="image/jpeg"/>
  <Override PartName="/ppt/media/image13.gif" ContentType="image/gif"/>
  <Override PartName="/ppt/media/image16.jpeg" ContentType="image/jpeg"/>
  <Override PartName="/ppt/media/image9.gif" ContentType="image/gif"/>
  <Override PartName="/ppt/media/image14.gif" ContentType="image/gif"/>
  <Override PartName="/ppt/media/image15.gif" ContentType="image/gif"/>
  <Override PartName="/ppt/media/image28.jpeg" ContentType="image/jpeg"/>
  <Override PartName="/ppt/media/image12.gif" ContentType="image/gif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B0BB-EB89-4A9D-B967-28376CE6AA48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0662-C723-46A8-AD31-B0DA79F6C1E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5427-3DE1-4414-B05E-2215CD69B5FB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240-94A6-4DA6-A962-4BE2CFF5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CA7-3614-47BD-B22D-5D958D2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6CB-45B4-415E-B31A-54802186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FB1E-DD91-4FD4-A664-AE50834A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060-3CC0-4115-8C2F-E8A5066B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A3AD-0440-4A3D-9A8F-81FE48BF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FC7-52E1-46F0-8895-D1B84F8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DA9-B6FC-487C-B4D7-F040DD7E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F82-07FF-4FE9-8056-3111BF93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EF0-3AD2-4AD6-838D-4FACF0C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5645-C789-4143-B566-6937C3BC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A66-0B77-4668-944E-E8FC2BE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2F7D-D512-444B-A401-5E455228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lionelrichietenderhea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3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image" Target="../media/image27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19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00"/>
            </a:gs>
            <a:gs pos="50000">
              <a:srgbClr val="009800"/>
            </a:gs>
            <a:gs pos="100000">
              <a:srgbClr val="004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055-812D-4275-8A06-AC7941E83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3d_131"/>
          <p:cNvPicPr/>
          <p:nvPr/>
        </p:nvPicPr>
        <p:blipFill>
          <a:blip r:embed="rId1"/>
          <a:stretch/>
        </p:blipFill>
        <p:spPr>
          <a:xfrm>
            <a:off x="714240" y="357120"/>
            <a:ext cx="7488360" cy="561996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sp>
        <p:nvSpPr>
          <p:cNvPr id="52" name="WordArt 7"/>
          <p:cNvSpPr txBox="1"/>
          <p:nvPr/>
        </p:nvSpPr>
        <p:spPr>
          <a:xfrm>
            <a:off x="-324000" y="-357120"/>
            <a:ext cx="7991640" cy="35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Ronn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Presentee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92360" y="2286000"/>
            <a:ext cx="6048360" cy="33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Spreke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lack Chancery"/>
              </a:rPr>
              <a:t>en Gezegde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lack Chancery"/>
              <a:ea typeface="Black Chancery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934920" y="5229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ccff66"/>
                </a:solidFill>
                <a:latin typeface="Arial"/>
              </a:rPr>
              <a:t>Wanneer een rijke valt zegt men: het was een ongev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ccff66"/>
                </a:solidFill>
                <a:latin typeface="Arial"/>
              </a:rPr>
              <a:t>valt een arme dan beweert men:  hij is weer dronken…</a:t>
            </a:r>
            <a:r>
              <a:rPr b="0" i="1" lang="en-SG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68360" y="4221000"/>
            <a:ext cx="6476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lionelrichietenderheart.wav" descr=""/>
          <p:cNvPicPr/>
          <p:nvPr/>
        </p:nvPicPr>
        <p:blipFill>
          <a:blip r:embed="rId2"/>
          <a:stretch/>
        </p:blipFill>
        <p:spPr>
          <a:xfrm>
            <a:off x="7215120" y="785880"/>
            <a:ext cx="357120" cy="500040"/>
          </a:xfrm>
          <a:prstGeom prst="rect">
            <a:avLst/>
          </a:prstGeom>
          <a:ln w="0">
            <a:noFill/>
          </a:ln>
        </p:spPr>
      </p:pic>
      <p:sp>
        <p:nvSpPr>
          <p:cNvPr id="57" name="Tekstvak 11"/>
          <p:cNvSpPr/>
          <p:nvPr/>
        </p:nvSpPr>
        <p:spPr>
          <a:xfrm>
            <a:off x="642960" y="6215040"/>
            <a:ext cx="2857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Volgende dia  muiskli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  <p:sndAc>
      <p:stSnd>
        <p:snd r:embed="rId3" name="lionelrichietenderhea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438-30DF-4C4C-9040-EFE63107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isc08"/>
          <p:cNvPicPr/>
          <p:nvPr/>
        </p:nvPicPr>
        <p:blipFill>
          <a:blip r:embed="rId1"/>
          <a:stretch/>
        </p:blipFill>
        <p:spPr>
          <a:xfrm>
            <a:off x="1266840" y="770040"/>
            <a:ext cx="6905520" cy="5180040"/>
          </a:xfrm>
          <a:prstGeom prst="rect">
            <a:avLst/>
          </a:prstGeom>
          <a:ln w="76320">
            <a:solidFill>
              <a:srgbClr val="4d658f"/>
            </a:solidFill>
            <a:miter/>
          </a:ln>
        </p:spPr>
      </p:pic>
      <p:sp>
        <p:nvSpPr>
          <p:cNvPr id="133" name="AutoShape 5"/>
          <p:cNvSpPr/>
          <p:nvPr/>
        </p:nvSpPr>
        <p:spPr>
          <a:xfrm>
            <a:off x="216000" y="360360"/>
            <a:ext cx="684000" cy="630864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388360" y="504720"/>
            <a:ext cx="684360" cy="630900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1258920" y="71280"/>
            <a:ext cx="6842160" cy="619200"/>
          </a:xfrm>
          <a:prstGeom prst="irregularSeal1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1357200" y="6238800"/>
            <a:ext cx="6842160" cy="619200"/>
          </a:xfrm>
          <a:prstGeom prst="irregularSeal1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79520" y="836640"/>
            <a:ext cx="63849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Jeugd is een voorsch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            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Ouderdom is de afrek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BF2-ED0C-4161-8B2B-95735B622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56_1111980305"/>
          <p:cNvPicPr/>
          <p:nvPr/>
        </p:nvPicPr>
        <p:blipFill>
          <a:blip r:embed="rId1"/>
          <a:stretch/>
        </p:blipFill>
        <p:spPr>
          <a:xfrm>
            <a:off x="1835280" y="1042920"/>
            <a:ext cx="6049800" cy="45468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5"/>
          <p:cNvSpPr/>
          <p:nvPr/>
        </p:nvSpPr>
        <p:spPr>
          <a:xfrm>
            <a:off x="466560" y="3357720"/>
            <a:ext cx="1368720" cy="27352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 rot="10800000">
            <a:off x="539640" y="404280"/>
            <a:ext cx="1224000" cy="27622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7451640" y="3473280"/>
            <a:ext cx="1152720" cy="269244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 rot="10800000">
            <a:off x="7453080" y="475920"/>
            <a:ext cx="1150920" cy="273348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1835280" y="262080"/>
            <a:ext cx="5256000" cy="718920"/>
          </a:xfrm>
          <a:custGeom>
            <a:avLst/>
            <a:gdLst>
              <a:gd name="textAreaLeft" fmla="*/ 2165760 w 5256000"/>
              <a:gd name="textAreaRight" fmla="*/ 3090240 w 525600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2000160" y="5643720"/>
            <a:ext cx="5256360" cy="718920"/>
          </a:xfrm>
          <a:custGeom>
            <a:avLst/>
            <a:gdLst>
              <a:gd name="textAreaLeft" fmla="*/ 2165760 w 5256360"/>
              <a:gd name="textAreaRight" fmla="*/ 3090600 w 5256360"/>
              <a:gd name="textAreaTop" fmla="*/ 296280 h 718920"/>
              <a:gd name="textAreaBottom" fmla="*/ 422640 h 71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324000" y="260280"/>
            <a:ext cx="8569080" cy="6264360"/>
          </a:xfrm>
          <a:prstGeom prst="rect">
            <a:avLst/>
          </a:prstGeom>
          <a:noFill/>
          <a:ln w="76320">
            <a:solidFill>
              <a:srgbClr val="f73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440000" y="404640"/>
            <a:ext cx="6264000" cy="2016360"/>
          </a:xfrm>
          <a:custGeom>
            <a:avLst/>
            <a:gdLst>
              <a:gd name="textAreaLeft" fmla="*/ 0 w 6264000"/>
              <a:gd name="textAreaRight" fmla="*/ 6264360 w 6264000"/>
              <a:gd name="textAreaTop" fmla="*/ 261360 h 2016360"/>
              <a:gd name="textAreaBottom" fmla="*/ 17550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721963"/>
              </a:gs>
              <a:gs pos="50000">
                <a:srgbClr val="f737d7"/>
              </a:gs>
              <a:gs pos="100000">
                <a:srgbClr val="7219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Stoppen met ro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is net als de eerste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in het nudistenka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ff"/>
                </a:solidFill>
                <a:latin typeface="Arial"/>
              </a:rPr>
              <a:t>je weet niet waar je met je handen moet blijven.</a:t>
            </a:r>
            <a:r>
              <a:rPr b="1" i="1" lang="en-SG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979640" y="5516640"/>
            <a:ext cx="115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50000">
              <a:srgbClr val="ffcc00"/>
            </a:gs>
            <a:gs pos="100000">
              <a:srgbClr val="66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A1B-6DC1-42AD-B63B-2FBA392DD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flowers_231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022720"/>
          </a:xfrm>
          <a:prstGeom prst="rect">
            <a:avLst/>
          </a:prstGeom>
          <a:ln w="76320">
            <a:solidFill>
              <a:srgbClr val="94c800"/>
            </a:solidFill>
            <a:miter/>
          </a:ln>
        </p:spPr>
      </p:pic>
      <p:sp>
        <p:nvSpPr>
          <p:cNvPr id="153" name="AutoShape 5"/>
          <p:cNvSpPr/>
          <p:nvPr/>
        </p:nvSpPr>
        <p:spPr>
          <a:xfrm>
            <a:off x="324000" y="474840"/>
            <a:ext cx="647640" cy="5833800"/>
          </a:xfrm>
          <a:prstGeom prst="plus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8245440" y="547560"/>
            <a:ext cx="647640" cy="5834160"/>
          </a:xfrm>
          <a:prstGeom prst="plus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1187280" y="144360"/>
            <a:ext cx="6842160" cy="6206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1187280" y="6021360"/>
            <a:ext cx="6842160" cy="62064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1379520" y="4580280"/>
            <a:ext cx="638352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Een onbekwame advocaat kan een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aanden of jaren ophoud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een bekwaam advocaat zelfs nog langer.</a:t>
            </a:r>
            <a:r>
              <a:rPr b="1" i="1" lang="nl-NL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1975"/>
            </a:gs>
            <a:gs pos="50000">
              <a:srgbClr val="c935fd"/>
            </a:gs>
            <a:gs pos="100000">
              <a:srgbClr val="5d197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3606-3C08-4933-804C-E2274D995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06"/>
          <p:cNvPicPr/>
          <p:nvPr/>
        </p:nvPicPr>
        <p:blipFill>
          <a:blip r:embed="rId1"/>
          <a:stretch/>
        </p:blipFill>
        <p:spPr>
          <a:xfrm>
            <a:off x="1547640" y="907920"/>
            <a:ext cx="5759640" cy="4656240"/>
          </a:xfrm>
          <a:prstGeom prst="rect">
            <a:avLst/>
          </a:prstGeom>
          <a:ln w="76320">
            <a:solidFill>
              <a:srgbClr val="da0ecb"/>
            </a:solidFill>
            <a:miter/>
          </a:ln>
        </p:spPr>
      </p:pic>
      <p:sp>
        <p:nvSpPr>
          <p:cNvPr id="160" name="Oval 5"/>
          <p:cNvSpPr/>
          <p:nvPr/>
        </p:nvSpPr>
        <p:spPr>
          <a:xfrm>
            <a:off x="466560" y="0"/>
            <a:ext cx="79236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7740720" y="0"/>
            <a:ext cx="79200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-34920" y="5734080"/>
            <a:ext cx="9144000" cy="576360"/>
          </a:xfrm>
          <a:prstGeom prst="irregularSeal2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-34920" y="189000"/>
            <a:ext cx="9144000" cy="576000"/>
          </a:xfrm>
          <a:prstGeom prst="irregularSeal2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050920" y="10515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Mijn vrouw is op die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kokosnoten en banan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Ze is niet afgeval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66ff"/>
                </a:solidFill>
                <a:latin typeface="Arial"/>
              </a:rPr>
              <a:t>maar ze kan wel in een boom klimme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162"/>
            </a:gs>
            <a:gs pos="50000">
              <a:srgbClr val="6f6ad4"/>
            </a:gs>
            <a:gs pos="100000">
              <a:srgbClr val="33316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98E0-CE01-4DBE-B8CB-50B747BA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!cid_006f01c5bffc$842d43f0$6500a8c0@GEORGES"/>
          <p:cNvPicPr/>
          <p:nvPr/>
        </p:nvPicPr>
        <p:blipFill>
          <a:blip r:embed="rId1"/>
          <a:stretch/>
        </p:blipFill>
        <p:spPr>
          <a:xfrm>
            <a:off x="898560" y="879480"/>
            <a:ext cx="7273800" cy="484992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168" name="AutoShape 5"/>
          <p:cNvSpPr/>
          <p:nvPr/>
        </p:nvSpPr>
        <p:spPr>
          <a:xfrm>
            <a:off x="250920" y="115920"/>
            <a:ext cx="503280" cy="6859440"/>
          </a:xfrm>
          <a:custGeom>
            <a:avLst/>
            <a:gdLst>
              <a:gd name="textAreaLeft" fmla="*/ 0 w 503280"/>
              <a:gd name="textAreaRight" fmla="*/ 503640 w 503280"/>
              <a:gd name="textAreaTop" fmla="*/ 1714680 h 6859440"/>
              <a:gd name="textAreaBottom" fmla="*/ 5144760 h 6859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8389800" y="0"/>
            <a:ext cx="503280" cy="6859440"/>
          </a:xfrm>
          <a:custGeom>
            <a:avLst/>
            <a:gdLst>
              <a:gd name="textAreaLeft" fmla="*/ 0 w 503280"/>
              <a:gd name="textAreaRight" fmla="*/ 503640 w 503280"/>
              <a:gd name="textAreaTop" fmla="*/ 1714680 h 6859440"/>
              <a:gd name="textAreaBottom" fmla="*/ 5144760 h 6859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1042920" y="115920"/>
            <a:ext cx="7058160" cy="71928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1042920" y="5950080"/>
            <a:ext cx="7058160" cy="71892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128600" y="1222560"/>
            <a:ext cx="6885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Sommige politiekers zou je tweemaal en m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willen begrav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nl-NL" sz="2000" spc="-1" strike="noStrike">
                <a:solidFill>
                  <a:srgbClr val="ff9900"/>
                </a:solidFill>
                <a:latin typeface="Arial"/>
              </a:rPr>
              <a:t>om zeker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4e76"/>
            </a:gs>
            <a:gs pos="50000">
              <a:srgbClr val="ffa9ff"/>
            </a:gs>
            <a:gs pos="100000">
              <a:srgbClr val="764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45C-5DEF-40CF-8899-8498AA5C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!cid_005501c5bffc$842d43f0$6500a8c0@GEORGES"/>
          <p:cNvPicPr/>
          <p:nvPr/>
        </p:nvPicPr>
        <p:blipFill>
          <a:blip r:embed="rId1"/>
          <a:stretch/>
        </p:blipFill>
        <p:spPr>
          <a:xfrm>
            <a:off x="826920" y="1108080"/>
            <a:ext cx="7469280" cy="4721400"/>
          </a:xfrm>
          <a:prstGeom prst="rect">
            <a:avLst/>
          </a:prstGeom>
          <a:ln w="0">
            <a:noFill/>
          </a:ln>
        </p:spPr>
      </p:pic>
      <p:sp>
        <p:nvSpPr>
          <p:cNvPr id="175" name="Oval 5"/>
          <p:cNvSpPr/>
          <p:nvPr/>
        </p:nvSpPr>
        <p:spPr>
          <a:xfrm>
            <a:off x="395280" y="0"/>
            <a:ext cx="57636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8172360" y="0"/>
            <a:ext cx="57636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0" y="5734080"/>
            <a:ext cx="9144000" cy="503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36360" y="692280"/>
            <a:ext cx="9144000" cy="503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0" y="5256360"/>
            <a:ext cx="1619280" cy="1557360"/>
          </a:xfrm>
          <a:prstGeom prst="irregularSeal1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7451640" y="5229360"/>
            <a:ext cx="1619280" cy="1557360"/>
          </a:xfrm>
          <a:prstGeom prst="irregularSeal1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7524720" y="189000"/>
            <a:ext cx="1619280" cy="1557360"/>
          </a:xfrm>
          <a:prstGeom prst="irregularSeal1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0" y="115920"/>
            <a:ext cx="1619280" cy="1557360"/>
          </a:xfrm>
          <a:prstGeom prst="irregularSeal1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ffb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128600" y="5063040"/>
            <a:ext cx="688680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b1ff"/>
                </a:solidFill>
                <a:latin typeface="Arial"/>
              </a:rPr>
              <a:t>Sinds ik in de auto een bril dra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b1ff"/>
                </a:solidFill>
                <a:latin typeface="Arial"/>
              </a:rPr>
              <a:t>is het verkeer veel drukker geworden.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2800"/>
            </a:gs>
            <a:gs pos="50000">
              <a:srgbClr val="ac5600"/>
            </a:gs>
            <a:gs pos="100000">
              <a:srgbClr val="5028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0154-59EB-44DB-A9D1-AA1FA2BAB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357200" y="4858920"/>
            <a:ext cx="14736960" cy="94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b1ff"/>
                </a:solidFill>
                <a:latin typeface="Arial"/>
              </a:rPr>
              <a:t>Sinds ik in de auto een bril draa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b1ff"/>
                </a:solidFill>
                <a:latin typeface="Arial"/>
              </a:rPr>
              <a:t>is het verkeer veel drukker geworde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187280" y="907920"/>
            <a:ext cx="6624720" cy="496908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6920" y="620640"/>
            <a:ext cx="7344000" cy="561672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28760" y="357120"/>
            <a:ext cx="8208720" cy="626436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Figuur3"/>
          <p:cNvPicPr/>
          <p:nvPr/>
        </p:nvPicPr>
        <p:blipFill>
          <a:blip r:embed="rId1"/>
          <a:stretch/>
        </p:blipFill>
        <p:spPr>
          <a:xfrm>
            <a:off x="971640" y="620640"/>
            <a:ext cx="7200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0"/>
          <p:cNvSpPr/>
          <p:nvPr/>
        </p:nvSpPr>
        <p:spPr>
          <a:xfrm>
            <a:off x="34920" y="100080"/>
            <a:ext cx="8964720" cy="6784920"/>
          </a:xfrm>
          <a:prstGeom prst="rect">
            <a:avLst/>
          </a:prstGeom>
          <a:noFill/>
          <a:ln w="76320">
            <a:solidFill>
              <a:srgbClr val="d8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1403280" y="3429000"/>
            <a:ext cx="6335640" cy="2228760"/>
          </a:xfrm>
          <a:custGeom>
            <a:avLst/>
            <a:gdLst>
              <a:gd name="textAreaLeft" fmla="*/ 0 w 6335640"/>
              <a:gd name="textAreaRight" fmla="*/ 6336000 w 6335640"/>
              <a:gd name="textAreaTop" fmla="*/ 288720 h 2228760"/>
              <a:gd name="textAreaBottom" fmla="*/ 1940040 h 22287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a05000"/>
          </a:solidFill>
          <a:ln w="7632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Wanneer je de draad kwijt b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en een steek laat val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cc00"/>
                </a:solidFill>
                <a:latin typeface="Arial"/>
              </a:rPr>
              <a:t>is er maar één oplossing, de knoop doorhak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1557360"/>
            <a:ext cx="3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2e00"/>
            </a:gs>
            <a:gs pos="50000">
              <a:srgbClr val="ff9933"/>
            </a:gs>
            <a:gs pos="100000">
              <a:srgbClr val="f42e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070-0C9F-4F4E-AF48-438B63B4A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7" descr="landscape06"/>
          <p:cNvPicPr/>
          <p:nvPr/>
        </p:nvPicPr>
        <p:blipFill>
          <a:blip r:embed="rId1"/>
          <a:stretch/>
        </p:blipFill>
        <p:spPr>
          <a:xfrm>
            <a:off x="1187280" y="836640"/>
            <a:ext cx="6840720" cy="513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196" name="Rectangle 18"/>
          <p:cNvSpPr/>
          <p:nvPr/>
        </p:nvSpPr>
        <p:spPr>
          <a:xfrm>
            <a:off x="216000" y="476280"/>
            <a:ext cx="755640" cy="568944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8900000"/>
          </a:gradFill>
          <a:ln w="7632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9"/>
          <p:cNvSpPr/>
          <p:nvPr/>
        </p:nvSpPr>
        <p:spPr>
          <a:xfrm>
            <a:off x="324000" y="835200"/>
            <a:ext cx="502920" cy="5186160"/>
          </a:xfrm>
          <a:prstGeom prst="pi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8209080" y="476280"/>
            <a:ext cx="755640" cy="568944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18900000"/>
          </a:gradFill>
          <a:ln w="76320">
            <a:solidFill>
              <a:srgbClr val="f0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1"/>
          <p:cNvSpPr/>
          <p:nvPr/>
        </p:nvSpPr>
        <p:spPr>
          <a:xfrm>
            <a:off x="8317080" y="765000"/>
            <a:ext cx="502920" cy="5186520"/>
          </a:xfrm>
          <a:prstGeom prst="pi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2"/>
          <p:cNvSpPr/>
          <p:nvPr/>
        </p:nvSpPr>
        <p:spPr>
          <a:xfrm>
            <a:off x="1116000" y="71280"/>
            <a:ext cx="6913440" cy="54936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1042920" y="6093000"/>
            <a:ext cx="6913800" cy="5490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Rechthoek 10" descr=""/>
          <p:cNvPicPr/>
          <p:nvPr/>
        </p:nvPicPr>
        <p:blipFill>
          <a:blip r:embed="rId6"/>
          <a:stretch/>
        </p:blipFill>
        <p:spPr>
          <a:xfrm>
            <a:off x="1322280" y="2749680"/>
            <a:ext cx="2975040" cy="11458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00"/>
            </a:gs>
            <a:gs pos="50000">
              <a:srgbClr val="99cc00"/>
            </a:gs>
            <a:gs pos="100000">
              <a:srgbClr val="475e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BC7E-B928-41D7-B602-B202A1770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5" descr="3d_559"/>
          <p:cNvPicPr/>
          <p:nvPr/>
        </p:nvPicPr>
        <p:blipFill>
          <a:blip r:embed="rId1"/>
          <a:stretch/>
        </p:blipFill>
        <p:spPr>
          <a:xfrm>
            <a:off x="826920" y="500040"/>
            <a:ext cx="7561440" cy="5665680"/>
          </a:xfrm>
          <a:prstGeom prst="rect">
            <a:avLst/>
          </a:prstGeom>
          <a:ln w="76320">
            <a:solidFill>
              <a:srgbClr val="99cc00"/>
            </a:solidFill>
            <a:miter/>
          </a:ln>
        </p:spPr>
      </p:pic>
      <p:pic>
        <p:nvPicPr>
          <p:cNvPr id="60" name="Picture 37" descr="Knipoog"/>
          <p:cNvPicPr/>
          <p:nvPr/>
        </p:nvPicPr>
        <p:blipFill>
          <a:blip r:embed="rId2"/>
          <a:stretch/>
        </p:blipFill>
        <p:spPr>
          <a:xfrm>
            <a:off x="971640" y="2637000"/>
            <a:ext cx="1231920" cy="1439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0"/>
          <p:cNvSpPr/>
          <p:nvPr/>
        </p:nvSpPr>
        <p:spPr>
          <a:xfrm>
            <a:off x="857160" y="571680"/>
            <a:ext cx="7459920" cy="1313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Ik kon niet geloven dat je in het ziekenhuis l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Gisterenavond zag ik je 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met een mooie blonde vrou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Dat klopt, haar man zag mij ook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0"/>
            <a:ext cx="252360" cy="685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4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700"/>
            </a:gs>
            <a:gs pos="50000">
              <a:srgbClr val="007600"/>
            </a:gs>
            <a:gs pos="100000">
              <a:srgbClr val="0037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3B8F-4E33-4EBE-AAA1-BBC07E2F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3d_586"/>
          <p:cNvPicPr/>
          <p:nvPr/>
        </p:nvPicPr>
        <p:blipFill>
          <a:blip r:embed="rId1"/>
          <a:stretch/>
        </p:blipFill>
        <p:spPr>
          <a:xfrm>
            <a:off x="971640" y="657360"/>
            <a:ext cx="7345440" cy="5508360"/>
          </a:xfrm>
          <a:prstGeom prst="rect">
            <a:avLst/>
          </a:prstGeom>
          <a:ln w="76320">
            <a:solidFill>
              <a:srgbClr val="a2dc00"/>
            </a:solidFill>
            <a:miter/>
          </a:ln>
        </p:spPr>
      </p:pic>
      <p:pic>
        <p:nvPicPr>
          <p:cNvPr id="69" name="Picture 10" descr="Figuur1"/>
          <p:cNvPicPr/>
          <p:nvPr/>
        </p:nvPicPr>
        <p:blipFill>
          <a:blip r:embed="rId2"/>
          <a:stretch/>
        </p:blipFill>
        <p:spPr>
          <a:xfrm>
            <a:off x="1069920" y="4365720"/>
            <a:ext cx="2133720" cy="1476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7"/>
          <p:cNvSpPr/>
          <p:nvPr/>
        </p:nvSpPr>
        <p:spPr>
          <a:xfrm>
            <a:off x="914400" y="6206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Uitspraak landlop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Men heeft mij maar één keer aan werk willen hel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Voor de rest zijn de mensen altijd vriendelijk tegen mij geweest</a:t>
            </a:r>
            <a:r>
              <a:rPr b="1" i="1" lang="en-SG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Vlinder3a"/>
          <p:cNvPicPr/>
          <p:nvPr/>
        </p:nvPicPr>
        <p:blipFill>
          <a:blip r:embed="rId3"/>
          <a:stretch/>
        </p:blipFill>
        <p:spPr>
          <a:xfrm>
            <a:off x="6929280" y="5000760"/>
            <a:ext cx="933480" cy="8474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BAE3-0C53-41B8-B0AE-B35A55B4B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d_560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5" name="Line 6"/>
          <p:cNvSpPr/>
          <p:nvPr/>
        </p:nvSpPr>
        <p:spPr>
          <a:xfrm>
            <a:off x="539640" y="2205000"/>
            <a:ext cx="1728720" cy="316872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1332000" y="1700280"/>
            <a:ext cx="431640" cy="453708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 flipH="1">
            <a:off x="1187280" y="2205000"/>
            <a:ext cx="936720" cy="3384720"/>
          </a:xfrm>
          <a:prstGeom prst="line">
            <a:avLst/>
          </a:prstGeom>
          <a:ln w="5724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sterrejje"/>
          <p:cNvPicPr/>
          <p:nvPr/>
        </p:nvPicPr>
        <p:blipFill>
          <a:blip r:embed="rId2"/>
          <a:stretch/>
        </p:blipFill>
        <p:spPr>
          <a:xfrm>
            <a:off x="1181160" y="1549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sterrejje"/>
          <p:cNvPicPr/>
          <p:nvPr/>
        </p:nvPicPr>
        <p:blipFill>
          <a:blip r:embed="rId3"/>
          <a:stretch/>
        </p:blipFill>
        <p:spPr>
          <a:xfrm>
            <a:off x="1042920" y="543888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sterrejje"/>
          <p:cNvPicPr/>
          <p:nvPr/>
        </p:nvPicPr>
        <p:blipFill>
          <a:blip r:embed="rId4"/>
          <a:stretch/>
        </p:blipFill>
        <p:spPr>
          <a:xfrm>
            <a:off x="1979640" y="20606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sterrejje"/>
          <p:cNvPicPr/>
          <p:nvPr/>
        </p:nvPicPr>
        <p:blipFill>
          <a:blip r:embed="rId5"/>
          <a:stretch/>
        </p:blipFill>
        <p:spPr>
          <a:xfrm>
            <a:off x="2116080" y="5221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sterrejje"/>
          <p:cNvPicPr/>
          <p:nvPr/>
        </p:nvPicPr>
        <p:blipFill>
          <a:blip r:embed="rId6"/>
          <a:stretch/>
        </p:blipFill>
        <p:spPr>
          <a:xfrm>
            <a:off x="1619280" y="6013440"/>
            <a:ext cx="295200" cy="29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sterrejje"/>
          <p:cNvPicPr/>
          <p:nvPr/>
        </p:nvPicPr>
        <p:blipFill>
          <a:blip r:embed="rId7"/>
          <a:stretch/>
        </p:blipFill>
        <p:spPr>
          <a:xfrm>
            <a:off x="395280" y="206064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Oval 15"/>
          <p:cNvSpPr/>
          <p:nvPr/>
        </p:nvSpPr>
        <p:spPr>
          <a:xfrm>
            <a:off x="6732720" y="1919160"/>
            <a:ext cx="2087280" cy="34545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ff9b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733320" y="455760"/>
            <a:ext cx="7677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leeft en je wordt oud,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het warm, je hebt het koud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liefde, je hebt haat,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hebt plezier en je hebt smaad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Je wordt oud,</a:t>
            </a:r>
            <a:br>
              <a:rPr sz="2000"/>
            </a:br>
            <a:r>
              <a:rPr b="1" i="1" lang="en-SG" sz="2000" spc="-1" strike="noStrike">
                <a:solidFill>
                  <a:srgbClr val="ffffcc"/>
                </a:solidFill>
                <a:latin typeface="Arial"/>
              </a:rPr>
              <a:t>Schat, staat de Bokma kou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1200"/>
            </a:gs>
            <a:gs pos="50000">
              <a:srgbClr val="c82600"/>
            </a:gs>
            <a:gs pos="100000">
              <a:srgbClr val="5d1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F111-8624-4464-80F2-241220BF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Figuur2"/>
          <p:cNvPicPr/>
          <p:nvPr/>
        </p:nvPicPr>
        <p:blipFill>
          <a:blip r:embed="rId1"/>
          <a:stretch/>
        </p:blipFill>
        <p:spPr>
          <a:xfrm>
            <a:off x="571680" y="5357880"/>
            <a:ext cx="2209680" cy="1009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876240" y="69120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Wat hebt u tegen ambtenare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 </a:t>
            </a:r>
            <a:r>
              <a:rPr b="1" i="1" lang="nl-NL" sz="2000" spc="-1" strike="noStrike">
                <a:solidFill>
                  <a:srgbClr val="ff832f"/>
                </a:solidFill>
                <a:latin typeface="Arial"/>
              </a:rPr>
              <a:t>Die mensen doen toch niks…</a:t>
            </a:r>
            <a:r>
              <a:rPr b="1" lang="nl-NL" sz="2000" spc="-1" strike="noStrike">
                <a:solidFill>
                  <a:srgbClr val="ff832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468360" y="547560"/>
            <a:ext cx="8280360" cy="6121440"/>
          </a:xfrm>
          <a:prstGeom prst="rect">
            <a:avLst/>
          </a:prstGeom>
          <a:noFill/>
          <a:ln w="76320">
            <a:solidFill>
              <a:srgbClr val="c8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Afbeelding 12" descr="garfield_011.gif"/>
          <p:cNvPicPr/>
          <p:nvPr/>
        </p:nvPicPr>
        <p:blipFill>
          <a:blip r:embed="rId2"/>
          <a:stretch/>
        </p:blipFill>
        <p:spPr>
          <a:xfrm>
            <a:off x="2214720" y="2500200"/>
            <a:ext cx="2971800" cy="302904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14" descr="garfield_011.gif"/>
          <p:cNvPicPr/>
          <p:nvPr/>
        </p:nvPicPr>
        <p:blipFill>
          <a:blip r:embed="rId3"/>
          <a:stretch/>
        </p:blipFill>
        <p:spPr>
          <a:xfrm>
            <a:off x="5786280" y="3357720"/>
            <a:ext cx="2971800" cy="302868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15" descr="garfield_011.gif"/>
          <p:cNvPicPr/>
          <p:nvPr/>
        </p:nvPicPr>
        <p:blipFill>
          <a:blip r:embed="rId4"/>
          <a:stretch/>
        </p:blipFill>
        <p:spPr>
          <a:xfrm>
            <a:off x="4000680" y="3143160"/>
            <a:ext cx="2971800" cy="3029040"/>
          </a:xfrm>
          <a:prstGeom prst="rect">
            <a:avLst/>
          </a:prstGeom>
          <a:ln w="0">
            <a:noFill/>
          </a:ln>
        </p:spPr>
      </p:pic>
      <p:pic>
        <p:nvPicPr>
          <p:cNvPr id="93" name="Afbeelding 16" descr="garfield_011.gif"/>
          <p:cNvPicPr/>
          <p:nvPr/>
        </p:nvPicPr>
        <p:blipFill>
          <a:blip r:embed="rId5"/>
          <a:stretch/>
        </p:blipFill>
        <p:spPr>
          <a:xfrm>
            <a:off x="214200" y="2143080"/>
            <a:ext cx="2971800" cy="3029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3e76"/>
            </a:gs>
            <a:gs pos="50000">
              <a:srgbClr val="c285ff"/>
            </a:gs>
            <a:gs pos="100000">
              <a:srgbClr val="5a3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F948-FE12-4FF0-BFD8-66F391890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misc10"/>
          <p:cNvPicPr/>
          <p:nvPr/>
        </p:nvPicPr>
        <p:blipFill>
          <a:blip r:embed="rId1"/>
          <a:stretch/>
        </p:blipFill>
        <p:spPr>
          <a:xfrm>
            <a:off x="539640" y="765000"/>
            <a:ext cx="7993080" cy="5200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611280" y="76500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466560" y="765000"/>
            <a:ext cx="7993080" cy="5185080"/>
          </a:xfrm>
          <a:prstGeom prst="rect">
            <a:avLst/>
          </a:prstGeom>
          <a:noFill/>
          <a:ln w="7632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468360" y="3860640"/>
            <a:ext cx="7632720" cy="1800360"/>
          </a:xfrm>
          <a:prstGeom prst="leftArrow">
            <a:avLst>
              <a:gd name="adj1" fmla="val 50000"/>
              <a:gd name="adj2" fmla="val 105989"/>
            </a:avLst>
          </a:prstGeom>
          <a:solidFill>
            <a:srgbClr val="cc66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000000"/>
                </a:solidFill>
                <a:latin typeface="Arial"/>
              </a:rPr>
              <a:t>Waar is de tijd dat 'veilig vrijen' beteke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000000"/>
                </a:solidFill>
                <a:latin typeface="Arial"/>
              </a:rPr>
              <a:t>dat je ouders een weekendje uit huis war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042920" y="981000"/>
            <a:ext cx="194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4e76"/>
            </a:gs>
            <a:gs pos="50000">
              <a:srgbClr val="7da8ff"/>
            </a:gs>
            <a:gs pos="100000">
              <a:srgbClr val="3a4e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7378-EC2C-404B-95DD-D6696E029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animal-18"/>
          <p:cNvPicPr/>
          <p:nvPr/>
        </p:nvPicPr>
        <p:blipFill>
          <a:blip r:embed="rId1"/>
          <a:stretch/>
        </p:blipFill>
        <p:spPr>
          <a:xfrm>
            <a:off x="928800" y="928800"/>
            <a:ext cx="6913440" cy="5130720"/>
          </a:xfrm>
          <a:prstGeom prst="rect">
            <a:avLst/>
          </a:prstGeom>
          <a:ln w="0">
            <a:noFill/>
          </a:ln>
        </p:spPr>
      </p:pic>
      <p:sp>
        <p:nvSpPr>
          <p:cNvPr id="102" name="Oval 19"/>
          <p:cNvSpPr/>
          <p:nvPr/>
        </p:nvSpPr>
        <p:spPr>
          <a:xfrm>
            <a:off x="539640" y="0"/>
            <a:ext cx="647640" cy="68594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0"/>
          <p:cNvSpPr/>
          <p:nvPr/>
        </p:nvSpPr>
        <p:spPr>
          <a:xfrm>
            <a:off x="7885080" y="0"/>
            <a:ext cx="647640" cy="68594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0" y="5000760"/>
            <a:ext cx="9144000" cy="718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"/>
          <p:cNvSpPr/>
          <p:nvPr/>
        </p:nvSpPr>
        <p:spPr>
          <a:xfrm>
            <a:off x="0" y="406440"/>
            <a:ext cx="9144000" cy="718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3714840" y="5300640"/>
            <a:ext cx="1584360" cy="1557360"/>
          </a:xfrm>
          <a:prstGeom prst="irregularSeal1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7559640" y="2637000"/>
            <a:ext cx="1584360" cy="1557000"/>
          </a:xfrm>
          <a:prstGeom prst="irregularSeal1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3851280" y="0"/>
            <a:ext cx="1584360" cy="1557360"/>
          </a:xfrm>
          <a:prstGeom prst="irregularSeal1">
            <a:avLst/>
          </a:prstGeom>
          <a:blipFill rotWithShape="0">
            <a:blip r:embed="rId8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0" y="2492280"/>
            <a:ext cx="1584360" cy="1557360"/>
          </a:xfrm>
          <a:prstGeom prst="irregularSeal1">
            <a:avLst/>
          </a:prstGeom>
          <a:blipFill rotWithShape="0">
            <a:blip r:embed="rId9"/>
            <a:srcRect/>
            <a:stretch/>
          </a:blipFill>
          <a:ln w="76320">
            <a:solidFill>
              <a:srgbClr val="639d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1128600" y="1411920"/>
            <a:ext cx="68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cc"/>
                </a:solidFill>
                <a:latin typeface="Arial"/>
              </a:rPr>
              <a:t>Aantrekkelijkheid is beter dan schoon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3271"/>
            </a:gs>
            <a:gs pos="50000">
              <a:srgbClr val="036bf5"/>
            </a:gs>
            <a:gs pos="100000">
              <a:srgbClr val="01327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63C-7F3E-47E1-838B-EDC1FB07E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eroded"/>
          <p:cNvPicPr/>
          <p:nvPr/>
        </p:nvPicPr>
        <p:blipFill>
          <a:blip r:embed="rId1"/>
          <a:stretch/>
        </p:blipFill>
        <p:spPr>
          <a:xfrm>
            <a:off x="1260360" y="765000"/>
            <a:ext cx="6624720" cy="4969080"/>
          </a:xfrm>
          <a:prstGeom prst="rect">
            <a:avLst/>
          </a:prstGeom>
          <a:ln w="76320">
            <a:solidFill>
              <a:srgbClr val="639deb"/>
            </a:solidFill>
            <a:miter/>
          </a:ln>
        </p:spPr>
      </p:pic>
      <p:sp>
        <p:nvSpPr>
          <p:cNvPr id="113" name="AutoShape 5"/>
          <p:cNvSpPr/>
          <p:nvPr/>
        </p:nvSpPr>
        <p:spPr>
          <a:xfrm>
            <a:off x="216000" y="333360"/>
            <a:ext cx="684000" cy="2735280"/>
          </a:xfrm>
          <a:prstGeom prst="flowChartMerg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16000" y="3213000"/>
            <a:ext cx="684000" cy="280836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57240" y="2637000"/>
            <a:ext cx="914400" cy="914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8172360" y="477720"/>
            <a:ext cx="684360" cy="2735280"/>
          </a:xfrm>
          <a:prstGeom prst="flowChartMerg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172360" y="3357720"/>
            <a:ext cx="684360" cy="280800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"/>
          <p:cNvSpPr/>
          <p:nvPr/>
        </p:nvSpPr>
        <p:spPr>
          <a:xfrm>
            <a:off x="8028000" y="2708280"/>
            <a:ext cx="9144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1357200" y="6215040"/>
            <a:ext cx="6551640" cy="287280"/>
          </a:xfrm>
          <a:custGeom>
            <a:avLst/>
            <a:gdLst>
              <a:gd name="textAreaLeft" fmla="*/ 2699640 w 6551640"/>
              <a:gd name="textAreaRight" fmla="*/ 3852000 w 6551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1332000" y="262080"/>
            <a:ext cx="6551640" cy="287280"/>
          </a:xfrm>
          <a:custGeom>
            <a:avLst/>
            <a:gdLst>
              <a:gd name="textAreaLeft" fmla="*/ 2699640 w 6551640"/>
              <a:gd name="textAreaRight" fmla="*/ 3852000 w 6551640"/>
              <a:gd name="textAreaTop" fmla="*/ 118440 h 287280"/>
              <a:gd name="textAreaBottom" fmla="*/ 1688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1085760" y="1052640"/>
            <a:ext cx="6972480" cy="703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a8c9f4"/>
                </a:solidFill>
                <a:latin typeface="Arial"/>
              </a:rPr>
              <a:t>Ik discussieer graag met de jeug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a8c9f4"/>
                </a:solidFill>
                <a:latin typeface="Arial"/>
              </a:rPr>
              <a:t>ze herinnert mij eraan dat ik het vroeger ook niet w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de by Powerpoint J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FBE7-DFCA-4FBC-927A-A8EDF748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wans"/>
          <p:cNvPicPr/>
          <p:nvPr/>
        </p:nvPicPr>
        <p:blipFill>
          <a:blip r:embed="rId1"/>
          <a:stretch/>
        </p:blipFill>
        <p:spPr>
          <a:xfrm>
            <a:off x="1457280" y="907920"/>
            <a:ext cx="6499440" cy="487548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125" name="Oval 5"/>
          <p:cNvSpPr/>
          <p:nvPr/>
        </p:nvSpPr>
        <p:spPr>
          <a:xfrm>
            <a:off x="179280" y="2160720"/>
            <a:ext cx="863640" cy="3860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8317080" y="360360"/>
            <a:ext cx="718920" cy="342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547640" y="73080"/>
            <a:ext cx="6264360" cy="691920"/>
          </a:xfrm>
          <a:prstGeom prst="flowChartDecision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43040" y="6165720"/>
            <a:ext cx="6264360" cy="692280"/>
          </a:xfrm>
          <a:prstGeom prst="flowChartDecision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487520" y="4581360"/>
            <a:ext cx="616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Werken is goed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maar het mag niet teve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        </a:t>
            </a:r>
            <a:r>
              <a:rPr b="1" i="1" lang="en-SG" sz="2000" spc="-1" strike="noStrike">
                <a:solidFill>
                  <a:srgbClr val="ffffef"/>
                </a:solidFill>
                <a:latin typeface="Arial"/>
              </a:rPr>
              <a:t>van je vrije tijd in beslag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1:42:22Z</dcterms:created>
  <dc:creator>jos vervoort</dc:creator>
  <dc:description/>
  <dc:language>en-US</dc:language>
  <cp:lastModifiedBy>GRETA</cp:lastModifiedBy>
  <dcterms:modified xsi:type="dcterms:W3CDTF">2008-05-25T18:24:51Z</dcterms:modified>
  <cp:revision>20</cp:revision>
  <dc:subject/>
  <dc:title>Dia 1</dc:title>
</cp:coreProperties>
</file>