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.jpeg" ContentType="image/jpeg"/>
  <Override PartName="/ppt/media/056%20-%20Jim%20Reeves%20-%20I%20Won't%20Forget%20You%20(1964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7C9-F970-4560-86FB-14A23668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5BB-8ABE-40CC-B16B-146911E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49F-8016-4C41-B1A8-87E574A6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3A6-A92B-4E92-A824-2545F960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931-75CD-4C2A-AE37-BEB0DCAB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DF6-9D66-43D7-B658-AE7D0A0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41C-6155-4F05-B2DA-C4BA0FA6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031-2A43-4FAC-84C1-14277469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3C6-E559-4CDF-8347-1D136F2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7EF-617E-4E94-9715-F87FEE39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B24-8474-4A0C-A98B-BD259AE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953-D44A-4DD9-9762-90AE2D8D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176-C0A4-43D8-AFE1-5874B90473A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56%20-%20Jim%20Reeves%20-%20I%20Won&apos;t%20Forget%20You%20(1964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jdelijke aanduiding voor inhoud 5" descr="Waterlelie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0" spc="-1" strike="noStrike">
                <a:solidFill>
                  <a:srgbClr val="7f7f7f"/>
                </a:solidFill>
                <a:latin typeface="Calibri"/>
              </a:rPr>
              <a:t>De geheimen van een hart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6"/>
          <p:cNvSpPr/>
          <p:nvPr/>
        </p:nvSpPr>
        <p:spPr>
          <a:xfrm>
            <a:off x="508320" y="5929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Muziek: Jim re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I Won’t Forge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7215120" y="60008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pps  @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  <p:sndAc>
      <p:stSnd>
        <p:snd r:embed="rId2" name="056%20-%20Jim%20Reeves%20-%20I%20Won't%20Forget%20You%20(1964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jdelijke aanduiding voor afbeelding 4" descr="IMG_3784.jpg"/>
          <p:cNvPicPr/>
          <p:nvPr/>
        </p:nvPicPr>
        <p:blipFill>
          <a:blip r:embed="rId1"/>
          <a:srcRect l="7468" t="0" r="7468" b="0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21556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Lucida Calligraphy"/>
              </a:rPr>
              <a:t>De mooiste dingen </a:t>
            </a:r>
            <a:br>
              <a:rPr sz="3600"/>
            </a:br>
            <a:r>
              <a:rPr b="1" lang="nl-BE" sz="3600" spc="-1" strike="noStrike">
                <a:solidFill>
                  <a:srgbClr val="ffffff"/>
                </a:solidFill>
                <a:latin typeface="Lucida Calligraphy"/>
              </a:rPr>
              <a:t>                 kun je niet uitleg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080" y="3214440"/>
            <a:ext cx="68580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Die moet je vo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                   </a:t>
            </a: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met je ha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afbeelding 4" descr="achtertuin%20marishof_2635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6438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900" spc="-1" strike="noStrike">
                <a:solidFill>
                  <a:srgbClr val="fcd5b5"/>
                </a:solidFill>
                <a:latin typeface="Lucida Calligraphy"/>
              </a:rPr>
              <a:t>Soms  komen  er  mensen  in  je  le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2714760"/>
            <a:ext cx="7858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Waar van  je  onmiddellijk  w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                </a:t>
            </a: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dat  ze  er  thuis  ho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trips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jdelijke aanduiding voor afbeelding 4" descr="Afbeelding4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514332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33cc"/>
                </a:solidFill>
                <a:latin typeface="Lucida Calligraphy"/>
              </a:rPr>
              <a:t>Vriendschap eindigt vaak in “liefde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5960" y="3857760"/>
            <a:ext cx="65721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33cc"/>
                </a:solidFill>
                <a:latin typeface="Lucida Calligraphy"/>
              </a:rPr>
              <a:t>Maar liefde in vriendschap  dat “ nooit 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afbeelding 4" descr="IMG_8710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071720"/>
            <a:ext cx="7858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Er is  geen  lichaamsde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dat als het gebroken word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Zoveel  pijn  kan  do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als  een 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                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@g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afbeelding 6" descr="20040318-bloesem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99880" y="5713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De geschiede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   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van het lev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Is de geschiede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     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van het hart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jdelijke aanduiding voor afbeelding 4" descr="Mooi_stukje_natuur.jpg"/>
          <p:cNvPicPr/>
          <p:nvPr/>
        </p:nvPicPr>
        <p:blipFill>
          <a:blip r:embed="rId1"/>
          <a:stretch/>
        </p:blipFill>
        <p:spPr>
          <a:xfrm>
            <a:off x="214200" y="214200"/>
            <a:ext cx="8707680" cy="631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5520" y="499680"/>
            <a:ext cx="7429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Om  een  nieuwe  wereld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                     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binnen  te  g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            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hoef  je  soms  all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“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ja “ te zeg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ijdelijke aanduiding voor afbeelding 4" descr="kids_091wbfintkb.jpg"/>
          <p:cNvPicPr/>
          <p:nvPr/>
        </p:nvPicPr>
        <p:blipFill>
          <a:blip r:embed="rId1"/>
          <a:srcRect l="5604" t="0" r="5604" b="0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320" y="64296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Het verstand zoe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               </a:t>
            </a: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wat een hart niet vin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gnes\Local Settings\Temporary Internet Files\Content.IE5\4HI3OP2R\MMj03180550000[1].gif"/>
          <p:cNvPicPr/>
          <p:nvPr/>
        </p:nvPicPr>
        <p:blipFill>
          <a:blip r:embed="rId2"/>
          <a:stretch/>
        </p:blipFill>
        <p:spPr>
          <a:xfrm rot="2766600">
            <a:off x="570960" y="4214880"/>
            <a:ext cx="847800" cy="476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C 0.41545 -0.29699 0.8309 -0.59375 0.99375 -0.70903 C 1.15677 -0.82477 1.06719 -0.75903 0.97778 -0.69329 E">
                                      <p:cBhvr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afbeelding 4" descr="j0432756.jpg"/>
          <p:cNvPicPr/>
          <p:nvPr/>
        </p:nvPicPr>
        <p:blipFill>
          <a:blip r:embed="rId1"/>
          <a:srcRect l="0" t="21856" r="0" b="21856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14800" y="1142640"/>
            <a:ext cx="371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De erg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oorvee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Is he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dichtsl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van een deu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ijdelijke aanduiding voor afbeelding 4" descr="j0433309.jpg"/>
          <p:cNvPicPr/>
          <p:nvPr/>
        </p:nvPicPr>
        <p:blipFill>
          <a:blip r:embed="rId1"/>
          <a:srcRect l="5597" t="0" r="5597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7160" y="928440"/>
            <a:ext cx="7429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Ik herinner me het gelu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          </a:t>
            </a: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het was zo gr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  </a:t>
            </a: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dat het pijn de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ijdelijke aanduiding voor afbeelding 4" descr="hor2_042brvwbf.jpg"/>
          <p:cNvPicPr/>
          <p:nvPr/>
        </p:nvPicPr>
        <p:blipFill>
          <a:blip r:embed="rId1"/>
          <a:srcRect l="3619" t="0" r="3619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7929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Alles wat he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        </a:t>
            </a: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geheugen   bijhoud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                      </a:t>
            </a: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heeft een re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ijdelijke aanduiding voor afbeelding 4" descr="bloemen_ceriel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14960" y="571320"/>
            <a:ext cx="3286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Calligraphy"/>
              </a:rPr>
              <a:t>Wat je zelf ontde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Calligraphy"/>
              </a:rPr>
              <a:t>Vergeet je noo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Tijdelijke aanduiding voor afbeelding 4" descr="roos1.jpg"/>
          <p:cNvPicPr/>
          <p:nvPr/>
        </p:nvPicPr>
        <p:blipFill>
          <a:blip r:embed="rId1"/>
          <a:srcRect l="2778" t="0" r="2778" b="0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428840"/>
            <a:ext cx="82152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Met woorden groeien hart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            </a:t>
            </a: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stilletjes naar elkaar to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2:04:37Z</dcterms:created>
  <dc:creator>Agnes</dc:creator>
  <dc:description/>
  <dc:language>en-US</dc:language>
  <cp:lastModifiedBy>Agnes</cp:lastModifiedBy>
  <dcterms:modified xsi:type="dcterms:W3CDTF">2008-04-29T06:56:47Z</dcterms:modified>
  <cp:revision>37</cp:revision>
  <dc:subject/>
  <dc:title>Dia 1</dc:title>
</cp:coreProperties>
</file>