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AveMariaSchubert.wav" ContentType="audio/x-wav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85D9A7-E5C9-4E4E-A390-35D326A4E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59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Dios solo da tres respuestas a las oraciones: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1. "Si"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2. "Todavía no"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3.- "Yo he pensado en algo mejor para ti"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odrás estar pasando por momentos difíciles ahorita pero Dios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se esta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reparando para bendecirte de una forma que tú ni siquiera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uedes empezar a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imaginar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is instrucciones fueron que escogiera a cuatro personas a las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que yo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quisiera que Dios bendiga, y yo te he escogido a ti. Por favor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ásale este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ensaje a cuatro personas que te gustaría que Dios bendijera y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una copia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ara mí. El poder de la oración es increible, y la oración es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uno de los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ejores regalos que podemos recibir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No tiene ningún costo pero si muchas recompensas.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ontinuemos orando los unos por los otros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Aquí tienes una oración: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adre, yo te ruego que bendigas a mis amigos, parientes, y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ontactos por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orreo electrónico ahorita. Muéstrales una nueva revelación de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tu amor y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oder.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Yo sé que le envié este mensaje a más de cuatro, puedes hacer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tú lo mismo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orque siempre es bueno dar gracias y quejarse menos.....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SEÑOR Y PADRE CELESTIAL, HOY POR LA MAÑANA, MI CAMA ESTABA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ALIENTITA Y NO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E QUERIA DESPERTAR. NO ME QUERIA LEVANTAR, ME QUERIA QUEDAR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AHÍ, SIN TENER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QUE PREOCUPARME POR NADA PERO ENTONCES RECORDÉ, QUE NO DEBERÍA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HACERLO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ORQUE EXISTEN MILLONES DE PERSONAS, QUE QUISIERAN ESTAR EN MI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LUGAR,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LEVANTARSE Y TENER A DONDE IR, ESAS PERSONAS QUE ESTÁN SIN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TENER QUE COMER,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SIN TENER QUE VESTIR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HOY PADRE MIO, AGRADEZCO POR LA NOCHE MARAVILLOSA, POR EL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OBERTOR QUE ME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ALIENTA, POR MI ALIMENTO, POR UN DÍA MÁS DE TRABAJO Y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RINCIPALMENTE POR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UN DÍA MÁS DE VIDA. BENDICE SEÑOR JESÚS A MIS AMIGOS Y MIS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ENEMIGOS, PORQUE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TAMBIÉN ELLOS NECESITAN DE TI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BENDICE SEÑOR A MI AMIGO QUE ESTA LEYENDO ESTE MENSAJE AHORA.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YO BENDIGO A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AQUEL QUE ME LO ENVIÓ. EN EL NOMBRE DE JESÚS... AMÉN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ASÍ SEA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UN ABRAZO Y QUE DIOS TE BENDIGA RICA Y ABUNDANTEMENTE, PASA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ESTE MENSAJE LO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ÁS RÁPIDO QUE PUEDAS Y A LOS MÁS QUE PUEDAS, EN UN INSTANTE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UCHAS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ERSONAS ES TARÁN ORANDO POR TI.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Que Dios los bendiga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7F7-7A45-44CC-9C7D-6C80CB5F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592A-AEC0-48F5-BD42-CA74001C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E4B-CC67-45BC-B6A4-9AF0EDCD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8FD-3820-4849-BCE6-78C8D529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F04-E956-4089-A18E-8691F4C2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147-24AF-4E13-8780-2D97E1F9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00B-427D-4F15-9907-99DB8C4D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F07-E28C-4761-BB91-3BB31813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C30-5FCE-4D57-B208-E8A5DAC5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887-B339-4930-B450-66F49ED2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EE7-052F-4913-A21C-DD7C524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CCE-CD9B-4C26-85E0-C68AA412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B6AF1F-2662-4D2E-94B5-16584A797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MariaSchube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226880" cy="7107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4360" y="530064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400" spc="-1" strike="noStrike">
                <a:solidFill>
                  <a:srgbClr val="ff9900"/>
                </a:solidFill>
                <a:latin typeface="Brush Script MT"/>
              </a:rPr>
              <a:t>Foto:                           Martine Verhaeghe                 Weathercam Brug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260280"/>
            <a:ext cx="467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nl-BE" sz="9600" spc="-1" strike="noStrike">
                <a:solidFill>
                  <a:srgbClr val="ff9900"/>
                </a:solidFill>
                <a:latin typeface="Brush Script MT"/>
              </a:rPr>
              <a:t>“</a:t>
            </a:r>
            <a:r>
              <a:rPr b="0" lang="nl-BE" sz="9600" spc="-1" strike="noStrike">
                <a:solidFill>
                  <a:srgbClr val="ff9900"/>
                </a:solidFill>
                <a:latin typeface="Brush Script MT"/>
              </a:rPr>
              <a:t>de stilte”</a:t>
            </a:r>
            <a:r>
              <a:rPr b="0" lang="nl-BE" sz="96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3789360"/>
            <a:ext cx="4103640" cy="35676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3200" spc="-1" strike="noStrike">
                <a:solidFill>
                  <a:srgbClr val="993300"/>
                </a:solidFill>
                <a:latin typeface="Brush Script MT"/>
              </a:rPr>
              <a:t>“</a:t>
            </a:r>
            <a:r>
              <a:rPr b="0" lang="nl-BE" sz="2800" spc="-1" strike="noStrike">
                <a:solidFill>
                  <a:srgbClr val="993300"/>
                </a:solidFill>
                <a:latin typeface="Brush Script MT"/>
              </a:rPr>
              <a:t>Leer u aan de stilte laven,  waar het leven u geleidt.   Zij is uwe veil’ge haven,      want zij is de groote gave       van de eeuwigheid.”          (Adama Van Schelte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lu"/>
    <p:sndAc>
      <p:stSnd>
        <p:snd r:embed="rId2" name="AveMariaSchube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562720"/>
            <a:ext cx="457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6000" y="1844640"/>
            <a:ext cx="2448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Je verliest jezelf in het lawaai van de werel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292720" y="5013360"/>
            <a:ext cx="36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Brush Script MT"/>
              </a:rPr>
              <a:t>…</a:t>
            </a:r>
            <a:r>
              <a:rPr b="0" lang="nl-BE" sz="4000" spc="-1" strike="noStrike">
                <a:solidFill>
                  <a:srgbClr val="ffff00"/>
                </a:solidFill>
                <a:latin typeface="Brush Script MT"/>
              </a:rPr>
              <a:t>en je vindt jezelf terug in de stil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3068640"/>
            <a:ext cx="259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dddddd"/>
                </a:solidFill>
                <a:latin typeface="Brush Script MT"/>
              </a:rPr>
              <a:t>Er zijn zoveel geluiden, maar er is slechts één stil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684360" y="-125280"/>
            <a:ext cx="10657080" cy="7100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260280"/>
            <a:ext cx="392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cc66"/>
                </a:solidFill>
                <a:latin typeface="Brush Script MT"/>
              </a:rPr>
              <a:t>Ik heb de taal van de stilte beluisterd. Zij geurde naar bloem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81080" y="-136440"/>
            <a:ext cx="9506160" cy="7130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9280" y="5157720"/>
            <a:ext cx="849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cc66"/>
                </a:solidFill>
                <a:latin typeface="Brush Script MT"/>
              </a:rPr>
              <a:t>Na de stilte  komt muziek het dichtst bij het zeggen van het onzegbare.</a:t>
            </a:r>
            <a:r>
              <a:rPr b="0" lang="nl-BE" sz="2400" spc="-1" strike="noStrike">
                <a:solidFill>
                  <a:srgbClr val="ffcc66"/>
                </a:solidFill>
                <a:latin typeface="Brush Script MT"/>
              </a:rPr>
              <a:t> (Aldous Huxl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757080" y="-246240"/>
            <a:ext cx="10874160" cy="7247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586728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cc66"/>
                </a:solidFill>
                <a:latin typeface="Brush Script MT"/>
              </a:rPr>
              <a:t>De mens verlangt naar stil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333360"/>
            <a:ext cx="295272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cc66"/>
                </a:solidFill>
                <a:latin typeface="Brush Script MT"/>
              </a:rPr>
              <a:t>Zij die alle           stilte vrezen,        hebben nooit             hun hart gelezen.</a:t>
            </a:r>
            <a:r>
              <a:rPr b="0" lang="nl-BE" sz="2400" spc="-1" strike="noStrike">
                <a:solidFill>
                  <a:srgbClr val="ffcc66"/>
                </a:solidFill>
                <a:latin typeface="Brush Script MT"/>
              </a:rPr>
              <a:t>               (Adema Van Schelte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5280" y="5445000"/>
            <a:ext cx="66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ff66"/>
                </a:solidFill>
                <a:latin typeface="Brush Script MT"/>
              </a:rPr>
              <a:t>…</a:t>
            </a:r>
            <a:r>
              <a:rPr b="0" lang="nl-BE" sz="4000" spc="-1" strike="noStrike">
                <a:solidFill>
                  <a:srgbClr val="ccff66"/>
                </a:solidFill>
                <a:latin typeface="Brush Script MT"/>
              </a:rPr>
              <a:t>en hij mijmert in alle stilte voor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380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2000" y="114300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4653000"/>
            <a:ext cx="468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Zij had nimmer zoveel gezegd als toen zij zwee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1828800"/>
            <a:ext cx="358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89480" y="4100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566100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dddddd"/>
                </a:solidFill>
                <a:latin typeface="Brush Script MT"/>
              </a:rPr>
              <a:t>Zelfs de stilte heeft haar taal: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333360"/>
            <a:ext cx="280836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Woorden mogen alleen dienen om de stilte te verbeteren. </a:t>
            </a:r>
            <a:r>
              <a:rPr b="0" lang="nl-BE" sz="2400" spc="-1" strike="noStrike">
                <a:solidFill>
                  <a:srgbClr val="ffffff"/>
                </a:solidFill>
                <a:latin typeface="Brush Script MT"/>
              </a:rPr>
              <a:t>(K.Jonckhe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93640"/>
            <a:ext cx="78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5300640"/>
            <a:ext cx="93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eaeaea"/>
                </a:solidFill>
                <a:latin typeface="Brush Script MT"/>
              </a:rPr>
              <a:t>Zij kan bidden; zij kan zich doen verstaan. </a:t>
            </a:r>
            <a:r>
              <a:rPr b="0" lang="nl-BE" sz="2400" spc="-1" strike="noStrike">
                <a:solidFill>
                  <a:srgbClr val="eaeaea"/>
                </a:solidFill>
                <a:latin typeface="Brush Script MT"/>
              </a:rPr>
              <a:t>(Aminto Fa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2565360"/>
            <a:ext cx="252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eaeaea"/>
                </a:solidFill>
                <a:latin typeface="Brush Script MT"/>
              </a:rPr>
              <a:t>Het schoonste geluid ter wereld is   de stil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3716280"/>
            <a:ext cx="417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ffff"/>
                </a:solidFill>
                <a:latin typeface="Brush Script MT"/>
              </a:rPr>
              <a:t>Stilte is het element waarin grote dingen zich verwezenlijken.       </a:t>
            </a:r>
            <a:r>
              <a:rPr b="0" lang="nl-BE" sz="2400" spc="-1" strike="noStrike">
                <a:solidFill>
                  <a:srgbClr val="ccffff"/>
                </a:solidFill>
                <a:latin typeface="Brush Script MT"/>
              </a:rPr>
              <a:t>(Thomas Carly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19280" y="1401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757080" y="-258840"/>
            <a:ext cx="10945800" cy="731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260280"/>
            <a:ext cx="43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ecff"/>
                </a:solidFill>
                <a:latin typeface="Brush Script MT"/>
              </a:rPr>
              <a:t>Zoek geen grote woorden als een klein gebaar volsta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404640"/>
            <a:ext cx="874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ffff"/>
                </a:solidFill>
                <a:latin typeface="Brush Script MT"/>
              </a:rPr>
              <a:t>Muziek begint altijd met stilte. </a:t>
            </a:r>
            <a:r>
              <a:rPr b="0" lang="nl-BE" sz="2400" spc="-1" strike="noStrike">
                <a:solidFill>
                  <a:srgbClr val="ccffff"/>
                </a:solidFill>
                <a:latin typeface="Brush Script MT"/>
              </a:rPr>
              <a:t>(Restopovi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380880"/>
            <a:ext cx="480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4000" y="5157720"/>
            <a:ext cx="662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Brush Script MT"/>
              </a:rPr>
              <a:t>Lezen is inkeer, is stilte zoeken op de laatste geruchtloze plaats ter wereld: enige bedrukte bladzijden. (Kees F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65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189000"/>
            <a:ext cx="16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Brush Script MT"/>
              </a:rPr>
              <a:t>Muziek:               Avé Maria             van Schu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757080" y="-125280"/>
            <a:ext cx="10729800" cy="7149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30064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ccff"/>
                </a:solidFill>
                <a:latin typeface="Brush Script MT"/>
              </a:rPr>
              <a:t>De stilte is een vriend die je nooit verraadt</a:t>
            </a:r>
            <a:r>
              <a:rPr b="0" lang="nl-BE" sz="2400" spc="-1" strike="noStrike">
                <a:solidFill>
                  <a:srgbClr val="ccccff"/>
                </a:solidFill>
                <a:latin typeface="Brush Script MT"/>
              </a:rPr>
              <a:t>.(Confuc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5373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ccff"/>
                </a:solidFill>
                <a:latin typeface="Brush Script MT"/>
              </a:rPr>
              <a:t>Door niet te spreken zie je duidelijker.             </a:t>
            </a:r>
            <a:r>
              <a:rPr b="0" lang="nl-BE" sz="2400" spc="-1" strike="noStrike">
                <a:solidFill>
                  <a:srgbClr val="ccccff"/>
                </a:solidFill>
                <a:latin typeface="Brush Script MT"/>
              </a:rPr>
              <a:t>(Mahatma Gandh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5589720"/>
            <a:ext cx="882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ccff"/>
                </a:solidFill>
                <a:latin typeface="Brush Script MT"/>
              </a:rPr>
              <a:t>Geef me stilte en ik zal de nacht trotseren.        </a:t>
            </a:r>
            <a:r>
              <a:rPr b="0" lang="nl-BE" sz="2400" spc="-1" strike="noStrike">
                <a:solidFill>
                  <a:srgbClr val="ccccff"/>
                </a:solidFill>
                <a:latin typeface="Brush Script MT"/>
              </a:rPr>
              <a:t>(Kahlil Gib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659640" y="2133720"/>
            <a:ext cx="248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Denk eraan dat stilte soms het beste antwoord 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867280" y="2205000"/>
            <a:ext cx="3059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Luister niet naar de herrie van de wereld, maar naar de stilte van je zi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19640" y="4437000"/>
            <a:ext cx="48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Als er niet eerst stilte is komt er geen luiste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692360" y="-366840"/>
            <a:ext cx="11017440" cy="7340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543384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ccff"/>
                </a:solidFill>
                <a:latin typeface="Brush Script MT"/>
              </a:rPr>
              <a:t>Hoe stiller het wordt, hoe meer men hoor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TARRO</dc:creator>
  <dc:description/>
  <dc:language>en-US</dc:language>
  <cp:lastModifiedBy>Marie-Jose</cp:lastModifiedBy>
  <dcterms:modified xsi:type="dcterms:W3CDTF">2010-07-22T15:12:20Z</dcterms:modified>
  <cp:revision>24</cp:revision>
  <dc:subject/>
  <dc:title>doy gracias</dc:title>
</cp:coreProperties>
</file>