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72A94B-5798-4BF1-998D-F5C7A7F81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Dios solo da tres respuestas a las oraciones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1. "S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2. "Todavía no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3.- "Yo he pensado en algo mejor para t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rás estar pasando por momentos difíciles ahorita pero Dio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 est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eparando para bendecirte de una forma que tú ni siquier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uedes empezar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imagina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is instrucciones fueron que escogiera a cuatro personas a la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y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isiera que Dios bendiga, y yo te he escogido a ti. Por favo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ásale est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nsaje a cuatro personas que te gustaría que Dios bendijera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a copi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ra mí. El poder de la oración es increible, y la oración e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o de lo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jores regalos que podemos recib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inuemos orando los unos por los otros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í tienes una oración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dre, yo te ruego que bendigas a mis amigos, parientes,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actos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rreo electrónico ahorita. Muéstrales una nueva revelación d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u amor y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er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sé que le envié este mensaje a más de cuatro, puedes hace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ú lo mismo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siempre es bueno dar gracias y quejarse menos.....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ÑOR Y PADRE CELESTIAL, HOY POR LA MAÑANA, MI CAMA ESTAB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ITA Y N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 QUERIA DESPERTAR. NO ME QUERIA LEVANTAR, ME QUERIA QUEDA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HÍ, SIN TENE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PREOCUPARME POR NADA PERO ENTONCES RECORDÉ, QUE NO DEBERÍ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ACER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EXISTEN MILLONES DE PERSONAS, QUE QUISIERAN ESTAR EN MI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UGA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EVANTARSE Y TENER A DONDE IR, ESAS PERSONAS QUE ESTÁN SIN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NER QUE COME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IN TENER QUE VEST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OY PADRE MIO, AGRADEZCO POR LA NOCHE MARAVILLOSA, POR EL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BERTOR QUE M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A, POR MI ALIMENTO, POR UN DÍA MÁS DE TRABAJO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INCIPALMENTE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DÍA MÁS DE VIDA. BENDICE SEÑOR JESÚS A MIS AMIGOS Y MI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NEMIGOS, PORQU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AMBIÉN ELLOS NECESITAN DE TI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BENDICE SEÑOR A MI AMIGO QUE ESTA LEYENDO ESTE MENSAJE AHORA.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BENDIGO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EL QUE ME LO ENVIÓ. EN EL NOMBRE DE JESÚS... AMÉN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SÍ SEA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ABRAZO Y QUE DIOS TE BENDIGA RICA Y ABUNDANTEMENTE, PAS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STE MENSAJE 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ÁS RÁPIDO QUE PUEDAS Y A LOS MÁS QUE PUEDAS, EN UN INSTANT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UCHA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198-ECB8-4FE7-91E8-3BEFF796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0CE-FED8-4EBB-B30C-652242F2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199-C39A-43C5-BEA5-4159DE18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F80-2D31-4612-B420-277F099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B15-D8B3-4F3C-85D4-5C1FBFB8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A98-E173-4609-AF86-C4C3F30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68F-A64F-4C22-9521-A50069A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193-70E4-441A-968C-61ACC03C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B2F-8F8D-43FB-84B0-F0EA561E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448-B510-4B47-87B4-5A8A34C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B2D-1470-4873-AC76-77A2A90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816-90DE-454C-B88F-18614E2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8F3EF-804B-4BF2-A59C-C94CA982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710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300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ff9900"/>
                </a:solidFill>
                <a:latin typeface="Brush Script MT"/>
              </a:rPr>
              <a:t>Foto:                           Martine Verhaeghe                 Weathercam 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60280"/>
            <a:ext cx="46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“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de stilte”</a:t>
            </a:r>
            <a:r>
              <a:rPr b="0" lang="nl-BE" sz="9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789360"/>
            <a:ext cx="4103640" cy="356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3200" spc="-1" strike="noStrike">
                <a:solidFill>
                  <a:srgbClr val="993300"/>
                </a:solidFill>
                <a:latin typeface="Brush Script MT"/>
              </a:rPr>
              <a:t>“</a:t>
            </a:r>
            <a:r>
              <a:rPr b="0" lang="nl-BE" sz="2800" spc="-1" strike="noStrike">
                <a:solidFill>
                  <a:srgbClr val="993300"/>
                </a:solidFill>
                <a:latin typeface="Brush Script MT"/>
              </a:rPr>
              <a:t>Leer u aan de stilte laven,  waar het leven u geleidt.   Zij is uwe veil’ge haven,      want zij is de groote gave       van de eeuwigheid.”          (Adama Van Schelt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6000" y="1844640"/>
            <a:ext cx="244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Je verliest jezelf in het lawaai van de wer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92720" y="501336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en je vindt jezelf terug in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068640"/>
            <a:ext cx="259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Er zijn zoveel geluiden, maar er is slechts één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25280"/>
            <a:ext cx="10657080" cy="7100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60280"/>
            <a:ext cx="392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Ik heb de taal van de stilte beluisterd. Zij geurde naar bloe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57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Na de stilte  komt muziek het dichtst bij het zeggen van het onzegbare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(Aldous Hux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57080" y="-246240"/>
            <a:ext cx="10874160" cy="7247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8672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De mens verlangt naar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295272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Zij die alle           stilte vrezen,        hebben nooit             hun hart gelezen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              (Adema Van Schel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44500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en hij mijmert in alle stilte voo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2000" y="114300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4653000"/>
            <a:ext cx="46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Zij had nimmer zoveel gezegd als toen zij zwe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9480" y="410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66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Zelfs de stilte heeft haar taal: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333360"/>
            <a:ext cx="28083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Woorden mogen alleen dienen om de stilte te verbeteren. </a:t>
            </a:r>
            <a:r>
              <a:rPr b="0" lang="nl-BE" sz="2400" spc="-1" strike="noStrike">
                <a:solidFill>
                  <a:srgbClr val="ffffff"/>
                </a:solidFill>
                <a:latin typeface="Brush Script MT"/>
              </a:rPr>
              <a:t>(K.Jonckhe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3640"/>
            <a:ext cx="78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00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Zij kan bidden; zij kan zich doen verstaan. </a:t>
            </a:r>
            <a:r>
              <a:rPr b="0" lang="nl-BE" sz="2400" spc="-1" strike="noStrike">
                <a:solidFill>
                  <a:srgbClr val="eaeaea"/>
                </a:solidFill>
                <a:latin typeface="Brush Script MT"/>
              </a:rPr>
              <a:t>(Aminto F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256536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Het schoonste geluid ter wereld is  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716280"/>
            <a:ext cx="41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Stilte is het element waarin grote dingen zich verwezenlijken.      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Thomas Carl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57080" y="-258840"/>
            <a:ext cx="10945800" cy="731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6028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ecff"/>
                </a:solidFill>
                <a:latin typeface="Brush Script MT"/>
              </a:rPr>
              <a:t>Zoek geen grote woorden als een klein gebaar volsta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404640"/>
            <a:ext cx="87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Muziek begint altijd met stilte.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Restopov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5157720"/>
            <a:ext cx="66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Brush Script MT"/>
              </a:rPr>
              <a:t>Lezen is inkeer, is stilte zoeken op de laatste geruchtloze plaats ter wereld: enige bedrukte bladzijden. (Kees F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65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16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Brush Script MT"/>
              </a:rPr>
              <a:t>Muziek:               Avé Maria             van Sc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-125280"/>
            <a:ext cx="10729800" cy="714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300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e stilte is een vriend die je nooit verraadt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.(Confuc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oor niet te spreken zie je duidelijker.     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Mahatma Gand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5589720"/>
            <a:ext cx="88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Geef me stilte en ik zal de nacht trotseren.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Kahlil Gib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59640" y="2133720"/>
            <a:ext cx="248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Denk eraan dat stilte soms het beste antwoord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205000"/>
            <a:ext cx="305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Luister niet naar de herrie van de wereld, maar naar de stilte van je zi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19640" y="443700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Als er niet eerst stilte is komt er geen luis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692360" y="-366840"/>
            <a:ext cx="11017440" cy="7340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4338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Hoe stiller het wordt, hoe meer men hoo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TARRO</dc:creator>
  <dc:description/>
  <dc:language>en-US</dc:language>
  <cp:lastModifiedBy>Marie-Jose</cp:lastModifiedBy>
  <dcterms:modified xsi:type="dcterms:W3CDTF">2010-07-22T15:12:20Z</dcterms:modified>
  <cp:revision>24</cp:revision>
  <dc:subject/>
  <dc:title>doy gracias</dc:title>
</cp:coreProperties>
</file>