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AveMariaSchubert.wav" ContentType="audio/x-wav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6C69FC-EC0C-49BF-8643-0ECFF14CB3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59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Dios solo da tres respuestas a las oraciones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1. "S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2. "Todavía no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3.- "Yo he pensado en algo mejor para ti"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rás estar pasando por momentos difíciles ahorita pero Dio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 est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eparando para bendecirte de una forma que tú ni siquier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uedes empezar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imagina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is instrucciones fueron que escogiera a cuatro personas a la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y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isiera que Dios bendiga, y yo te he escogido a ti. Por favo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ásale est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nsaje a cuatro personas que te gustaría que Dios bendijera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a copi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ra mí. El poder de la oración es increible, y la oración e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o de lo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jores regalos que podemos recib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No tiene ningún costo pero si muchas recompensas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inuemos orando los unos por los otros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í tienes una oración: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adre, yo te ruego que bendigas a mis amigos, parientes,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ntactos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rreo electrónico ahorita. Muéstrales una nueva revelación d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u amor y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der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sé que le envié este mensaje a más de cuatro, puedes hace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ú lo mismo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siempre es bueno dar gracias y quejarse menos.....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EÑOR Y PADRE CELESTIAL, HOY POR LA MAÑANA, MI CAMA ESTAB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ITA Y N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E QUERIA DESPERTAR. NO ME QUERIA LEVANTAR, ME QUERIA QUEDAR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HÍ, SIN TENE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PREOCUPARME POR NADA PERO ENTONCES RECORDÉ, QUE NO DEBERÍ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ACER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ORQUE EXISTEN MILLONES DE PERSONAS, QUE QUISIERAN ESTAR EN MI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UGA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LEVANTARSE Y TENER A DONDE IR, ESAS PERSONAS QUE ESTÁN SIN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ENER QUE COMER,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SIN TENER QUE VESTIR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HOY PADRE MIO, AGRADEZCO POR LA NOCHE MARAVILLOSA, POR EL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OBERTOR QUE M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CALIENTA, POR MI ALIMENTO, POR UN DÍA MÁS DE TRABAJO Y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RINCIPALMENTE POR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DÍA MÁS DE VIDA. BENDICE SEÑOR JESÚS A MIS AMIGOS Y MIS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NEMIGOS, PORQUE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TAMBIÉN ELLOS NECESITAN DE TI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BENDICE SEÑOR A MI AMIGO QUE ESTA LEYENDO ESTE MENSAJE AHORA.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YO BENDIGO A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QUEL QUE ME LO ENVIÓ. EN EL NOMBRE DE JESÚS... AMÉN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ASÍ SEA.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UN ABRAZO Y QUE DIOS TE BENDIGA RICA Y ABUNDANTEMENTE, PASA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ESTE MENSAJE LO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ÁS RÁPIDO QUE PUEDAS Y A LOS MÁS QUE PUEDAS, EN UN INSTANTE 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MUCHAS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PERSONAS ES TARÁN ORANDO POR TI.</a:t>
            </a:r>
            <a:br>
              <a:rPr sz="800"/>
            </a:b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  <a:ea typeface="新細明體"/>
              </a:rPr>
              <a:t>Que Dios los bendiga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ECD-8471-45F0-9DB2-5DAEC41B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F99-0322-4A84-BAC2-1BFB9139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660-099A-4D3C-B419-F837420F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524-0BF1-4EE9-8F35-2B11C528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B55-92DB-48A4-A2C5-E045160E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97D-33B0-4FB5-BBCE-2C08405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0C8-78B2-4DBE-A30C-F3BF14F5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5B4-FDF1-45B7-B7AF-738E36F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0A5-F313-4BBD-A7B3-9943D90D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09E-E300-48A4-AB76-022279E9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4D2-9531-4224-8E95-89C4311F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C44-B7E2-4419-A76C-2B48A811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74CFEA-BE60-4335-A873-C423FFF1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veMariaSchube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10226880" cy="7107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300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400" spc="-1" strike="noStrike">
                <a:solidFill>
                  <a:srgbClr val="ff9900"/>
                </a:solidFill>
                <a:latin typeface="Brush Script MT"/>
              </a:rPr>
              <a:t>Foto:                           Martine Verhaeghe                 Weathercam Brug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260280"/>
            <a:ext cx="467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“</a:t>
            </a:r>
            <a:r>
              <a:rPr b="0" lang="nl-BE" sz="9600" spc="-1" strike="noStrike">
                <a:solidFill>
                  <a:srgbClr val="ff9900"/>
                </a:solidFill>
                <a:latin typeface="Brush Script MT"/>
              </a:rPr>
              <a:t>de stilte”</a:t>
            </a:r>
            <a:r>
              <a:rPr b="0" lang="nl-BE" sz="9600" spc="-1" strike="noStrike">
                <a:solidFill>
                  <a:srgbClr val="ffffff"/>
                </a:solidFill>
                <a:latin typeface="Brush Script MT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789360"/>
            <a:ext cx="4103640" cy="35676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3200" spc="-1" strike="noStrike">
                <a:solidFill>
                  <a:srgbClr val="993300"/>
                </a:solidFill>
                <a:latin typeface="Brush Script MT"/>
              </a:rPr>
              <a:t>“</a:t>
            </a:r>
            <a:r>
              <a:rPr b="0" lang="nl-BE" sz="2800" spc="-1" strike="noStrike">
                <a:solidFill>
                  <a:srgbClr val="993300"/>
                </a:solidFill>
                <a:latin typeface="Brush Script MT"/>
              </a:rPr>
              <a:t>Leer u aan de stilte laven,  waar het leven u geleidt.   Zij is uwe veil’ge haven,      want zij is de groote gave       van de eeuwigheid.”          (Adama Van Schelte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u"/>
    <p:sndAc>
      <p:stSnd>
        <p:snd r:embed="rId2" name="AveMariaSchube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562720"/>
            <a:ext cx="45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6000" y="1844640"/>
            <a:ext cx="2448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Je verliest jezelf in het lawaai van de werel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92720" y="5013360"/>
            <a:ext cx="36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ffff00"/>
                </a:solidFill>
                <a:latin typeface="Brush Script MT"/>
              </a:rPr>
              <a:t>en je vindt jezelf terug in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3068640"/>
            <a:ext cx="259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Er zijn zoveel geluiden, maar er is slechts één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684360" y="-125280"/>
            <a:ext cx="10657080" cy="7100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260280"/>
            <a:ext cx="392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Ik heb de taal van de stilte beluisterd. Zij geurde naar bloe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5157720"/>
            <a:ext cx="849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Na de stilte  komt muziek het dichtst bij het zeggen van het onzegbare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(Aldous Hux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757080" y="-246240"/>
            <a:ext cx="10874160" cy="7247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58672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De mens verlangt naar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333360"/>
            <a:ext cx="295272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cc66"/>
                </a:solidFill>
                <a:latin typeface="Brush Script MT"/>
              </a:rPr>
              <a:t>Zij die alle           stilte vrezen,        hebben nooit             hun hart gelezen.</a:t>
            </a:r>
            <a:r>
              <a:rPr b="0" lang="nl-BE" sz="2400" spc="-1" strike="noStrike">
                <a:solidFill>
                  <a:srgbClr val="ffcc66"/>
                </a:solidFill>
                <a:latin typeface="Brush Script MT"/>
              </a:rPr>
              <a:t>               (Adema Van Schel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544500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…</a:t>
            </a:r>
            <a:r>
              <a:rPr b="0" lang="nl-BE" sz="4000" spc="-1" strike="noStrike">
                <a:solidFill>
                  <a:srgbClr val="ccff66"/>
                </a:solidFill>
                <a:latin typeface="Brush Script MT"/>
              </a:rPr>
              <a:t>en hij mijmert in alle stilte voo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52000" y="114300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4653000"/>
            <a:ext cx="46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Zij had nimmer zoveel gezegd als toen zij zwee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828800"/>
            <a:ext cx="358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89480" y="4100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566100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dddddd"/>
                </a:solidFill>
                <a:latin typeface="Brush Script MT"/>
              </a:rPr>
              <a:t>Zelfs de stilte heeft haar taal: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333360"/>
            <a:ext cx="28083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Woorden mogen alleen dienen om de stilte te verbeteren. </a:t>
            </a:r>
            <a:r>
              <a:rPr b="0" lang="nl-BE" sz="2400" spc="-1" strike="noStrike">
                <a:solidFill>
                  <a:srgbClr val="ffffff"/>
                </a:solidFill>
                <a:latin typeface="Brush Script MT"/>
              </a:rPr>
              <a:t>(K.Jonckhe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93640"/>
            <a:ext cx="78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5300640"/>
            <a:ext cx="93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Zij kan bidden; zij kan zich doen verstaan. </a:t>
            </a:r>
            <a:r>
              <a:rPr b="0" lang="nl-BE" sz="2400" spc="-1" strike="noStrike">
                <a:solidFill>
                  <a:srgbClr val="eaeaea"/>
                </a:solidFill>
                <a:latin typeface="Brush Script MT"/>
              </a:rPr>
              <a:t>(Aminto Fa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2565360"/>
            <a:ext cx="252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eaeaea"/>
                </a:solidFill>
                <a:latin typeface="Brush Script MT"/>
              </a:rPr>
              <a:t>Het schoonste geluid ter wereld is   de stil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3716280"/>
            <a:ext cx="417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Stilte is het element waarin grote dingen zich verwezenlijken.      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Thomas Carly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19280" y="1401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757080" y="-258840"/>
            <a:ext cx="10945800" cy="7319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60280"/>
            <a:ext cx="43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ecff"/>
                </a:solidFill>
                <a:latin typeface="Brush Script MT"/>
              </a:rPr>
              <a:t>Zoek geen grote woorden als een klein gebaar volsta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404640"/>
            <a:ext cx="874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ffff"/>
                </a:solidFill>
                <a:latin typeface="Brush Script MT"/>
              </a:rPr>
              <a:t>Muziek begint altijd met stilte. </a:t>
            </a:r>
            <a:r>
              <a:rPr b="0" lang="nl-BE" sz="2400" spc="-1" strike="noStrike">
                <a:solidFill>
                  <a:srgbClr val="ccffff"/>
                </a:solidFill>
                <a:latin typeface="Brush Script MT"/>
              </a:rPr>
              <a:t>(Restopov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38088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24000" y="5157720"/>
            <a:ext cx="662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Brush Script MT"/>
              </a:rPr>
              <a:t>Lezen is inkeer, is stilte zoeken op de laatste geruchtloze plaats ter wereld: enige bedrukte bladzijden. (Kees F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65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189000"/>
            <a:ext cx="16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Brush Script MT"/>
              </a:rPr>
              <a:t>Muziek:               Avé Maria             van Sc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757080" y="-125280"/>
            <a:ext cx="10729800" cy="714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530064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e stilte is een vriend die je nooit verraadt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.(Confuc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533520"/>
            <a:ext cx="480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37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Door niet te spreken zie je duidelijker.     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Mahatma Gandh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5589720"/>
            <a:ext cx="882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Geef me stilte en ik zal de nacht trotseren.        </a:t>
            </a:r>
            <a:r>
              <a:rPr b="0" lang="nl-BE" sz="2400" spc="-1" strike="noStrike">
                <a:solidFill>
                  <a:srgbClr val="ccccff"/>
                </a:solidFill>
                <a:latin typeface="Brush Script MT"/>
              </a:rPr>
              <a:t>(Kahlil Gib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659640" y="2133720"/>
            <a:ext cx="248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Denk eraan dat stilte soms het beste antwoord 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205000"/>
            <a:ext cx="3059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Luister niet naar de herrie van de wereld, maar naar de stilte van je zi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19640" y="4437000"/>
            <a:ext cx="482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Brush Script MT"/>
              </a:rPr>
              <a:t>Als er niet eerst stilte is komt er geen luis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692360" y="-366840"/>
            <a:ext cx="11017440" cy="7340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4338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4000" spc="-1" strike="noStrike">
                <a:solidFill>
                  <a:srgbClr val="ccccff"/>
                </a:solidFill>
                <a:latin typeface="Brush Script MT"/>
              </a:rPr>
              <a:t>Hoe stiller het wordt, hoe meer men hoo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TARRO</dc:creator>
  <dc:description/>
  <dc:language>en-US</dc:language>
  <cp:lastModifiedBy>Marie-Jose</cp:lastModifiedBy>
  <dcterms:modified xsi:type="dcterms:W3CDTF">2010-07-22T15:12:20Z</dcterms:modified>
  <cp:revision>24</cp:revision>
  <dc:subject/>
  <dc:title>doy gracias</dc:title>
</cp:coreProperties>
</file>