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ManciniRomeoAndJuliet.wav" ContentType="audio/x-wav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AAD-AC5C-4A4C-BB6D-D172092B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011-3457-4229-862B-2D835983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3FCB-4E9D-4AF6-B996-D9D94BB8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6ED-8FDA-4EBE-BF3E-71130FBB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260-4AA2-4108-A8E6-AAA16CAE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7C0-3C76-426B-8D95-8F941214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D6BB-B5DA-4E33-9467-F6E47B83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926-7DD8-44B6-BFCF-A887BCCF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0FF-6933-464E-979E-7BF0BD94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207-8F9E-4D65-A775-11B8974C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120-0273-4CB1-A65E-50616676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61B-0475-44A7-A644-5C8257D8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2286-7021-4FED-9432-6E32ED5B9381}" type="datetime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CE1E4EF-A1C1-4875-87BC-09ECBB2378DA}" type="datetime10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13:4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C836-D6F8-4904-A355-3FEDDD29BACF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audio" Target="../media/ManciniRomeoAndJuliet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360" y="5006880"/>
            <a:ext cx="1047600" cy="108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8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dddddd"/>
                </a:solidFill>
                <a:latin typeface="Verdana"/>
              </a:rPr>
              <a:t>Romeo And Julli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44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dddddd"/>
                </a:solidFill>
                <a:latin typeface="Verdana"/>
              </a:rPr>
              <a:t>Sound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79132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dddddd"/>
                </a:solidFill>
                <a:latin typeface="Verdana"/>
              </a:rPr>
              <a:t>Henry Mancini</a:t>
            </a: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981000"/>
            <a:ext cx="4176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44280">
                  <a:solidFill>
                    <a:srgbClr val="d3e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riendschap</a:t>
            </a:r>
            <a:endParaRPr b="0" i="1" lang="en-US" sz="2400" spc="1" strike="noStrike">
              <a:ln w="44280">
                <a:solidFill>
                  <a:srgbClr val="d3e9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44280">
                  <a:solidFill>
                    <a:srgbClr val="d3e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s zwijgen</a:t>
            </a:r>
            <a:endParaRPr b="0" i="1" lang="en-US" sz="2400" spc="1" strike="noStrike">
              <a:ln w="44280">
                <a:solidFill>
                  <a:srgbClr val="d3e9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4265640"/>
            <a:ext cx="3313440" cy="27637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woon even geniet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68A27-49A2-4B5B-A4DB-078D2C68756D}" type="datetime8">
              <a:rPr lang="en-US"/>
              <a:t>07/28/26 13:40</a:t>
            </a:fld>
          </a:p>
        </p:txBody>
      </p:sp>
    </p:spTree>
  </p:cSld>
  <p:transition spd="med" advTm="10000">
    <p:fade thruBlk="true"/>
    <p:sndAc>
      <p:stSnd>
        <p:snd r:embed="rId4" name="ManciniRomeoAndJuli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1413000"/>
            <a:ext cx="680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kostbaar kleinood</a:t>
            </a:r>
            <a:r>
              <a:rPr b="1" lang="tr-T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291920"/>
            <a:ext cx="6513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at met je meega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tot in de dood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0"/>
            <a:ext cx="7128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44600" y="187920"/>
            <a:ext cx="68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En heb je echte vriendschap gevond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619560"/>
            <a:ext cx="66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legt ze een pleister op vele wond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diamond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5600160"/>
            <a:ext cx="7066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aarom is het fijn </a:t>
            </a:r>
            <a:br>
              <a:rPr sz="1600"/>
            </a:b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om goede vrienden te zijn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51640" y="6093000"/>
            <a:ext cx="122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Eind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3000"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91628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zwijgen , niets zeg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276640"/>
            <a:ext cx="475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Maar een arm om schouders leg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661000"/>
            <a:ext cx="9144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in iemands lev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amen vreugde en verdriet de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476280"/>
            <a:ext cx="64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niets vrag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83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maar gewoon helpen dra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pull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84720" y="5877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gauw even mai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6237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om laatste nieuwtjes te de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plus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52360" y="260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durven tonen</a:t>
            </a:r>
            <a:r>
              <a:rPr b="0" lang="nl-BE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500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welke gevoelens er in je wonen</a:t>
            </a:r>
            <a:r>
              <a:rPr b="0" lang="nl-BE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36280"/>
            <a:ext cx="51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de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in iemands geluk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00536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en d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bidden “ Ga toch nooit stuk 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0"/>
            <a:ext cx="7308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1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915560"/>
            <a:ext cx="439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z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in kleine ding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005360"/>
            <a:ext cx="70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e je niet t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wedervriendschap dwi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0"/>
            <a:ext cx="7308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trips dir="l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88640"/>
            <a:ext cx="71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663300"/>
                </a:solidFill>
                <a:latin typeface="Verdana"/>
              </a:rPr>
              <a:t>Aan een goede vriendschap komt geen end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9200"/>
            <a:ext cx="61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663300"/>
                </a:solidFill>
                <a:latin typeface="Verdana"/>
              </a:rPr>
              <a:t>waar ter wereld je ook bent</a:t>
            </a:r>
            <a:r>
              <a:rPr b="0" lang="nl-BE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200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7:02:33Z</dcterms:created>
  <dc:creator>Annelies Verfaillie</dc:creator>
  <dc:description/>
  <dc:language>en-US</dc:language>
  <cp:lastModifiedBy>Annelies Verfaillie</cp:lastModifiedBy>
  <dcterms:modified xsi:type="dcterms:W3CDTF">2007-12-28T07:28:07Z</dcterms:modified>
  <cp:revision>7</cp:revision>
  <dc:subject>vrienden</dc:subject>
  <dc:title>Dia 1</dc:title>
</cp:coreProperties>
</file>