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Ernesto%20Cortazar%20-%20Endlessly.wav" ContentType="audio/x-wav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B39F-094E-4CF3-A582-AC50BCC43A5E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1424-DB78-4EAF-B5DD-E47B06E0361D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CA7B-07DC-40B7-8931-653594CB4D56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166E-90B9-4245-B22D-2B80F85612C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7788-B044-4F97-999B-0E7A751C714E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BD57-6ED9-4D6D-9C5B-3D5A336D4C0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0D59-A8D6-4D30-A9E3-E60740929EBD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BB68-592E-4329-A53D-15ACCFE573B3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1156-D5A4-4AAD-9E0D-3D4AA7BFF40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4BE3-6A6E-4593-A5C8-4C1609AE42BD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F3A5-A37A-4744-AFBB-A9846110FAA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D170-70CA-4196-9F5A-074E1697F21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F34D-21CF-4A2A-AA7F-DDB83E2986B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387F-442E-4804-83D6-7E826C995044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7458-CB8E-44B7-9339-8ACC084E0F1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6CED-260E-4362-87DE-FB889887A78E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EDA5-CB01-49D2-B2E7-756A554FB85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0D86-BA93-4A3B-BD99-057371FF222D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EFB5-7D37-4302-8A69-E8BD6EBB6D7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C357-7B52-4469-8E67-F200EDFC368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3736-E52C-4A3C-A164-7F86115A00C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6398-DA51-47AD-816C-123DA9159D5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4EA2-8CB3-4E47-8375-E826442B2A8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A61-81CE-4FF0-9B8F-015298F0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59B-F55D-4B83-AAE9-A09C2074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542C-EB93-43C8-B128-57BB029A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F5E-B0F4-4026-BEF7-E7450C17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0B04-9BB5-444F-A6EE-C9044298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6D4-D02A-4316-B0A4-A6855F8E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855-097A-4527-B19E-DCC5C769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CAB6-84E5-4F8D-9E75-1E48E23E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7B6-3CA3-4775-8677-40614160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05FE-EF59-420B-92CA-62D091D7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2F58-AE4A-4A58-86B6-6017B299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83F-9D50-4331-8BA5-E8EBDC83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9F88-296C-44D1-B042-D256765E2186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%20Cortazar%20-%20Endlessly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sc_7222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0" y="2602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Comic Sans MS"/>
              </a:rPr>
              <a:t>ZACHTE WOORDEN VOOR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Comic Sans MS"/>
              </a:rPr>
              <a:t>DE OUDERS …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Tekstvak 5"/>
          <p:cNvSpPr/>
          <p:nvPr/>
        </p:nvSpPr>
        <p:spPr>
          <a:xfrm>
            <a:off x="-324000" y="6237360"/>
            <a:ext cx="94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Monotype Corsiva"/>
              </a:rPr>
              <a:t>Vertaald uit het Frans – Freddy Storm – 06/2010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  <p:sndAc>
      <p:stSnd>
        <p:snd r:embed="rId2" name="Ernesto%20Cortazar%20-%20Endlessl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-181080" y="-136440"/>
            <a:ext cx="9325080" cy="699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snails-2"/>
          <p:cNvPicPr/>
          <p:nvPr/>
        </p:nvPicPr>
        <p:blipFill>
          <a:blip r:embed="rId2"/>
          <a:stretch/>
        </p:blipFill>
        <p:spPr>
          <a:xfrm>
            <a:off x="0" y="0"/>
            <a:ext cx="5302080" cy="7029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5364000" y="333360"/>
            <a:ext cx="378000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ZOUDEN WE AAN ONZE OUDERS ALLES WAT ZE ONS HEBBEN GEGEVEN KUNNEN TERUGGEVEN? 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ONMOGELIJK !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WE MOETEN ONS ERMEE TEVREDEN STELLEN TE BLIJVEN LUISTEREN NAAR HUN BEHOEFTEN, HUN WENSEN, EN ZE VOORAL GRENZELOOS BEMINNEN 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achoeira_online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684360" y="260280"/>
            <a:ext cx="77770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ACHTER ELK KIND IN MOEILIJKHEDEN DAT ER UITRAAKT STAAT EEN VOLHARDENDE OUDER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alloween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684360" y="4724280"/>
            <a:ext cx="79214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ZEG MIJ WELKE OUDERS JULLIE ZIJN EN IK ZAL JULLIE ZEGGEN WAT JULLIE KINDEREN ZULLEN WORDEN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sc027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250920" y="549360"/>
            <a:ext cx="86421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omic Sans MS"/>
              </a:rPr>
              <a:t>DOOR HUN KINDEREN TE LOVEN FLATTEREN OUDERS ZICHZELF …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bluereaching"/>
          <p:cNvPicPr/>
          <p:nvPr/>
        </p:nvPicPr>
        <p:blipFill>
          <a:blip r:embed="rId2"/>
          <a:stretch/>
        </p:blipFill>
        <p:spPr>
          <a:xfrm>
            <a:off x="1523880" y="1066680"/>
            <a:ext cx="5688000" cy="5189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324000" y="4508640"/>
            <a:ext cx="8496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ONDERHOUD DE TUIN VAN DE OUDERLIJKE LIEFDE GOED. HIJ IS HET ENIGE ECHTE IN DEZE WERELD WAAROP JE ALTIJD KAN STEUNEN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sc052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0" y="260280"/>
            <a:ext cx="914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IN HET LEVEN EVOLUEREN ZONDER OUDERS  IS ALS EEN ONBEKEND LAND DOORTREKKEN ZONDER WEGENKAART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dropyello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4000" y="5229360"/>
            <a:ext cx="84582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HET VOLSTAAT NIET KINDEREN TE MAKEN OM OUDERS TE ZIJN. MEN MOET DIE NAAM WETEN TE VERDIENEN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barn_small_f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468360" y="260280"/>
            <a:ext cx="84582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ER BESTAAT GEEN SCHOOL VOOR OUDERS. WAT ZOU ZE WEL KUNNEN ONDERWIJZEN, WANT ELK KIND IS VERSCHILLEND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umalikizik_tre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826920" y="5157720"/>
            <a:ext cx="7632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LAAAT HET LAATSTE WOORD AAN JE OUDERS. DAT PRIVILEGE HEBBEN ZE ZEKER VERDIEND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_cattails_tn_te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80880" y="333360"/>
            <a:ext cx="8763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DE OUDERLIEFDE IS DE GROOTSTE SCHAT. SPIJTIG DAT SOMMIGE KINDEREN DAT PAS MERKEN ALS ZE WEG ZIJN 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nenufar__"/>
          <p:cNvPicPr/>
          <p:nvPr/>
        </p:nvPicPr>
        <p:blipFill>
          <a:blip r:embed="rId2"/>
          <a:stretch/>
        </p:blipFill>
        <p:spPr>
          <a:xfrm>
            <a:off x="1523880" y="2657520"/>
            <a:ext cx="6096240" cy="4200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0" y="144792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ccff"/>
                </a:solidFill>
                <a:latin typeface="Comic Sans MS"/>
              </a:rPr>
              <a:t>IK WIL VANDAAG AL ONZE VOOROUDERS 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ccff"/>
                </a:solidFill>
                <a:latin typeface="Comic Sans MS"/>
              </a:rPr>
              <a:t>BEDANKEN: OMA’S EN OPA’S, EN VOORAL 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ccff"/>
                </a:solidFill>
                <a:latin typeface="Comic Sans MS"/>
              </a:rPr>
              <a:t>ONZE OUDERS DIE ONS DIT MOOIE            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ccff"/>
                </a:solidFill>
                <a:latin typeface="Comic Sans MS"/>
              </a:rPr>
              <a:t>KARAKTER HEBBEN GESCHONKEN.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01600" y="187200"/>
            <a:ext cx="8742240" cy="6481800"/>
          </a:xfrm>
          <a:prstGeom prst="rect">
            <a:avLst/>
          </a:prstGeom>
          <a:noFill/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52280" y="152280"/>
            <a:ext cx="9144000" cy="68580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53880" y="339840"/>
            <a:ext cx="8742600" cy="64818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8" name="Afbeelding 11" descr="Muis.gif"/>
          <p:cNvPicPr/>
          <p:nvPr/>
        </p:nvPicPr>
        <p:blipFill>
          <a:blip r:embed="rId3"/>
          <a:stretch/>
        </p:blipFill>
        <p:spPr>
          <a:xfrm>
            <a:off x="7596360" y="5732640"/>
            <a:ext cx="95220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_dsc84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971640" y="5516640"/>
            <a:ext cx="69818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DE OUDERLIEFDE KENT GEEN TIJD, AFSTAND EN AFWEZIGHEID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_dsc0015-hummingbird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0" y="685800"/>
            <a:ext cx="64771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DE LIEFDE DIE OUDERS AAN HUN KINDEREN GEVEN IS NOOIT VERLOREN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dsc_7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457200" y="69228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Comic Sans MS"/>
              </a:rPr>
              <a:t>ZACHTE WOORDEN VOOR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Comic Sans MS"/>
              </a:rPr>
              <a:t>DE OUDERS …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835280" y="2852640"/>
            <a:ext cx="5545080" cy="29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omic Sans MS"/>
              </a:rPr>
              <a:t>MUZIEK: ERNESTO CORTAZAR</a:t>
            </a:r>
            <a:endParaRPr b="1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CREATIE: MARLENE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1 FEBRUARI 2007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7" descr="coeur_90"/>
          <p:cNvPicPr/>
          <p:nvPr/>
        </p:nvPicPr>
        <p:blipFill>
          <a:blip r:embed="rId2"/>
          <a:stretch/>
        </p:blipFill>
        <p:spPr>
          <a:xfrm>
            <a:off x="7164360" y="5300640"/>
            <a:ext cx="5144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19_4826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611280" y="260280"/>
            <a:ext cx="82818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omic Sans MS"/>
              </a:rPr>
              <a:t>NA MIJ HET SPREKEN TE HEBBEN GELEERD, HEBBEN MIJN OUDERS MIJ OOK HET ZWIJGEN GELEERD…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wheelbarro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0" y="486900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omic Sans MS"/>
              </a:rPr>
              <a:t>VROEGER HADDEN OUDERS MEERDERE KINDEREN. NU ZIJN HET DE KINDEREN DIE MEERDERE OUDERS HEBBEN… 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8060135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11280" y="333360"/>
            <a:ext cx="769464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Comic Sans MS"/>
              </a:rPr>
              <a:t>MEN KAN ALLES KOPEN, BEHALVE EEN VADER EN EEN MOEDER …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trekmtober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0" y="5157720"/>
            <a:ext cx="914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HET IS NIET DE REDE NOCH DE PASSIE DIE ONS MOET LEIDEN, WEL DE WIJSHEID VAN ONZE OUDERS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topa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260280"/>
            <a:ext cx="88390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SOMMIGEN GELOVEN DAT GENIALITEIT ERFELIJK IS, DE ANDEREN HEBBEN GEEN KINDEREN …</a:t>
            </a:r>
            <a:r>
              <a:rPr b="1" lang="fr-CA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velo-fleur-espinas-tarn-montauban-5807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11280" y="4941720"/>
            <a:ext cx="78483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omic Sans MS"/>
              </a:rPr>
              <a:t>HET IS AAN HET WELSLAGEN VAN HUN KINDEREN DAT OUDERS DAT VAN HEN AFMETEN …  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encinas-en-la-nieb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684360" y="333360"/>
            <a:ext cx="79200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omic Sans MS"/>
              </a:rPr>
              <a:t>HET IS ALS NIETS MEER GAAT DAT MEN ER ZICH REKENSCHAP VAN GEEFT HOEZEER ZIJN OUDERS TROOSTEND ZIJN …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20:59:35Z</dcterms:created>
  <dc:creator>Marlene</dc:creator>
  <dc:description/>
  <dc:language>en-US</dc:language>
  <cp:lastModifiedBy>fredje</cp:lastModifiedBy>
  <dcterms:modified xsi:type="dcterms:W3CDTF">2010-06-19T05:40:00Z</dcterms:modified>
  <cp:revision>67</cp:revision>
  <dc:subject/>
  <dc:title>Diapositive 1</dc:title>
</cp:coreProperties>
</file>