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Ernesto%20Cortazar%20-%20Endlessly.wav" ContentType="audio/x-wav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6F97-7280-435F-9E2E-2CEEFA02F74D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48A3-9AF8-4CF4-A842-A44AE3F144F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07E9-78B2-411A-93E4-6993533C962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D1BF-8FAE-46EC-8111-525BC87ADB2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ECB6-4456-4222-A964-CE8A164D367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8D4B-EDC2-4E63-BC63-83448F55095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A5D9-2ECD-4737-B263-A00E2970C97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806D-5108-4F32-B710-E3A66CC87DD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9564-B6BB-4C10-B298-8A8E6862D3D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4705-8AE2-4976-B52C-9CB886A958C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F676-B3A7-41DB-8DF8-9D170DD73AE1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99EC-AA72-4834-9135-A78B14A4716B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48FE-609B-49C7-9A80-0A57F7672C8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1234-D9A7-4F4D-8358-26A45B73155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6190-E22C-48A4-A9C4-5ED9F4982A5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EA04-8DC3-48D8-9F9A-F336556C9F6A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6DB0-56A8-4F2D-8F50-9DEAF61D683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478D-2D4F-45E7-A33C-BC4EAEEEDE3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C9FB-98C4-4F04-A75B-F82EA32A4B21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2F13-B5CD-4207-A1A3-68B1F798B28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224E-BCA7-4C8C-B2EB-52B633CAD79A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5995-E7D6-450F-984B-5B3B49720B4C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DF51-9184-4C3A-B31D-CB301BEC597A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C6FE-7575-41B5-8193-D3FCEA19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2E3-F0B4-4971-B888-5C3F11E0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995-AA80-4C9F-9080-EF9E1453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544E-7C91-441A-93F5-7A0EFC86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130-F645-40C8-A7EE-5FC02B72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438-41D3-45F9-8C8F-80518522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E964-6C25-4644-94BE-3CC7A92E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8EBB-2048-4479-886E-68D75234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9D6-2CDF-494D-A290-76BD23AE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ED0-376C-4AC3-8D83-3C58C319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1D1-EF77-48F9-91B0-12DC53D3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0286-94EB-41C7-A795-3812C3AF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D564-4B93-4015-AC28-645DB02A4BAE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%20Cortazar%20-%20Endlessly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sc_7222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0" y="2602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Comic Sans MS"/>
              </a:rPr>
              <a:t>ZACHTE WOORDEN VOOR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Comic Sans MS"/>
              </a:rPr>
              <a:t>DE OUDERS …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Tekstvak 5"/>
          <p:cNvSpPr/>
          <p:nvPr/>
        </p:nvSpPr>
        <p:spPr>
          <a:xfrm>
            <a:off x="-324000" y="6237360"/>
            <a:ext cx="94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Monotype Corsiva"/>
              </a:rPr>
              <a:t>Vertaald uit het Frans – Freddy Storm – 06/2010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  <p:sndAc>
      <p:stSnd>
        <p:snd r:embed="rId2" name="Ernesto%20Cortazar%20-%20Endlessl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-181080" y="-136440"/>
            <a:ext cx="9325080" cy="699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snails-2"/>
          <p:cNvPicPr/>
          <p:nvPr/>
        </p:nvPicPr>
        <p:blipFill>
          <a:blip r:embed="rId2"/>
          <a:stretch/>
        </p:blipFill>
        <p:spPr>
          <a:xfrm>
            <a:off x="0" y="0"/>
            <a:ext cx="5302080" cy="7029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5364000" y="333360"/>
            <a:ext cx="378000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ZOUDEN WE AAN ONZE OUDERS ALLES WAT ZE ONS HEBBEN GEGEVEN KUNNEN TERUGGEVEN? 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ONMOGELIJK !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WE MOETEN ONS ERMEE TEVREDEN STELLEN TE BLIJVEN LUISTEREN NAAR HUN BEHOEFTEN, HUN WENSEN, EN ZE VOORAL GRENZELOOS BEMINNEN 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achoeira_online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684360" y="260280"/>
            <a:ext cx="77770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ACHTER ELK KIND IN MOEILIJKHEDEN DAT ER UITRAAKT STAAT EEN VOLHARDENDE OUDER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alloween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684360" y="4724280"/>
            <a:ext cx="79214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ZEG MIJ WELKE OUDERS JULLIE ZIJN EN IK ZAL JULLIE ZEGGEN WAT JULLIE KINDEREN ZULLEN WORDEN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sc027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250920" y="549360"/>
            <a:ext cx="86421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omic Sans MS"/>
              </a:rPr>
              <a:t>DOOR HUN KINDEREN TE LOVEN FLATTEREN OUDERS ZICHZELF …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bluereaching"/>
          <p:cNvPicPr/>
          <p:nvPr/>
        </p:nvPicPr>
        <p:blipFill>
          <a:blip r:embed="rId2"/>
          <a:stretch/>
        </p:blipFill>
        <p:spPr>
          <a:xfrm>
            <a:off x="1523880" y="1066680"/>
            <a:ext cx="5688000" cy="5189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324000" y="4508640"/>
            <a:ext cx="8496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ONDERHOUD DE TUIN VAN DE OUDERLIJKE LIEFDE GOED. HIJ IS HET ENIGE ECHTE IN DEZE WERELD WAAROP JE ALTIJD KAN STEUNEN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sc052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0" y="260280"/>
            <a:ext cx="914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IN HET LEVEN EVOLUEREN ZONDER OUDERS  IS ALS EEN ONBEKEND LAND DOORTREKKEN ZONDER WEGENKAART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dropyello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4000" y="5229360"/>
            <a:ext cx="84582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HET VOLSTAAT NIET KINDEREN TE MAKEN OM OUDERS TE ZIJN. MEN MOET DIE NAAM WETEN TE VERDIENEN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barn_small_f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468360" y="260280"/>
            <a:ext cx="84582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ER BESTAAT GEEN SCHOOL VOOR OUDERS. WAT ZOU ZE WEL KUNNEN ONDERWIJZEN, WANT ELK KIND IS VERSCHILLEND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umalikizik_tre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826920" y="5157720"/>
            <a:ext cx="7632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LAAAT HET LAATSTE WOORD AAN JE OUDERS. DAT PRIVILEGE HEBBEN ZE ZEKER VERDIEND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_cattails_tn_te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80880" y="333360"/>
            <a:ext cx="8763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DE OUDERLIEFDE IS DE GROOTSTE SCHAT. SPIJTIG DAT SOMMIGE KINDEREN DAT PAS MERKEN ALS ZE WEG ZIJN 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nenufar__"/>
          <p:cNvPicPr/>
          <p:nvPr/>
        </p:nvPicPr>
        <p:blipFill>
          <a:blip r:embed="rId2"/>
          <a:stretch/>
        </p:blipFill>
        <p:spPr>
          <a:xfrm>
            <a:off x="1523880" y="2657520"/>
            <a:ext cx="6096240" cy="4200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0" y="144792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ccff"/>
                </a:solidFill>
                <a:latin typeface="Comic Sans MS"/>
              </a:rPr>
              <a:t>IK WIL VANDAAG AL ONZE VOOROUDERS 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ccff"/>
                </a:solidFill>
                <a:latin typeface="Comic Sans MS"/>
              </a:rPr>
              <a:t>BEDANKEN: OMA’S EN OPA’S, EN VOORAL 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ccff"/>
                </a:solidFill>
                <a:latin typeface="Comic Sans MS"/>
              </a:rPr>
              <a:t>ONZE OUDERS DIE ONS DIT MOOIE            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ccff"/>
                </a:solidFill>
                <a:latin typeface="Comic Sans MS"/>
              </a:rPr>
              <a:t>KARAKTER HEBBEN GESCHONKEN.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01600" y="187200"/>
            <a:ext cx="8742240" cy="6481800"/>
          </a:xfrm>
          <a:prstGeom prst="rect">
            <a:avLst/>
          </a:prstGeom>
          <a:noFill/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52280" y="152280"/>
            <a:ext cx="9144000" cy="68580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53880" y="339840"/>
            <a:ext cx="8742600" cy="64818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8" name="Afbeelding 11" descr="Muis.gif"/>
          <p:cNvPicPr/>
          <p:nvPr/>
        </p:nvPicPr>
        <p:blipFill>
          <a:blip r:embed="rId3"/>
          <a:stretch/>
        </p:blipFill>
        <p:spPr>
          <a:xfrm>
            <a:off x="7596360" y="5732640"/>
            <a:ext cx="95220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_dsc84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971640" y="5516640"/>
            <a:ext cx="69818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DE OUDERLIEFDE KENT GEEN TIJD, AFSTAND EN AFWEZIGHEID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_dsc0015-hummingbird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0" y="685800"/>
            <a:ext cx="64771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DE LIEFDE DIE OUDERS AAN HUN KINDEREN GEVEN IS NOOIT VERLOREN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dsc_7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457200" y="69228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Comic Sans MS"/>
              </a:rPr>
              <a:t>ZACHTE WOORDEN VOOR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Comic Sans MS"/>
              </a:rPr>
              <a:t>DE OUDERS …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835280" y="2852640"/>
            <a:ext cx="5545080" cy="29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omic Sans MS"/>
              </a:rPr>
              <a:t>MUZIEK: ERNESTO CORTAZAR</a:t>
            </a:r>
            <a:endParaRPr b="1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CREATIE: MARLENE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1 FEBRUARI 2007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7" descr="coeur_90"/>
          <p:cNvPicPr/>
          <p:nvPr/>
        </p:nvPicPr>
        <p:blipFill>
          <a:blip r:embed="rId2"/>
          <a:stretch/>
        </p:blipFill>
        <p:spPr>
          <a:xfrm>
            <a:off x="7164360" y="5300640"/>
            <a:ext cx="5144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19_4826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611280" y="260280"/>
            <a:ext cx="82818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omic Sans MS"/>
              </a:rPr>
              <a:t>NA MIJ HET SPREKEN TE HEBBEN GELEERD, HEBBEN MIJN OUDERS MIJ OOK HET ZWIJGEN GELEERD…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wheelbarro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0" y="486900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omic Sans MS"/>
              </a:rPr>
              <a:t>VROEGER HADDEN OUDERS MEERDERE KINDEREN. NU ZIJN HET DE KINDEREN DIE MEERDERE OUDERS HEBBEN… 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8060135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11280" y="333360"/>
            <a:ext cx="769464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Comic Sans MS"/>
              </a:rPr>
              <a:t>MEN KAN ALLES KOPEN, BEHALVE EEN VADER EN EEN MOEDER …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trekmtober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0" y="5157720"/>
            <a:ext cx="914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HET IS NIET DE REDE NOCH DE PASSIE DIE ONS MOET LEIDEN, WEL DE WIJSHEID VAN ONZE OUDERS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topa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260280"/>
            <a:ext cx="88390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SOMMIGEN GELOVEN DAT GENIALITEIT ERFELIJK IS, DE ANDEREN HEBBEN GEEN KINDEREN …</a:t>
            </a:r>
            <a:r>
              <a:rPr b="1" lang="fr-CA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velo-fleur-espinas-tarn-montauban-5807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11280" y="4941720"/>
            <a:ext cx="78483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omic Sans MS"/>
              </a:rPr>
              <a:t>HET IS AAN HET WELSLAGEN VAN HUN KINDEREN DAT OUDERS DAT VAN HEN AFMETEN …  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encinas-en-la-nieb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684360" y="333360"/>
            <a:ext cx="79200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omic Sans MS"/>
              </a:rPr>
              <a:t>HET IS ALS NIETS MEER GAAT DAT MEN ER ZICH REKENSCHAP VAN GEEFT HOEZEER ZIJN OUDERS TROOSTEND ZIJN …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20:59:35Z</dcterms:created>
  <dc:creator>Marlene</dc:creator>
  <dc:description/>
  <dc:language>en-US</dc:language>
  <cp:lastModifiedBy>fredje</cp:lastModifiedBy>
  <dcterms:modified xsi:type="dcterms:W3CDTF">2010-06-19T05:40:00Z</dcterms:modified>
  <cp:revision>67</cp:revision>
  <dc:subject/>
  <dc:title>Diapositive 1</dc:title>
</cp:coreProperties>
</file>