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-FloydCramer-HelloDarlin.wav" ContentType="audio/x-wav"/>
  <Override PartName="/ppt/media/image1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E10-F661-4EB3-AF75-7B14B507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0C0-325F-4C75-8A04-46EE76AD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CEB-A819-4AF3-B93F-0117F538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3C9-1BB0-4BE6-88D1-EACBA226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DC5-EF21-42D6-B07E-DB30B9DA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59A-75D9-43AC-AAB2-ADDCDC7A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2A6-7135-43BC-B8F7-D22095C6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FB3-5931-4BC9-BD06-90019322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E1B-30F1-4E7C-A388-76421478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D01-5DB9-4130-86A1-24C7F7A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391-3F65-4489-BE71-CDFEBCA9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638-ECE1-4217-80C8-F4E1B6CC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C4F9-E507-4AF6-BC54-78A3A235D3CC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-FloydCramer-HelloDarli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Users\Leo\GRAFISCH\Powerpoints\In bewerking zijnde\Welbehagen (KVB)_bestanden\slide0001_image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  <p:sp>
        <p:nvSpPr>
          <p:cNvPr id="42" name="WordArt 9"/>
          <p:cNvSpPr txBox="1"/>
          <p:nvPr/>
        </p:nvSpPr>
        <p:spPr>
          <a:xfrm rot="2056800">
            <a:off x="2971800" y="2666880"/>
            <a:ext cx="555768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9703641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Weemoed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9703641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715000" y="5867280"/>
            <a:ext cx="30481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 Black"/>
              </a:rPr>
              <a:t>Muziek :  Floyd Cr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 Black"/>
              </a:rPr>
              <a:t>Hello Dar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  <p:sndAc>
      <p:stSnd>
        <p:snd r:embed="rId2" name="-FloydCramer-HelloDarl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schoenlapper"/>
          <p:cNvPicPr/>
          <p:nvPr/>
        </p:nvPicPr>
        <p:blipFill>
          <a:blip r:embed="rId1"/>
          <a:srcRect l="2870" t="0" r="0" b="0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52280" y="2286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Naaldhakken gaven 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gracieuze verleideli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benen zo werd vertel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52280" y="3048120"/>
            <a:ext cx="2895840" cy="91692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maar die hak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moesten maandelij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worden herst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eo\GRAFISCH\Powerpoints\In bewerking zijnde\Welbehagen (KVB)_bestanden\slide0004_image0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kkaart"/>
          <p:cNvPicPr/>
          <p:nvPr/>
        </p:nvPicPr>
        <p:blipFill>
          <a:blip r:embed="rId2"/>
          <a:stretch/>
        </p:blipFill>
        <p:spPr>
          <a:xfrm rot="1836000">
            <a:off x="4572000" y="1676520"/>
            <a:ext cx="3313080" cy="3179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533520" y="304920"/>
            <a:ext cx="73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 Black"/>
              </a:rPr>
              <a:t>Misschien was het in die tijd wat overdrev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00040" y="57913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 Black"/>
              </a:rPr>
              <a:t>toch denk ik met weemoed terug aan                                                         de waarden die ons werden meegeg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Ba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850"/>
                            </p:stCondLst>
                            <p:childTnLst>
                              <p:par>
                                <p:cTn id="1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35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019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Soms denk ik vol weemoed terug aan de vroegere ja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toen goede omgangsvormen heel gewoon ware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hoek"/>
          <p:cNvPicPr/>
          <p:nvPr/>
        </p:nvPicPr>
        <p:blipFill>
          <a:blip r:embed="rId1"/>
          <a:stretch/>
        </p:blipFill>
        <p:spPr>
          <a:xfrm>
            <a:off x="7920" y="-25560"/>
            <a:ext cx="2044800" cy="2095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Leo\GRAFISCH\Powerpoints\In bewerking zijnde\Welbehagen (KVB)_bestanden\slide0002_image014.jpg"/>
          <p:cNvPicPr/>
          <p:nvPr/>
        </p:nvPicPr>
        <p:blipFill>
          <a:blip r:embed="rId2"/>
          <a:stretch/>
        </p:blipFill>
        <p:spPr>
          <a:xfrm>
            <a:off x="990720" y="5335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15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:\Users\Leo\GRAFISCH\Powerpoints\In bewerking zijnde\Welbehagen (KVB)_bestanden\slide0006_image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152280" y="5562720"/>
            <a:ext cx="3276720" cy="1008720"/>
          </a:xfrm>
          <a:prstGeom prst="rect">
            <a:avLst/>
          </a:prstGeom>
          <a:solidFill>
            <a:srgbClr val="333333">
              <a:alpha val="50000"/>
            </a:srgbClr>
          </a:solidFill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een ramp wanneer                       er een ladder in versch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2280" y="1295280"/>
            <a:ext cx="3200400" cy="1008720"/>
          </a:xfrm>
          <a:prstGeom prst="rect">
            <a:avLst/>
          </a:prstGeom>
          <a:solidFill>
            <a:srgbClr val="333333">
              <a:alpha val="50000"/>
            </a:srgbClr>
          </a:solidFill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We droegen nylons met een naadje achteraan het be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3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C:\Users\Leo\GRAFISCH\Powerpoints\In bewerking zijnde\Welbehagen (KVB)_bestanden\slide0005_image020.jpg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000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0" y="568800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In de bioscoop hielden de jongens voor de meisjes een plaatsje vrij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wij gaven ze dan een zoentje , wat waren ze bli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C:\Users\Leo\GRAFISCH\Powerpoints\In bewerking zijnde\Welbehagen (KVB)_bestanden\slide0005_image022.jpg"/>
          <p:cNvPicPr/>
          <p:nvPr/>
        </p:nvPicPr>
        <p:blipFill>
          <a:blip r:embed="rId2"/>
          <a:stretch/>
        </p:blipFill>
        <p:spPr>
          <a:xfrm>
            <a:off x="2209680" y="1295280"/>
            <a:ext cx="4114800" cy="22100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C:\Users\Leo\GRAFISCH\Powerpoints\In bewerking zijnde\Welbehagen (KVB)_bestanden\slide0012_image024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85840" y="500040"/>
            <a:ext cx="8572320" cy="703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Onze ouders zegden ” degene die echt van je houdt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wacht met de liefdesdaad tot de dag dat je met hem bent getrouw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2 hart"/>
          <p:cNvPicPr/>
          <p:nvPr/>
        </p:nvPicPr>
        <p:blipFill>
          <a:blip r:embed="rId2"/>
          <a:stretch/>
        </p:blipFill>
        <p:spPr>
          <a:xfrm>
            <a:off x="395280" y="5229360"/>
            <a:ext cx="1008000" cy="99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2 hart"/>
          <p:cNvPicPr/>
          <p:nvPr/>
        </p:nvPicPr>
        <p:blipFill>
          <a:blip r:embed="rId3"/>
          <a:stretch/>
        </p:blipFill>
        <p:spPr>
          <a:xfrm>
            <a:off x="7812000" y="5373720"/>
            <a:ext cx="1008000" cy="99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Users\Leo\GRAFISCH\Powerpoints\In bewerking zijnde\Welbehagen (KVB)_bestanden\slide0008_image029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0" y="6019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De heren gebruikten scheermes en kwa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en haalden voor een afspraak het mooiste pak uit de k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blinds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3" descr="C:\Users\Leo\GRAFISCH\Powerpoints\In bewerking zijnde\Welbehagen (KVB)_bestanden\slide0011_image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C:\Users\Leo\GRAFISCH\Powerpoints\In bewerking zijnde\Welbehagen (KVB)_bestanden\slide0011_image0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8420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85840" y="411480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Heel verbaasd heb ik toen gekek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14200" y="442908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ik had de uitleg niet meteen begre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62120" y="341964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Als voorbehoedsmiddel wist men mij te verklapp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62120" y="3776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je lief moet een halte te vroeg van de trein afstapp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Ba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725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25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425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6" descr="C:\Users\Leo\GRAFISCH\Powerpoints\In bewerking zijnde\Welbehagen (KVB)_bestanden\slide0007_image035.jpg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:\Users\Leo\GRAFISCH\Powerpoints\In bewerking zijnde\Welbehagen (KVB)_bestanden\slide0007_image035,2.jpg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C:\Users\Leo\GRAFISCH\Powerpoints\In bewerking zijnde\Welbehagen (KVB)_bestanden\slide0007_image035.jpg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C:\Users\Leo\GRAFISCH\Powerpoints\In bewerking zijnde\Welbehagen (KVB)_bestanden\slide0007_image035,2.jpg"/>
          <p:cNvPicPr/>
          <p:nvPr/>
        </p:nvPicPr>
        <p:blipFill>
          <a:blip r:embed="rId4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C:\Users\Leo\GRAFISCH\Powerpoints\In bewerking zijnde\Welbehagen (KVB)_bestanden\slide0007_image035.jpg"/>
          <p:cNvPicPr/>
          <p:nvPr/>
        </p:nvPicPr>
        <p:blipFill>
          <a:blip r:embed="rId5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C:\Users\Leo\GRAFISCH\Powerpoints\In bewerking zijnde\Welbehagen (KVB)_bestanden\slide0007_image035,2.jpg"/>
          <p:cNvPicPr/>
          <p:nvPr/>
        </p:nvPicPr>
        <p:blipFill>
          <a:blip r:embed="rId6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C:\Users\Leo\GRAFISCH\Powerpoints\In bewerking zijnde\Welbehagen (KVB)_bestanden\slide0007_image035.jpg"/>
          <p:cNvPicPr/>
          <p:nvPr/>
        </p:nvPicPr>
        <p:blipFill>
          <a:blip r:embed="rId7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C:\Users\Leo\GRAFISCH\Powerpoints\In bewerking zijnde\Welbehagen (KVB)_bestanden\slide0007_image035,2.jpg"/>
          <p:cNvPicPr/>
          <p:nvPr/>
        </p:nvPicPr>
        <p:blipFill>
          <a:blip r:embed="rId8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0" y="168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Als we al eens naar de dancing mochten ga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klonk de stem van ma en pa: “ om twaalf uur hier terug staan”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7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375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875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375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875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375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875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375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C:\Users\Leo\GRAFISCH\Powerpoints\In bewerking zijnde\Welbehagen (KVB)_bestanden\slide0009_image046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0" y="50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De volgende morgen moesten we terug vroeg uit de ve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wie kan uitgaan moet kunnen werken, was wat ze ons l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strikje"/>
          <p:cNvPicPr/>
          <p:nvPr/>
        </p:nvPicPr>
        <p:blipFill>
          <a:blip r:embed="rId2"/>
          <a:stretch/>
        </p:blipFill>
        <p:spPr>
          <a:xfrm>
            <a:off x="468360" y="836640"/>
            <a:ext cx="934920" cy="6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strikje"/>
          <p:cNvPicPr/>
          <p:nvPr/>
        </p:nvPicPr>
        <p:blipFill>
          <a:blip r:embed="rId3"/>
          <a:stretch/>
        </p:blipFill>
        <p:spPr>
          <a:xfrm>
            <a:off x="250920" y="1557360"/>
            <a:ext cx="1244520" cy="8128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7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125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625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22:15:40Z</dcterms:created>
  <dc:creator>Jacobs Marvan</dc:creator>
  <dc:description/>
  <dc:language>en-US</dc:language>
  <cp:lastModifiedBy>John</cp:lastModifiedBy>
  <dcterms:modified xsi:type="dcterms:W3CDTF">2009-01-30T14:39:35Z</dcterms:modified>
  <cp:revision>6</cp:revision>
  <dc:subject/>
  <dc:title>Dia 1</dc:title>
</cp:coreProperties>
</file>