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mood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BD5-3FEB-4C55-8C74-7BB32CE3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204-85D4-459E-8BDE-84CB57DC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331-45FC-412C-93EB-EC1650F4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C6B9-6367-4FBF-BFED-8D855884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278-6B77-489F-AEF1-902B2876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309-4E49-41D6-B752-6B2B6966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638-5BA9-40E4-B959-47D4D62D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C670-4FA2-4213-815C-31C264D9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641-2C76-4E0C-9EDF-9CA27095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EBEA-5EF9-4A20-9134-C92F134B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048-CB17-40B3-8236-E0A85574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628E-FF87-408C-93A0-29AE05D3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D38D-462B-42FD-B1E4-F4BC09BE9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oo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Eigene Dateien\A\50er\1.jpg"/>
          <p:cNvPicPr/>
          <p:nvPr/>
        </p:nvPicPr>
        <p:blipFill>
          <a:blip r:embed="rId1"/>
          <a:stretch/>
        </p:blipFill>
        <p:spPr>
          <a:xfrm>
            <a:off x="0" y="115920"/>
            <a:ext cx="920124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Tekstvak 4"/>
          <p:cNvSpPr/>
          <p:nvPr/>
        </p:nvSpPr>
        <p:spPr>
          <a:xfrm>
            <a:off x="0" y="2133720"/>
            <a:ext cx="9252000" cy="3141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50 jaar geled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Il y a 50 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50 years bef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Vor 50 Jah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Hace 50 añ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Eigene Dateien\A\50er\10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Eigene Dateien\A\50er\11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Eigene Dateien\A\50er\12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Eigene Dateien\A\50er\13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Eigene Dateien\A\50er\14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Eigene Dateien\A\50er\15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Eigene Dateien\A\50er\16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Eigene Dateien\A\50er\17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Eigene Dateien\A\50er\18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Eigene Dateien\A\50er\2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Eigene Dateien\A\50er\3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Eigene Dateien\A\50er\4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Eigene Dateien\A\50er\5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Eigene Dateien\A\50er\6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Eigene Dateien\A\50er\7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Eigene Dateien\A\50er\8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Eigene Dateien\A\50er\9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21:31Z</dcterms:created>
  <dc:creator>karl</dc:creator>
  <dc:description/>
  <dc:language>en-US</dc:language>
  <cp:lastModifiedBy>fredje</cp:lastModifiedBy>
  <dcterms:modified xsi:type="dcterms:W3CDTF">2010-08-13T21:51:00Z</dcterms:modified>
  <cp:revision>3</cp:revision>
  <dc:subject/>
  <dc:title>Kein Folientitel</dc:title>
</cp:coreProperties>
</file>