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mood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6B3-8D5D-4220-BD0F-1ABE3A46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DA5-18EB-4FC4-8B2F-CF4D6ACB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8AE-BC72-4162-897F-46265C11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746B-1797-4149-B5F5-78F79442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F2A-A4EA-4521-A7B4-9583CFE0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7A72-459F-4CC7-ABFF-BB733CDC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4E0-565D-404A-82D4-852A18F1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A93-4401-4B56-AACF-5FD69A09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1A9C-9FE6-4E01-820D-B5B39574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80ED-D47A-4AD1-B9D9-FE8078E9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86BF-6A1E-413B-A8FF-EC19DB00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5FE-96E6-44F7-8207-0AEDB51F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FA08-6F8A-48F4-84E0-26677A4DF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oo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Eigene Dateien\A\50er\1.jpg"/>
          <p:cNvPicPr/>
          <p:nvPr/>
        </p:nvPicPr>
        <p:blipFill>
          <a:blip r:embed="rId1"/>
          <a:stretch/>
        </p:blipFill>
        <p:spPr>
          <a:xfrm>
            <a:off x="0" y="115920"/>
            <a:ext cx="920124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Tekstvak 4"/>
          <p:cNvSpPr/>
          <p:nvPr/>
        </p:nvSpPr>
        <p:spPr>
          <a:xfrm>
            <a:off x="0" y="2133720"/>
            <a:ext cx="9252000" cy="3141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50 jaar geled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Il y a 50 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50 years bef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Vor 50 Jah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Hace 50 añ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Eigene Dateien\A\50er\10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Eigene Dateien\A\50er\11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Eigene Dateien\A\50er\12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Eigene Dateien\A\50er\13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Eigene Dateien\A\50er\14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Eigene Dateien\A\50er\15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Eigene Dateien\A\50er\16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Eigene Dateien\A\50er\17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Eigene Dateien\A\50er\18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Eigene Dateien\A\50er\2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Eigene Dateien\A\50er\3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Eigene Dateien\A\50er\4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Eigene Dateien\A\50er\5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Eigene Dateien\A\50er\6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Eigene Dateien\A\50er\7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Eigene Dateien\A\50er\8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Eigene Dateien\A\50er\9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21:31Z</dcterms:created>
  <dc:creator>karl</dc:creator>
  <dc:description/>
  <dc:language>en-US</dc:language>
  <cp:lastModifiedBy>fredje</cp:lastModifiedBy>
  <dcterms:modified xsi:type="dcterms:W3CDTF">2010-08-13T21:51:00Z</dcterms:modified>
  <cp:revision>3</cp:revision>
  <dc:subject/>
  <dc:title>Kein Folientitel</dc:title>
</cp:coreProperties>
</file>