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moo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0D2-688D-4C7D-B93B-EDFB5491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84A-772B-46E1-B5A7-ECE8CE1A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AF74-975B-4168-8106-711B0C01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F126-0DB3-455D-9512-BC806FCB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E19-C295-46C0-81B8-0B105FF8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5B2-0F20-4E10-B646-531169B4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2BE-1983-4F0D-A5A7-EB2A4579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66F-2A91-4E06-9DB1-2DDAEC1D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F5C-AF6A-4466-9D71-A77B2D29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B0C-C9FB-4E69-A2F7-AC3C541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FE6-E3DF-4289-B0AC-BC6CE219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DF22-676C-4E49-BA4B-D3C59D5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C962-1AEE-4DCA-B62C-670A12341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Eigene Dateien\A\50er\1.jpg"/>
          <p:cNvPicPr/>
          <p:nvPr/>
        </p:nvPicPr>
        <p:blipFill>
          <a:blip r:embed="rId1"/>
          <a:stretch/>
        </p:blipFill>
        <p:spPr>
          <a:xfrm>
            <a:off x="0" y="115920"/>
            <a:ext cx="920124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0" y="2133720"/>
            <a:ext cx="9252000" cy="314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jaar gel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Il y a 50 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years bef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Vor 50 Jah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Hace 5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Eigene Dateien\A\50er\10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Eigene Dateien\A\50er\11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Eigene Dateien\A\50er\1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Eigene Dateien\A\50er\1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Eigene Dateien\A\50er\1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Eigene Dateien\A\50er\1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Eigene Dateien\A\50er\1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Eigene Dateien\A\50er\1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Eigene Dateien\A\50er\1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Eigene Dateien\A\50er\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Eigene Dateien\A\50er\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Eigene Dateien\A\50er\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Eigene Dateien\A\50er\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Eigene Dateien\A\50er\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Eigene Dateien\A\50er\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Eigene Dateien\A\50er\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Eigene Dateien\A\50er\9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21:31Z</dcterms:created>
  <dc:creator>karl</dc:creator>
  <dc:description/>
  <dc:language>en-US</dc:language>
  <cp:lastModifiedBy>fredje</cp:lastModifiedBy>
  <dcterms:modified xsi:type="dcterms:W3CDTF">2010-08-13T21:51:00Z</dcterms:modified>
  <cp:revision>3</cp:revision>
  <dc:subject/>
  <dc:title>Kein Folientitel</dc:title>
</cp:coreProperties>
</file>