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moo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180-E225-4084-84A4-2F3E59D0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ADF-65C4-4F9F-A0E0-E3C71932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03D-E8E9-4946-8A8E-37DFC52A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CB5-E68D-4F93-A6D1-B5FEA60D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4AF-F5B5-485B-9A3A-FDEFD4E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4C5-53EF-4094-9627-A47B2ADF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E8C-680A-4C6E-8282-5C1C2B65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C88-EA85-4F03-95B4-06612557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A98-5DE1-4B79-8020-AA47A6F7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F3D-700E-47A9-84D3-2BC7CFD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5B5-1049-4F5C-A6B7-177F978A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46D-737B-4CB1-B24D-EE62C55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0352-7C9F-4F9B-B48F-5D6C426CA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Eigene Dateien\A\50er\1.jpg"/>
          <p:cNvPicPr/>
          <p:nvPr/>
        </p:nvPicPr>
        <p:blipFill>
          <a:blip r:embed="rId1"/>
          <a:stretch/>
        </p:blipFill>
        <p:spPr>
          <a:xfrm>
            <a:off x="0" y="115920"/>
            <a:ext cx="920124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0" y="2133720"/>
            <a:ext cx="9252000" cy="314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jaar gel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Il y a 50 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years bef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Vor 50 Jah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Hace 5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Eigene Dateien\A\50er\10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Eigene Dateien\A\50er\11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Eigene Dateien\A\50er\1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Eigene Dateien\A\50er\1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Eigene Dateien\A\50er\1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Eigene Dateien\A\50er\1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Eigene Dateien\A\50er\1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Eigene Dateien\A\50er\1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Eigene Dateien\A\50er\1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Eigene Dateien\A\50er\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Eigene Dateien\A\50er\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Eigene Dateien\A\50er\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Eigene Dateien\A\50er\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Eigene Dateien\A\50er\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Eigene Dateien\A\50er\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Eigene Dateien\A\50er\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Eigene Dateien\A\50er\9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21:31Z</dcterms:created>
  <dc:creator>karl</dc:creator>
  <dc:description/>
  <dc:language>en-US</dc:language>
  <cp:lastModifiedBy>fredje</cp:lastModifiedBy>
  <dcterms:modified xsi:type="dcterms:W3CDTF">2010-08-13T21:51:00Z</dcterms:modified>
  <cp:revision>3</cp:revision>
  <dc:subject/>
  <dc:title>Kein Folientitel</dc:title>
</cp:coreProperties>
</file>