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mood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2E5-3261-4F00-B635-173E2B29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481-A0C3-422E-88AA-54D7F64E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E3A-EB8C-4302-BB12-5933687F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7C5-4827-4BFC-B0D9-CA077EB7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ACC4-A396-4626-8CA5-9F256D7A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09B-A1EC-4283-B8E7-81A0BEF1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76B9-930A-4E2B-B1F0-CCEACC6F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C55-C165-48F6-8358-2C925BF1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670D-AB9C-45FC-A246-976F1630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732-C8E0-4ED8-A529-BB4E9D39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4A9-664A-4F2F-8176-AD974296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4DF4-148A-46A9-8150-A01244BD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F5C9-35AE-4857-A42C-663C08F0D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oo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Eigene Dateien\A\50er\1.jpg"/>
          <p:cNvPicPr/>
          <p:nvPr/>
        </p:nvPicPr>
        <p:blipFill>
          <a:blip r:embed="rId1"/>
          <a:stretch/>
        </p:blipFill>
        <p:spPr>
          <a:xfrm>
            <a:off x="0" y="115920"/>
            <a:ext cx="9201240" cy="6915240"/>
          </a:xfrm>
          <a:prstGeom prst="rect">
            <a:avLst/>
          </a:prstGeom>
          <a:ln w="0">
            <a:noFill/>
          </a:ln>
        </p:spPr>
      </p:pic>
      <p:sp>
        <p:nvSpPr>
          <p:cNvPr id="42" name="Tekstvak 4"/>
          <p:cNvSpPr/>
          <p:nvPr/>
        </p:nvSpPr>
        <p:spPr>
          <a:xfrm>
            <a:off x="0" y="2133720"/>
            <a:ext cx="9252000" cy="3141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50 jaar geled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Il y a 50 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50 years bef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Vor 50 Jah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002060"/>
                </a:solidFill>
                <a:latin typeface="Times New Roman"/>
              </a:rPr>
              <a:t>Hace 50 añ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Eigene Dateien\A\50er\10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Eigene Dateien\A\50er\11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Eigene Dateien\A\50er\12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Eigene Dateien\A\50er\13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Eigene Dateien\A\50er\14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Eigene Dateien\A\50er\15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Eigene Dateien\A\50er\16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:\Eigene Dateien\A\50er\17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Eigene Dateien\A\50er\18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Eigene Dateien\A\50er\2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Eigene Dateien\A\50er\3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Eigene Dateien\A\50er\4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Eigene Dateien\A\50er\5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Eigene Dateien\A\50er\6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Eigene Dateien\A\50er\7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Eigene Dateien\A\50er\8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Eigene Dateien\A\50er\9.jpg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21:31Z</dcterms:created>
  <dc:creator>karl</dc:creator>
  <dc:description/>
  <dc:language>en-US</dc:language>
  <cp:lastModifiedBy>fredje</cp:lastModifiedBy>
  <dcterms:modified xsi:type="dcterms:W3CDTF">2010-08-13T21:51:00Z</dcterms:modified>
  <cp:revision>3</cp:revision>
  <dc:subject/>
  <dc:title>Kein Folientitel</dc:title>
</cp:coreProperties>
</file>