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mood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95B-4EB6-4833-9D7E-B8DCA045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8CD-79D3-432E-8391-AA349519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7E1-8B3E-40CC-8C4D-07818F03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A32-7580-4306-8DC9-B02711C8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901D-84D2-4B23-9D70-30E47536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F92C-17FD-4823-B2E0-7CE4F486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31E-DCD8-42FF-B8DD-3539F56D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690F-147A-4652-BA4F-04EE1115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043-A72B-4097-9DB6-6AD64658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62B-DA63-48D0-AF7B-D1D928B2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59CC-3D5D-4F81-932D-89418025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5DC6-B7FF-404C-BD33-80C07992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C77C-7824-4272-BCE1-1E190D763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oo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Eigene Dateien\A\50er\1.jpg"/>
          <p:cNvPicPr/>
          <p:nvPr/>
        </p:nvPicPr>
        <p:blipFill>
          <a:blip r:embed="rId1"/>
          <a:stretch/>
        </p:blipFill>
        <p:spPr>
          <a:xfrm>
            <a:off x="0" y="115920"/>
            <a:ext cx="920124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Tekstvak 4"/>
          <p:cNvSpPr/>
          <p:nvPr/>
        </p:nvSpPr>
        <p:spPr>
          <a:xfrm>
            <a:off x="0" y="2133720"/>
            <a:ext cx="9252000" cy="3141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50 jaar geled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Il y a 50 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50 years bef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Vor 50 Jah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Hace 50 añ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Eigene Dateien\A\50er\10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Eigene Dateien\A\50er\11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Eigene Dateien\A\50er\12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Eigene Dateien\A\50er\13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Eigene Dateien\A\50er\14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Eigene Dateien\A\50er\15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Eigene Dateien\A\50er\16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Eigene Dateien\A\50er\17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Eigene Dateien\A\50er\18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Eigene Dateien\A\50er\2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Eigene Dateien\A\50er\3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Eigene Dateien\A\50er\4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Eigene Dateien\A\50er\5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Eigene Dateien\A\50er\6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Eigene Dateien\A\50er\7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Eigene Dateien\A\50er\8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Eigene Dateien\A\50er\9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21:31Z</dcterms:created>
  <dc:creator>karl</dc:creator>
  <dc:description/>
  <dc:language>en-US</dc:language>
  <cp:lastModifiedBy>fredje</cp:lastModifiedBy>
  <dcterms:modified xsi:type="dcterms:W3CDTF">2010-08-13T21:51:00Z</dcterms:modified>
  <cp:revision>3</cp:revision>
  <dc:subject/>
  <dc:title>Kein Folientitel</dc:title>
</cp:coreProperties>
</file>