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ndreams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FEC-E96B-4F13-B1DA-983907DD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386-C6D0-4464-BE05-738D658D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0AC-30EE-43B6-9B50-436FC733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C6B-E86F-4036-98CC-71827D35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FA78-AAB2-4948-9A73-1E188084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8339-4402-4DC9-9D07-D5F97524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EC44-46E3-4EC9-BD87-2E635D89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A3F4-055C-4EB9-B225-C53096E1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6BBF-68FF-4134-8FC1-78E08E24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CD81-8C8C-4E1C-A6EE-6C11EF63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2AF4-8D3A-47CE-AD6C-808FA846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773-E08F-4597-9CF9-145F1BEF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6DD4-1C32-4722-8AF4-E344673D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5711-1E88-4EA1-840E-53BB944D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FE96-B691-4164-9022-B5697242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1A4B-6127-497C-BFDE-98D29C21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BB77-5D68-41C8-983E-56C98672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319A-1843-4919-9A37-E2D88B99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B5E9-19AF-4B0C-BB0F-9F57CA4B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B232-611A-4BB1-99FF-CB7D18E5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1862-3031-4FDA-BF85-6C9BBB4D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E3FC-AE8C-4D32-852F-D3A07BD8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7F8-A8F3-4B45-BCD3-5D1A38EE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3730-3A50-41DD-8A87-964B0F6A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B7B6-4513-411F-8E2A-4D216D89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BB3B-FE76-4979-A149-EBEC7859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E06D-3375-4950-80C5-60194AA1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4530-3A75-46AB-BD4D-3BA120CC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1DCD-701B-4E4F-A103-2FD87C12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20F3-5BC9-4473-9EAF-B311D8E3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77D-2459-41B7-A289-A8027AE4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71F-A865-4935-96E0-786879B8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193-1622-43CC-9D47-09A92635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717-235A-411D-B716-CD6D9019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582-6D99-493D-979D-B6A7F6C6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2FF-7144-470B-91C6-6D21C2E8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778C-061A-47E8-8143-171D2871FB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4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6D76-3339-4B24-B9EC-6988217E26C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F8C9-2269-4C16-B42B-5955E210294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dream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187280" y="5950080"/>
            <a:ext cx="4353120" cy="36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ziek-Roy Orbison--Indream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2205000"/>
            <a:ext cx="277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83664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  <p:sndAc>
      <p:stSnd>
        <p:snd r:embed="rId2" name="indream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29360" y="3213000"/>
            <a:ext cx="2114640" cy="1028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5280" y="5516640"/>
            <a:ext cx="3672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Je geeft niets aan de ar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Je deelt iets met hen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Hindo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356000" y="5157720"/>
            <a:ext cx="431964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Staar je niet blind op een gesloten deur, maar kijk om je heen naar een deur die wel open i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Helen, K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Wanneer we op de grond vallen, doet dat pijn. Toch hebben we de grond weer nodig om overeind te krabbelen.”  </a:t>
            </a: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Kathleen Mc Dona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0920" y="5073480"/>
            <a:ext cx="2808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Mijn wolken treurend in het duister, vergeten dat zij het zelf zijn die de zon verborgen houd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Tag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24000" y="5229360"/>
            <a:ext cx="2663640" cy="15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Vrienden willen die geen fouten hebben, betekent dat je van niemand wilt houd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De S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219640" y="5300640"/>
            <a:ext cx="42483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Muziek begint altijd met stilt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Mstslav Restopov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76280"/>
            <a:ext cx="543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In het leven ben je voor jezelf een raadsel, maar na je dood weet iedereen opeens hoe goed je was. Hadden ze je het maar eerder verteld…” </a:t>
            </a: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Remco Cam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50920" y="60865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Wij dragen in ons de wonderen die wij buiten onszelf zoeken.” </a:t>
            </a: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Thomas Brow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59280" y="602136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Alleen in helder water zie je diepte…”</a:t>
            </a: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Rutger Kop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5734080"/>
            <a:ext cx="4500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Om rust te vinden moeten we ontslag nemen als heerser van het heel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00"/>
                </a:solidFill>
                <a:latin typeface="Comic Sans MS"/>
              </a:rPr>
              <a:t>Larry Eisen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5640" y="5805360"/>
            <a:ext cx="7848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Als wij ons licht laten stralen, geven we onbewust andere mensen de gelegenheid om het zelfde te do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Nelson Mand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43280" y="256536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cc0000"/>
                </a:solidFill>
                <a:latin typeface="Comic Sans MS"/>
              </a:rPr>
              <a:t>De eerste stap tot het realiseren van een droom is hem in je geest tot prioriteit maken.” </a:t>
            </a:r>
            <a:r>
              <a:rPr b="1" i="1" lang="nl-BE" sz="1400" spc="-1" strike="noStrike">
                <a:solidFill>
                  <a:srgbClr val="cc0000"/>
                </a:solidFill>
                <a:latin typeface="Comic Sans MS"/>
              </a:rPr>
              <a:t>Oosters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612720" y="-243000"/>
            <a:ext cx="9756720" cy="7318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5877000"/>
            <a:ext cx="91440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Het grootste 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geschenk</a:t>
            </a: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 dat je iemand kunt geven, is oprechte aandach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Dr.Richard M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9640" y="5950080"/>
            <a:ext cx="83534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2000" spc="-1" strike="noStrike">
                <a:solidFill>
                  <a:srgbClr val="ffff99"/>
                </a:solidFill>
                <a:latin typeface="Comic Sans MS"/>
              </a:rPr>
              <a:t>Tussen het volhouden door mag je best even uitrust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Olaf Hoe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4360" y="549360"/>
            <a:ext cx="81356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Niets is sterker dan een id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waarvoor de tijd gekomen i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Victor Hu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37184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27640" y="333360"/>
            <a:ext cx="471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Wees uw vijanden dankbaar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 voor de les in tolerantie, zelfbeheersing en geduld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Dalai L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187280" y="5433840"/>
            <a:ext cx="6913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Gelijk hebben hangt niet af van een luide stem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Oosters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333360"/>
            <a:ext cx="360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Het kleinste wordt g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als je het met liefde doe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3300"/>
                </a:solidFill>
                <a:latin typeface="Comic Sans MS"/>
              </a:rPr>
              <a:t>Pater Dami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95280" y="981000"/>
            <a:ext cx="201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Iets origineels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is moeilijk te vinden, maar gemakkelijk te herkenn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J.L.M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28:20Z</dcterms:created>
  <dc:creator/>
  <dc:description/>
  <dc:language>en-US</dc:language>
  <cp:lastModifiedBy>ludo</cp:lastModifiedBy>
  <dcterms:modified xsi:type="dcterms:W3CDTF">2010-05-05T18:29:19Z</dcterms:modified>
  <cp:revision>16</cp:revision>
  <dc:subject/>
  <dc:title>Gewoon Mooi</dc:title>
</cp:coreProperties>
</file>