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ndreams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0C3-0799-4E0A-9A17-5C10FFF1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92C-15A7-4A1C-9EA8-F0E85623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188-9270-4B70-A2D1-C572A3E6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457-F2A8-4CDA-BC28-31E42DE2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DD92-F6DC-46E9-9D97-97DBB8CB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6315-98A3-4F58-B8C0-A0F99B26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5949-0C0E-405D-9F51-D4252B04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FD2F-EA1B-4561-A505-9F12A040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ED0E-1D2C-41C4-A813-3C1C6A0E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2620-3FC9-420A-80CE-1A3E5675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1AAF-DD8D-4EC1-BED9-E5FEDA97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A5F-9C6D-43B0-866B-5FF1BFA6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782B-1F44-4AB4-AFBB-1CF62E76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892C-1E5B-4504-B602-2E96B665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76CB-A084-4ED2-945F-32754CD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D16C-D98A-4053-8A81-596F1675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3414-9435-4644-88F2-E2F0E5A6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BDC6D-B7A2-4410-B2D9-6D696BC1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1DA9-37F6-4F85-BAFA-EC77FFCC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E1A3F-6D55-4709-A168-63CC3176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7395E-0662-4165-AAA1-27C32C39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7A05-C405-49C1-91B6-8108FDDB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E1E-C3F0-4E28-B1E8-2BCEC576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8CCE-09F6-4E7F-B428-2F58EBA4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F6EE-149D-4586-9724-1B6861B9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1D9E4-35B5-460D-A815-BFE065D1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DBB0-1470-4C45-ABD4-D781350F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B50FC-A810-42EB-8BAF-C9A3BC09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CEB6F-82AA-4711-9CF4-3BBA1279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D945-0711-4D2A-BA05-F81560BE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EA0-1C17-44FB-A130-3EE84CA1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9623-F051-4595-B49E-598FCF66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46C-A930-4C74-BCFE-5D52B352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F19-C0C3-41F8-9C96-E38CB13B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EC6-F9F3-4A22-89ED-2D7ED3FA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143-2063-4687-8BA9-E72D413A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6E43-581C-4063-8F09-EA27B715E1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4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8DC8-79AA-4510-A619-DAD0487D823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C25A-B148-4469-A476-2A6A00ED9211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dream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187280" y="5950080"/>
            <a:ext cx="4353120" cy="36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ziek-Roy Orbison--Indream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2205000"/>
            <a:ext cx="277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83664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  <p:sndAc>
      <p:stSnd>
        <p:snd r:embed="rId2" name="indream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29360" y="3213000"/>
            <a:ext cx="2114640" cy="1028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5280" y="5516640"/>
            <a:ext cx="3672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Je geeft niets aan de ar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Je deelt iets met hen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Hindo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356000" y="5157720"/>
            <a:ext cx="431964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Staar je niet blind op een gesloten deur, maar kijk om je heen naar een deur die wel open i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Helen, K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Wanneer we op de grond vallen, doet dat pijn. Toch hebben we de grond weer nodig om overeind te krabbelen.”  </a:t>
            </a: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Kathleen Mc Dona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0920" y="5073480"/>
            <a:ext cx="2808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Mijn wolken treurend in het duister, vergeten dat zij het zelf zijn die de zon verborgen houd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Tag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24000" y="5229360"/>
            <a:ext cx="2663640" cy="15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Vrienden willen die geen fouten hebben, betekent dat je van niemand wilt houd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De S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219640" y="5300640"/>
            <a:ext cx="42483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Muziek begint altijd met stilt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Mstslav Restopov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76280"/>
            <a:ext cx="543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In het leven ben je voor jezelf een raadsel, maar na je dood weet iedereen opeens hoe goed je was. Hadden ze je het maar eerder verteld…” </a:t>
            </a: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Remco Cam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50920" y="60865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Wij dragen in ons de wonderen die wij buiten onszelf zoeken.” </a:t>
            </a: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Thomas Brow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59280" y="602136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Alleen in helder water zie je diepte…”</a:t>
            </a: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Rutger Kop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5734080"/>
            <a:ext cx="4500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Om rust te vinden moeten we ontslag nemen als heerser van het heel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00"/>
                </a:solidFill>
                <a:latin typeface="Comic Sans MS"/>
              </a:rPr>
              <a:t>Larry Eisen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5640" y="5805360"/>
            <a:ext cx="7848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Als wij ons licht laten stralen, geven we onbewust andere mensen de gelegenheid om het zelfde te do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Nelson Mand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43280" y="256536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cc0000"/>
                </a:solidFill>
                <a:latin typeface="Comic Sans MS"/>
              </a:rPr>
              <a:t>De eerste stap tot het realiseren van een droom is hem in je geest tot prioriteit maken.” </a:t>
            </a:r>
            <a:r>
              <a:rPr b="1" i="1" lang="nl-BE" sz="1400" spc="-1" strike="noStrike">
                <a:solidFill>
                  <a:srgbClr val="cc0000"/>
                </a:solidFill>
                <a:latin typeface="Comic Sans MS"/>
              </a:rPr>
              <a:t>Oosters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612720" y="-243000"/>
            <a:ext cx="9756720" cy="7318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5877000"/>
            <a:ext cx="91440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Het grootste 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geschenk</a:t>
            </a: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 dat je iemand kunt geven, is oprechte aandach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Dr.Richard M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9640" y="5950080"/>
            <a:ext cx="83534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2000" spc="-1" strike="noStrike">
                <a:solidFill>
                  <a:srgbClr val="ffff99"/>
                </a:solidFill>
                <a:latin typeface="Comic Sans MS"/>
              </a:rPr>
              <a:t>Tussen het volhouden door mag je best even uitrust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Olaf Hoe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4360" y="549360"/>
            <a:ext cx="81356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Niets is sterker dan een id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waarvoor de tijd gekomen i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Victor Hu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37184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27640" y="333360"/>
            <a:ext cx="471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Wees uw vijanden dankbaar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 voor de les in tolerantie, zelfbeheersing en geduld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Dalai L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187280" y="5433840"/>
            <a:ext cx="6913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Gelijk hebben hangt niet af van een luide stem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Oosters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333360"/>
            <a:ext cx="360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Het kleinste wordt g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als je het met liefde doe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3300"/>
                </a:solidFill>
                <a:latin typeface="Comic Sans MS"/>
              </a:rPr>
              <a:t>Pater Dami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95280" y="981000"/>
            <a:ext cx="201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Iets origineels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is moeilijk te vinden, maar gemakkelijk te herkenn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J.L.M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28:20Z</dcterms:created>
  <dc:creator/>
  <dc:description/>
  <dc:language>en-US</dc:language>
  <cp:lastModifiedBy>ludo</cp:lastModifiedBy>
  <dcterms:modified xsi:type="dcterms:W3CDTF">2010-05-05T18:29:19Z</dcterms:modified>
  <cp:revision>16</cp:revision>
  <dc:subject/>
  <dc:title>Gewoon Mooi</dc:title>
</cp:coreProperties>
</file>