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AUTOMNE%20ROSE1.wav" ContentType="audio/x-wav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7A84-4086-4D9C-A188-6D219E899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8B98-AFF5-4B81-AB61-FEBBD093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37D-7B94-4F45-90CA-9BE28FE0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F330-684C-4876-A385-F91AC849F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DB4D-662B-440F-B254-28470597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CEC9-68BF-4633-9263-39B5FAE5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958E-F35D-4C0F-8E48-CD68D1237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6AB0-97B9-44A4-9B78-A5977D9F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BC40-FA58-4069-997B-231320104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D888-67D9-4973-8720-89ED721A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FE80-150E-4246-A4E4-FFDDBE36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9E3C-7876-40EA-9322-746DA0C8F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506C-5C7F-48DD-B71E-E7A45370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BD8-3E12-499A-A889-15777E50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357D-5B79-4081-83B8-439C5C897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D91E-8C01-4279-B829-E2307F7AC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B9CB-9F52-419E-9D46-F1EF9DAC6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397E-1443-446A-8E4B-BAC86039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90CF-5439-4101-81D2-007760C69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6A1-484D-4793-9693-A7393CA2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2F58-B560-4C4D-8797-47902400D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D483-EB70-489E-AB4C-99A0FD6AC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7961-DD5D-4045-8068-D566B5F1C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5C33-C0F8-4B14-8623-8169B2B5E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C8C1-2104-4743-994C-6369F6739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05C-F62C-49CF-ABC9-DEB60D81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0341-2824-4A83-8CEC-ABDAA818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60FE-6E85-4049-B90B-54AAF45D0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B38D-241D-49E5-8EAB-16DBA1F5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A26C-B8D2-4083-B38F-79B044F1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4829-61A3-42CD-8082-7358F7A6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B05B-A797-446B-B329-CCF3C596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4B3A-87EB-49D1-889A-AD0AE29D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1664-C4C0-44F2-84C2-974A8ADF0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BC74-BFD6-4EE1-9FCB-2F15949F9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5721-27AC-4314-9DE3-2631516C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5115-3E0C-4517-9623-A2447A10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F245-D238-4BAF-922F-69691896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81C0-E4FB-476A-95C1-45A2DA401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8D6D-06F3-4FF8-9C09-E6D2609F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0145-B19D-4159-8A4A-22C74CBB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9F7-77A0-4458-9391-3253BA7E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9B8-29A1-4D58-9B2B-CA48B788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958-7B0C-4453-BA95-BF42370F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CDD-E9D1-40C1-BE6A-4FAEC646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620-1E1A-4AD8-AC9D-0F4FDC22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B1D-1FA1-4B60-8B41-814A6D78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692-21D5-4BD9-B235-64ADCD9D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66C-04FF-4996-8C4C-6176CFE1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038-D7B1-4FCD-890E-2AEE2C4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D66-3FC9-408F-A310-B4A5228E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A6C-99AE-4318-BA34-85DDE49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0C4-C9B8-4E76-BC31-92DF891A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7558-3494-4FB4-85FD-5C703251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TOMNE%20ROSE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1905120"/>
            <a:ext cx="8153280" cy="2364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99ff"/>
                </a:solidFill>
                <a:latin typeface="Arial"/>
              </a:rPr>
              <a:t>Het is preci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D549-33E7-4E09-A179-2A31ECF3816B}" type="datetime10">
              <a:rPr b="1" lang="fr-FR" sz="3200" spc="-1" strike="noStrike">
                <a:solidFill>
                  <a:srgbClr val="ff99ff"/>
                </a:solidFill>
                <a:latin typeface="Comic Sans MS"/>
              </a:rPr>
              <a:t>18:15</a:t>
            </a:fld>
            <a:r>
              <a:rPr b="1" lang="fr-FR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251728581_54987b7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607860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Wees niet bezorgd om een veldslag te verliezen, als dat jehelpt  om de oorlog te wi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94332596_7c65ba7b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85800" y="586728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ff"/>
                </a:solidFill>
                <a:latin typeface="Tahoma"/>
              </a:rPr>
              <a:t>Doe wat je op dat ogenblik moet d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434514386_9eb71427b3"/>
          <p:cNvPicPr/>
          <p:nvPr/>
        </p:nvPicPr>
        <p:blipFill>
          <a:blip r:embed="rId1"/>
          <a:stretch/>
        </p:blipFill>
        <p:spPr>
          <a:xfrm>
            <a:off x="0" y="0"/>
            <a:ext cx="10667880" cy="7848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914400" y="6248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es niet bang om                  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“Wees niet bang om “Ik weet het niet”     of “Excuus”te zeg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368476335_92352f64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609480" y="380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.Minstens  één  keer  per jaar moet je de zon zien opgaa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37555102_9d9833e226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09480" y="304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Kijk  de mensen recht in hun og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154053302_f6320e0b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8120" y="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Eenzaamheid is een gesteldheid van de geest. Je hebt geen andere mensen nodig om van jezelf te houden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141124027_bbd99c36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2057400" y="55627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rE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r is niets dat goed of dat slecht is in het leven. Dus doe een wijze keu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85007159_8e86fe2a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21932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BB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ehandel iedereen zoals je zelf behandeld wilt wo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438471391_bf4e486e05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133720" y="594216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eef nú !! Haast je niet om vooruit te komen. Je moet nú van het leven genieten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75778988_a3b40b89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762120" y="62164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Wees niet te streng voor jezelf. Je bent in dit leven gekomen om alles te leren over wie je bent. Dus do je voordeel met je ondervind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2133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ff"/>
                </a:solidFill>
                <a:latin typeface="Market"/>
              </a:rPr>
              <a:t>ORCHIDEEË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057400" y="5141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733920" y="5257800"/>
            <a:ext cx="186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Music:  Autumn R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1828800" y="3505320"/>
            <a:ext cx="5686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ff00ff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arket"/>
              </a:rPr>
              <a:t>.Gedachten voor dit ogenbik</a:t>
            </a:r>
            <a:endParaRPr b="0" lang="en-US" sz="3200" spc="1" strike="noStrike">
              <a:ln w="6480">
                <a:solidFill>
                  <a:srgbClr val="ff00ff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arket"/>
              <a:ea typeface="Market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0896759_fdf3f74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809880" y="6019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30120" y="601884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Zeg altijd de waa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80718500_43ef2efe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685800" y="22860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Geloof niet alles wat je hoort enzeg niet alles wat je denkt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288195569_888b9b72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914400" y="5667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en groot gedeelte van de groei als persoon komt door moeilijkheden en uitdagingen. Ontvlucht ze niet, want je moet weten dat ze je beter, sterker en wijzer mak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153023499_6bb82faf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447920" y="457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Leer luisteren !!  Het is een kuns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274212007_3b355b18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28600" y="38098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 het leven draait alles om energie.  Probeer haar te voelen  rondom en in jezelf. Maar onderscheid tussen het  positieve en het negati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52294236_c5d343a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791320" y="5486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eniet van de schoonheid  van de wereld om je he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433269740_1561eaba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28600" y="5867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nk goed na voor je je partner kiest, want van die keuze handgt een groot gedeelte van je geluk 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415485405_078d8592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3716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erlies nooit de controle over jezelf. Haal diep adem van te vor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276708318_80712746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228600" y="5867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Er bestaan geen toevalligheden in het leven. Alles, of het nu groot is of klein heeft een reden. Let goed 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288942475_0d324ecf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14300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Mediteer minstens dertig minuten per dag.</a:t>
            </a:r>
            <a:r>
              <a:rPr b="0" lang="es-CO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90232561_2fc0cc1c49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914400" y="457200"/>
            <a:ext cx="716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eem  de hoop van iemand niet weg,wnnt het kan alles zijn waaraan hij zich kanvasthou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46772122_478bc864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33520" y="5335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niet van je rustige ogenblikk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56831131_62dce565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248520" y="64447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038480" y="609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Houdt  je vriendschappen in 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207722694_d4f021bd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1828800" y="58039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ef  meer in de hart dan in je hoof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4251413_4534defd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762120" y="3808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Je hebt er recht op om gelukkig te zij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318655100_dcd9dc2f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600200" y="6019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evrijd jezelf van haat en bitterheid, want ze doen je veel kwa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391764903_d9e74fa8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0" y="0"/>
            <a:ext cx="289548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r zijn dingen in het leven die nooit terug te halen zijn: De woorden die je hebt gesproken, de tijd die voorbij is en de kansen die je hebt gehad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318655110_e2d3c900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2057400" y="607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oe één ding tegelijk en doe dat go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9893013_17be6777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r  zijn twee dominerende  krachten in het leven  de liefde en de angst .De liefde is de belangrijkste  Probeer niet angstig te zijn, want de angst stuurt  alles in de wa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243164041_02341d1c62"/>
          <p:cNvPicPr/>
          <p:nvPr/>
        </p:nvPicPr>
        <p:blipFill>
          <a:blip r:embed="rId1"/>
          <a:srcRect l="0" t="0" r="0" b="5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62120" y="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Hodt van je lichaan, want  zij weet wat je denkt, ze weet wanneer je gezond af ziek bent.  Ze geeft je altijd  goede  geachten in.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226970001_c11a4e33eb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0948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t op wat je zegt, want daarvan hangt een groot gedeelte van af wie je b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05616563_861e51f961"/>
          <p:cNvPicPr/>
          <p:nvPr/>
        </p:nvPicPr>
        <p:blipFill>
          <a:blip r:embed="rId1"/>
          <a:srcRect l="0" t="0" r="0" b="5104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828800" y="457200"/>
            <a:ext cx="56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eem geen beslissingen als je boos ben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96373243_1a161157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838080" y="304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r komt een dag dat  je achterom kijkt  en alles ziet wat je in je leven gedaan hebt.  En dan lach je je d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048120" y="6248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mgeef je elke dag met lich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0833439_f5cc071480"/>
          <p:cNvPicPr/>
          <p:nvPr/>
        </p:nvPicPr>
        <p:blipFill>
          <a:blip r:embed="rId1"/>
          <a:stretch/>
        </p:blipFill>
        <p:spPr>
          <a:xfrm>
            <a:off x="-990720" y="-76320"/>
            <a:ext cx="1066824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743200" y="609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Zorg goed voor je licha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45686891_0b623589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676520" y="6216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Betaal niet voor een werk voor dat het klaar i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52165602_0fb156c4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91440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Wees voorzichtig met hen die niets te verliezen hebb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83392534_bf3c610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14300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eer om “Nee” te zeggen maar doe het beleefd en met liefde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101490386_0924607c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762120" y="6324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erwacht niet dat het leven rechtvaardig i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6:24:29Z</dcterms:created>
  <dc:creator>andobarelly</dc:creator>
  <dc:description/>
  <dc:language>en-US</dc:language>
  <cp:lastModifiedBy>Sjaak Staats</cp:lastModifiedBy>
  <dcterms:modified xsi:type="dcterms:W3CDTF">2010-02-18T16:20:30Z</dcterms:modified>
  <cp:revision>62</cp:revision>
  <dc:subject/>
  <dc:title>orchids from viet nam</dc:title>
</cp:coreProperties>
</file>