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27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AUTOMNE%20ROSE1.wav" ContentType="audio/x-wav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7F02-9149-4847-A2D1-F050775D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710-5809-448E-B95B-6697EAA09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54D4-15EB-4E79-9B7A-45346BC33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8E3E-B0E5-4959-AB9B-F3D91A2EE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8F23-3681-4B76-9FB7-C982502C6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609-9BF3-4D2D-8EE0-088FBA2D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2715-FF74-44CA-BD0D-68B9481F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072F-7CD6-4411-B5AE-CBAE42D65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D9CB-9EB3-422D-9B57-4E975542E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42B9-54CE-4CDA-A84E-0DA2E7289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376C-053A-4ABA-AAD9-2554FA5A5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7339-ACED-4D28-8F51-4917BA85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B5B8-CFD9-4A91-BF8A-1434A5C2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7290-A454-4346-B187-5680CE5E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C767-7AB1-4A7F-A44C-963625F7A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217D-59F0-4C19-B18C-6036015B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8B87-461A-466B-8E8A-AAAC25AE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3CF3-5BFB-4B15-B4D3-99159B88B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AA28-27E0-4594-A9B0-28F877FBA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88A8-B4A8-457A-809D-9622D7B61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BEB5-F3C0-43B7-8DE3-F5D9024C8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D8B7-7D92-48F3-BD30-A2AB544E4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CB49-18B8-47F3-9F41-908552EDD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CD2F-917B-46E2-90EF-74B6A360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A13E-DAA4-4D84-8AC1-22AB1477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EDC-EFF0-47B2-BF05-70ED7FCC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902-5A22-4CC7-A7A2-297EA4136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EFF0-0DC1-46ED-9403-E0F1CA9A9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7535-C16C-4384-B7BD-721939529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C3E1-97F6-4B44-A423-9ECF090E7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F657-B3C3-4803-8655-8CAF87DB9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AF76-7F2B-4B71-9D98-6BF0C8FA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0E65-E14A-42B7-AD1A-CCEDF4819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922A-F770-40FF-8FFD-E0FCFFB7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15A0-E5A1-4B22-AE10-925ED5097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5F7D-598B-4DF8-9035-0BED25176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0FC6-BE05-4F26-8A44-D63F95C03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90CE-D35C-4BCE-ACDF-EB83AF155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A768-7C25-4C51-BCB9-CF65FB96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33C5-D9AA-425C-A0BA-A5A23B5DE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6861-5F02-4866-A443-8A4DE571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83F-4ABF-4445-B212-488FDFFF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C39-763D-44A9-BCDE-5EE5E9A9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C57-7287-480D-99F6-D417526F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47A-ABCE-4E06-89CA-B0CD55DF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9CA7-D87D-46E9-BDFA-4FFAEE97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F74-4A68-4239-9081-60BB6773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365-50CB-4ECA-90A2-31270571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800-4ADE-46B3-A65A-C9E4143C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65E-6235-47C1-BE03-E67CE3D8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B63-A55E-4376-A4CD-6D65D38A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6E0-6435-4BFF-B655-7B71B0A2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F66-B4BB-4A66-A676-40EC7711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8D6B-59B7-4FBC-A05F-9C5E5D72E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TOMNE%20ROSE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1905120"/>
            <a:ext cx="8153280" cy="2364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99ff"/>
                </a:solidFill>
                <a:latin typeface="Arial"/>
              </a:rPr>
              <a:t>Het is preci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E17A-C959-4A20-9BF8-EFD9F4169E35}" type="datetime10">
              <a:rPr b="1" lang="fr-FR" sz="3200" spc="-1" strike="noStrike">
                <a:solidFill>
                  <a:srgbClr val="ff99ff"/>
                </a:solidFill>
                <a:latin typeface="Comic Sans MS"/>
              </a:rPr>
              <a:t>13:38</a:t>
            </a:fld>
            <a:r>
              <a:rPr b="1" lang="fr-FR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251728581_54987b7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6078600"/>
            <a:ext cx="914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Wees niet bezorgd om een veldslag te verliezen, als dat jehelpt  om de oorlog te win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94332596_7c65ba7b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85800" y="5867280"/>
            <a:ext cx="52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99ff"/>
                </a:solidFill>
                <a:latin typeface="Tahoma"/>
              </a:rPr>
              <a:t>Doe wat je op dat ogenblik moet d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434514386_9eb71427b3"/>
          <p:cNvPicPr/>
          <p:nvPr/>
        </p:nvPicPr>
        <p:blipFill>
          <a:blip r:embed="rId1"/>
          <a:stretch/>
        </p:blipFill>
        <p:spPr>
          <a:xfrm>
            <a:off x="0" y="0"/>
            <a:ext cx="10667880" cy="7848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914400" y="6248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es niet bang om                          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“Wees niet bang om “Ik weet het niet”     of “Excuus”te zeg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368476335_92352f64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609480" y="380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ffff00"/>
                </a:solidFill>
                <a:latin typeface="Arial"/>
              </a:rPr>
              <a:t>.Minstens  één  keer  per jaar moet je de zon zien opgaa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37555102_9d9833e226"/>
          <p:cNvPicPr/>
          <p:nvPr/>
        </p:nvPicPr>
        <p:blipFill>
          <a:blip r:embed="rId1"/>
          <a:stretch/>
        </p:blipFill>
        <p:spPr>
          <a:xfrm>
            <a:off x="0" y="0"/>
            <a:ext cx="9144000" cy="7924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09480" y="304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Kijk  de mensen recht in hun og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154053302_f6320e0bd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8120" y="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Eenzaamheid is een gesteldheid van de geest. Je hebt geen andere mensen nodig om van jezelf te houden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141124027_bbd99c369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2057400" y="55627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rEr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r is niets dat goed of dat slecht is in het leven. Dus doe een wijze keu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85007159_8e86fe2a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219320" y="380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BB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ehandel iedereen zoals je zelf behandeld wilt wo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438471391_bf4e486e05"/>
          <p:cNvPicPr/>
          <p:nvPr/>
        </p:nvPicPr>
        <p:blipFill>
          <a:blip r:embed="rId1"/>
          <a:stretch/>
        </p:blipFill>
        <p:spPr>
          <a:xfrm>
            <a:off x="0" y="0"/>
            <a:ext cx="9448920" cy="7162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133720" y="594216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eef nú !! Haast je niet om vooruit te komen. Je moet nú van het leven genieten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75778988_a3b40b89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762120" y="62164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Wees niet te streng voor jezelf. Je bent in dit leven gekomen om alles te leren over wie je bent. Dus do je voordeel met je ondervind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21337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33ff"/>
                </a:solidFill>
                <a:latin typeface="Market"/>
              </a:rPr>
              <a:t>ORCHIDEEË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057400" y="5141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733920" y="5257800"/>
            <a:ext cx="186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Music:  Autumn R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1828800" y="3505320"/>
            <a:ext cx="56865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ff00ff"/>
                  </a:solidFill>
                  <a:miter/>
                </a:ln>
                <a:blipFill rotWithShape="0">
                  <a:blip r:embed="rId1">
                    <a:alphaModFix amt="5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arket"/>
              </a:rPr>
              <a:t>.Gedachten voor dit ogenbik</a:t>
            </a:r>
            <a:endParaRPr b="0" lang="en-US" sz="3200" spc="1" strike="noStrike">
              <a:ln w="6480">
                <a:solidFill>
                  <a:srgbClr val="ff00ff"/>
                </a:solidFill>
                <a:miter/>
              </a:ln>
              <a:blipFill rotWithShape="0">
                <a:blip r:embed="rId2">
                  <a:alphaModFix amt="50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arket"/>
              <a:ea typeface="Market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10896759_fdf3f74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809880" y="6019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30120" y="6018840"/>
            <a:ext cx="26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Zeg altijd de waarhe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80718500_43ef2efe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685800" y="22860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Geloof niet alles wat je hoort enzeg niet alles wat je denkt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288195569_888b9b72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914400" y="5667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en groot gedeelte van de groei als persoon komt door moeilijkheden en uitdagingen. Ontvlucht ze niet, want je moet weten dat ze je beter, sterker en wijzer mak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153023499_6bb82faf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447920" y="4572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CO" sz="1800" spc="-1" strike="noStrike">
                <a:solidFill>
                  <a:srgbClr val="ffffff"/>
                </a:solidFill>
                <a:latin typeface="Tahoma"/>
              </a:rPr>
              <a:t>Leer luisteren !!  Het is een kuns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274212007_3b355b18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228600" y="38098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 het leven draait alles om energie.  Probeer haar te voelen  rondom en in jezelf. Maar onderscheid tussen het  positieve en het negatie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352294236_c5d343a3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5791320" y="5486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Geniet van de schoonheid  van de wereld om je he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433269740_1561eabaf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28600" y="5867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nk goed na voor je je partner kiest, want van die keuze handgt een groot gedeelte van je geluk 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415485405_078d8592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13716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erlies nooit de controle over jezelf. Haal diep adem van te vor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276708318_80712746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228600" y="5867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Er bestaan geen toevalligheden in het leven. Alles, of het nu groot is of klein heeft een reden. Let goed 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288942475_0d324ecf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14300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s-CO" sz="1800" spc="-1" strike="noStrike">
                <a:solidFill>
                  <a:srgbClr val="ffffff"/>
                </a:solidFill>
                <a:latin typeface="Tahoma"/>
              </a:rPr>
              <a:t>Mediteer minstens dertig minuten per dag.</a:t>
            </a:r>
            <a:r>
              <a:rPr b="0" lang="es-CO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390232561_2fc0cc1c49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914400" y="457200"/>
            <a:ext cx="7162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eem  de hoop van iemand niet weg,wnnt het kan alles zijn waaraan hij zich kanvasthou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46772122_478bc8641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33520" y="5335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eniet van je rustige ogenblikke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56831131_62dce565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248520" y="644472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038480" y="609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ff"/>
                </a:solidFill>
                <a:latin typeface="Arial"/>
              </a:rPr>
              <a:t>Houdt  je vriendschappen in 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207722694_d4f021bd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9"/>
          <p:cNvSpPr/>
          <p:nvPr/>
        </p:nvSpPr>
        <p:spPr>
          <a:xfrm>
            <a:off x="1828800" y="58039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Leef  meer in de hart dan in je hoof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4251413_4534defd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762120" y="3808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Je hebt er recht op om gelukkig te zij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318655100_dcd9dc2f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600200" y="6019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evrijd jezelf van haat en bitterheid, want ze doen je veel kwa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391764903_d9e74fa8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0" y="0"/>
            <a:ext cx="2895480" cy="228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r zijn dingen in het leven die nooit terug te halen zijn: De woorden die je hebt gesproken, de tijd die voorbij is en de kansen die je hebt gehad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318655110_e2d3c900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2057400" y="6078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oe één ding tegelijk en doe dat go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9893013_17be67772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r  zijn twee dominerende  krachten in het leven  de liefde en de angst .De liefde is de belangrijkste  Probeer niet angstig te zijn, want de angst stuurt  alles in de wa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243164041_02341d1c62"/>
          <p:cNvPicPr/>
          <p:nvPr/>
        </p:nvPicPr>
        <p:blipFill>
          <a:blip r:embed="rId1"/>
          <a:srcRect l="0" t="0" r="0" b="55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62120" y="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O" sz="1800" spc="-1" strike="noStrike">
                <a:solidFill>
                  <a:srgbClr val="ffffff"/>
                </a:solidFill>
                <a:latin typeface="Arial"/>
              </a:rPr>
              <a:t>Hodt van je lichaan, want  zij weet wat je denkt, ze weet wanneer je gezond af ziek bent.  Ze geeft je altijd  goede  geachten in.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226970001_c11a4e33eb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0948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t op wat je zegt, want daarvan hangt een groot gedeelte van af wie je b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05616563_861e51f961"/>
          <p:cNvPicPr/>
          <p:nvPr/>
        </p:nvPicPr>
        <p:blipFill>
          <a:blip r:embed="rId1"/>
          <a:srcRect l="0" t="0" r="0" b="5104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1828800" y="457200"/>
            <a:ext cx="56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eem geen beslissingen als je boos ben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96373243_1a161157a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838080" y="304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Er komt een dag dat  je achterom kijkt  en alles ziet wat je in je leven gedaan hebt.  En dan lach je je d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048120" y="6248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mgeef je elke dag met licht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0833439_f5cc071480"/>
          <p:cNvPicPr/>
          <p:nvPr/>
        </p:nvPicPr>
        <p:blipFill>
          <a:blip r:embed="rId1"/>
          <a:stretch/>
        </p:blipFill>
        <p:spPr>
          <a:xfrm>
            <a:off x="-990720" y="-76320"/>
            <a:ext cx="1066824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2743200" y="6094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Zorg goed voor je licha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45686891_0b623589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676520" y="6216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Betaal niet voor een werk voor dat het klaar is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152165602_0fb156c4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91440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Wees voorzichtig met hen die niets te verliezen hebbe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83392534_bf3c6106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14300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eer om “Nee” te zeggen maar doe het beleefd en met liefde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101490386_0924607c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762120" y="6324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Verwacht niet dat het leven rechtvaardig i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6:24:29Z</dcterms:created>
  <dc:creator>andobarelly</dc:creator>
  <dc:description/>
  <dc:language>en-US</dc:language>
  <cp:lastModifiedBy>Sjaak Staats</cp:lastModifiedBy>
  <dcterms:modified xsi:type="dcterms:W3CDTF">2010-02-18T16:20:30Z</dcterms:modified>
  <cp:revision>62</cp:revision>
  <dc:subject/>
  <dc:title>orchids from viet nam</dc:title>
</cp:coreProperties>
</file>