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moon%20river%20%20instrumentaal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714-1029-4716-8B0E-DA6A9D22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0DF-45DF-4A3B-8E8F-7AA3EC5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4F3-2A9C-4420-9C61-F37155BF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F78-42CF-40F9-BD1D-0AA9B5B0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993-3A6F-46A8-A1E2-C9F0A2B1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A1D-535C-461B-861D-3578CC44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097-8A95-4948-913A-A23662C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316-4B9E-40BD-AEC4-E9630DA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CEC-DCCA-4952-A844-675037F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B07-AE71-4A5A-AB64-652E6D2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7C6-1438-4A14-A2A0-AAA4637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29F-4EA9-4067-AF17-177237E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F1DE-C15E-44FD-A8B2-A9CEFC19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n%20river%20%20instrumentaa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3124080"/>
            <a:ext cx="3409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elkom</a:t>
            </a:r>
            <a:endParaRPr b="1" i="1" lang="en-US" sz="7200" spc="1" strike="noStrike">
              <a:ln w="9360">
                <a:solidFill>
                  <a:srgbClr val="008000"/>
                </a:solidFill>
                <a:miter/>
              </a:ln>
              <a:solidFill>
                <a:srgbClr val="ccff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8769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ff66"/>
                </a:solidFill>
                <a:latin typeface="Tempus Sans ITC"/>
              </a:rPr>
              <a:t>Er is slechts één leven voor ieder van 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ff66"/>
                </a:solidFill>
                <a:latin typeface="Tempus Sans ITC"/>
              </a:rPr>
              <a:t>Een eigen lev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800600"/>
            <a:ext cx="8077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Wees een ZON voor je medemens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Het leven zal zoveel mooier zij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53341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ccff66"/>
                </a:solidFill>
                <a:latin typeface="Tempus Sans ITC"/>
              </a:rPr>
              <a:t>De eerste kus wordt niet met de mond , maar met de ogen gegev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33412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3333cc"/>
                </a:solidFill>
                <a:latin typeface="Tempus Sans ITC"/>
              </a:rPr>
              <a:t>De sleutel tot het </a:t>
            </a:r>
            <a:r>
              <a:rPr b="1" i="1" lang="nl-BE" sz="4400" spc="-1" strike="noStrike">
                <a:solidFill>
                  <a:srgbClr val="3333cc"/>
                </a:solidFill>
                <a:latin typeface="Tempus Sans ITC"/>
              </a:rPr>
              <a:t>HART </a:t>
            </a:r>
            <a:r>
              <a:rPr b="1" i="1" lang="nl-BE" sz="4000" spc="-1" strike="noStrike">
                <a:solidFill>
                  <a:srgbClr val="3333cc"/>
                </a:solidFill>
                <a:latin typeface="Tempus Sans ITC"/>
              </a:rPr>
              <a:t>is altijd de </a:t>
            </a:r>
            <a:r>
              <a:rPr b="1" i="1" lang="nl-BE" sz="4400" spc="-1" strike="noStrike">
                <a:solidFill>
                  <a:srgbClr val="3333cc"/>
                </a:solidFill>
                <a:latin typeface="Tempus Sans ITC"/>
              </a:rPr>
              <a:t>LIEFD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3808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ccff66"/>
                </a:solidFill>
                <a:latin typeface="Tempus Sans ITC"/>
              </a:rPr>
              <a:t>“</a:t>
            </a:r>
            <a:r>
              <a:rPr b="1" i="1" lang="nl-BE" sz="4000" spc="-1" strike="noStrike">
                <a:solidFill>
                  <a:srgbClr val="ccff66"/>
                </a:solidFill>
                <a:latin typeface="Tempus Sans ITC"/>
              </a:rPr>
              <a:t>DANK” zeggen , maakt altijd twee mensen gelukki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5257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Het leven is geen kleinigheid , maar het bestaat wel uit kleine ding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800600"/>
            <a:ext cx="6705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“ </a:t>
            </a: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Haat kan geen haat verdrijven 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enkel LIEFDE is daartoe in staat “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51814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99ff33"/>
                </a:solidFill>
                <a:latin typeface="Tempus Sans ITC"/>
              </a:rPr>
              <a:t>Het eenzaamste plekje op aarde , is een HART zonder LIEFD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380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99ff33"/>
                </a:solidFill>
                <a:latin typeface="Tempus Sans ITC"/>
              </a:rPr>
              <a:t>Geen grond is zo goed , als de grond van je HART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1880" y="6156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101000" y="5029200"/>
            <a:ext cx="2043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.. einde 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Tempus Sans ITC"/>
              </a:rPr>
              <a:t>Ôp het pad der vriendschap bloeien de mooiste bloemen… Ze het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160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3333ff"/>
                </a:solidFill>
                <a:latin typeface="Tempus Sans ITC"/>
              </a:rPr>
              <a:t>Verdraagzaamheid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0574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66cc"/>
                </a:solidFill>
                <a:latin typeface="Tempus Sans ITC"/>
              </a:rPr>
              <a:t>Eerlijkheid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743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6600"/>
                </a:solidFill>
                <a:latin typeface="Tempus Sans ITC"/>
              </a:rPr>
              <a:t>Hulpvaardigheid , 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5812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ccff66"/>
                </a:solidFill>
                <a:latin typeface="Tempus Sans ITC"/>
              </a:rPr>
              <a:t>Vertrouwe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40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0988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66"/>
                </a:solidFill>
                <a:latin typeface="Tempus Sans ITC"/>
              </a:rPr>
              <a:t> </a:t>
            </a: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Droom wat je wilt dro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Ga daarheen waar je naartoe wil ga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Probeer te zijn wie je wil zij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733920"/>
            <a:ext cx="8381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00"/>
                </a:solidFill>
                <a:latin typeface="Tempus Sans ITC"/>
              </a:rPr>
              <a:t>In het leven zijn er momenten waarop je iemand heel erg mis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00"/>
                </a:solidFill>
                <a:latin typeface="Tempus Sans ITC"/>
              </a:rPr>
              <a:t>Die iemand zou je dan uit je dromen willen laten opstaan , om vervolgens stevig in je armen te houden!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800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5f5f5f"/>
                </a:solidFill>
                <a:latin typeface="Tempus Sans ITC"/>
              </a:rPr>
              <a:t>Omdat het leven uniek is , bestaat er slechts één mogelijkheid om de dingen te doen , die we willen do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6483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ccff66"/>
                </a:solidFill>
                <a:latin typeface="Tempus Sans ITC"/>
              </a:rPr>
              <a:t>Een mooie toekomst zal altijd afhangen van de noodzaak om het verleden te verget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33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empus Sans ITC"/>
              </a:rPr>
              <a:t>…</a:t>
            </a: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Vergeet nooit die persoon die je het positieve liet zien toen je het even niet meer zag zitten</a:t>
            </a:r>
            <a:r>
              <a:rPr b="1" lang="nl-BE" sz="3600" spc="-1" strike="noStrike">
                <a:solidFill>
                  <a:srgbClr val="ffff00"/>
                </a:solidFill>
                <a:latin typeface="Tempus Sans ITC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8006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ccff66"/>
                </a:solidFill>
                <a:latin typeface="Tempus Sans ITC"/>
              </a:rPr>
              <a:t>Leef het leven volop , haal alles uit het leven , zodat je altijd kunt lachen ondanks er soms tranen zij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419720"/>
            <a:ext cx="8686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Tempus Sans ITC"/>
              </a:rPr>
              <a:t>Vertrouw niet op schijn , die is vaak bedrieglij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Tempus Sans ITC"/>
              </a:rPr>
              <a:t>Let niet teveel op rijkdom , die kan snel verdwijn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0292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Kijk niet naar mooie gezichten die snel vergaan , maar naar de goede HARTEN die altijd blijven besta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3:08:26Z</dcterms:created>
  <dc:creator>;-)</dc:creator>
  <dc:description/>
  <dc:language>en-US</dc:language>
  <cp:lastModifiedBy>Microsoft</cp:lastModifiedBy>
  <dcterms:modified xsi:type="dcterms:W3CDTF">2007-11-15T10:12:21Z</dcterms:modified>
  <cp:revision>15</cp:revision>
  <dc:subject/>
  <dc:title>PowerPoint Presentation</dc:title>
</cp:coreProperties>
</file>