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ndreams.wav" ContentType="audio/x-wav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E79-99B3-4C77-99A5-8D6E04D2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E8A-3767-4CAC-B419-CF3D0B60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C5E-E0B4-4218-91A5-856399D0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9D5-3285-48EC-8815-1AE56589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501-D340-42EB-9C82-5514FA54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8E87-59AF-4A84-A431-37F21FC6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7E7-315E-4E11-BF8B-5EFB947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08EC-F3F6-4BBD-B903-3BEBE2A0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A9C1-420C-4669-92CD-E790287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AA3F-FFAE-4E4B-A217-791FCB6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C828-A679-409F-BDE8-D373B53A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465-7D6D-45F6-A10C-2579B2B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46F5-74C3-4BDA-AB59-4014EBB0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D0A9-CB32-46B2-AC76-3DCA627A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A012-1A7B-4274-98CC-9EF26D9A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5F20-6FFC-4A7C-8362-47F059E3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12F-D66A-4758-9500-1990BDBA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391E-F82C-47DE-9311-C065A59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F4A9-6915-4DF0-94AB-5F4C65F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12C9-02F3-431C-90DB-B8F7A8A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D17D-5AB1-4DE5-9D95-1086887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10A6-FD2A-4478-8915-9BE88BD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D2B-41C5-4EB8-BC18-6799611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2A7B-3823-4E3E-B538-8DCE7B60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91A1-2B4F-41F0-BA5F-826F1AE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CDB0D-FEC1-4B7E-8410-815CA79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54B8-D069-465D-8604-6657880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F395-4F28-4D5C-BF16-26B7B531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D1BF-685A-40C7-82B1-8B966676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B3F1-3B41-484C-B2B8-67D93AF6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BE2-C786-4BD8-BC9B-3944876D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73E-74B8-4169-963B-C64EC5B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14C-22C9-40FC-991B-194217AA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FF4-C637-44B6-A94C-22E8311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B38-51B5-4215-A677-E6CCE503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F40-3509-4CE2-AFB2-7245DE9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88EE-0636-4C8A-9782-1ACB3D24044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55A-5E3B-49EF-ABEC-AF1AA5A7F3C9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117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A2E-0AFB-4DDF-BB8A-50FE6E7874EB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dream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1187280" y="5950080"/>
            <a:ext cx="4353120" cy="361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uziek-Roy Orbison--Indreams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2205000"/>
            <a:ext cx="277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83664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newsflash/>
    <p:sndAc>
      <p:stSnd>
        <p:snd r:embed="rId2" name="indream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29360" y="3213000"/>
            <a:ext cx="2114640" cy="1028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95280" y="5516640"/>
            <a:ext cx="3672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geeft niets aan de arm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Je deelt iets met hen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Hindo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5157720"/>
            <a:ext cx="431964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Staar je niet blind op een gesloten deur, maar kijk om je heen naar een deur die wel op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Helen, K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4000" y="59500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anneer we op de grond vallen, doet dat pijn. Toch hebben we de grond weer nodig om overeind te krabbelen.” 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Kathleen Mc Dona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073480"/>
            <a:ext cx="2808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ijn wolken treurend in het duister, vergeten dat zij het zelf zijn die de zon verborgen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Tag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24000" y="5229360"/>
            <a:ext cx="266364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Vrienden willen die geen fouten hebben, betekent dat je van niemand wilt houd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De S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219640" y="5300640"/>
            <a:ext cx="424836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Muziek begint altijd met stilt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Mstslav Restopov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543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In het leven ben je voor jezelf een raadsel, maar na je dood weet iedereen opeens hoe goed je was. Hadden ze je het maar eerder verteld…” </a:t>
            </a:r>
            <a:r>
              <a:rPr b="1" i="1" lang="nl-BE" sz="1400" spc="-1" strike="noStrike">
                <a:solidFill>
                  <a:srgbClr val="ffffcc"/>
                </a:solidFill>
                <a:latin typeface="Comic Sans MS"/>
              </a:rPr>
              <a:t>Remco Cam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50920" y="608652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ij dragen in ons de wonderen die wij buiten onszelf zoeken.” 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Thomas Bro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59280" y="6021360"/>
            <a:ext cx="58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Alleen in helder water zie je diepte…”</a:t>
            </a: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Rutger Kop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5734080"/>
            <a:ext cx="4500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00"/>
                </a:solidFill>
                <a:latin typeface="Comic Sans MS"/>
              </a:rPr>
              <a:t>Om rust te vinden moeten we ontslag nemen als heerser van het heel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00"/>
                </a:solidFill>
                <a:latin typeface="Comic Sans MS"/>
              </a:rPr>
              <a:t>Larry Eise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5640" y="5805360"/>
            <a:ext cx="784872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Als wij ons licht laten stralen, geven we onbewust andere mensen de gelegenheid om het zelfde te do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Nelson Mand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43280" y="25653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cc0000"/>
                </a:solidFill>
                <a:latin typeface="Comic Sans MS"/>
              </a:rPr>
              <a:t>De eerste stap tot het realiseren van een droom is hem in je geest tot prioriteit maken.” </a:t>
            </a:r>
            <a:r>
              <a:rPr b="1" i="1" lang="nl-BE" sz="1400" spc="-1" strike="noStrike">
                <a:solidFill>
                  <a:srgbClr val="cc0000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9756720" cy="7318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587700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Het grootste 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schenk</a:t>
            </a:r>
            <a:r>
              <a:rPr b="1" i="1" lang="nl-BE" sz="1800" spc="-1" strike="noStrike">
                <a:solidFill>
                  <a:srgbClr val="ffff99"/>
                </a:solidFill>
                <a:latin typeface="Arial"/>
              </a:rPr>
              <a:t> dat je iemand kunt geven, is oprechte aandach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r.Richard M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9640" y="5950080"/>
            <a:ext cx="83534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2000" spc="-1" strike="noStrike">
                <a:solidFill>
                  <a:srgbClr val="ffff99"/>
                </a:solidFill>
                <a:latin typeface="Comic Sans MS"/>
              </a:rPr>
              <a:t>Tussen het volhouden door mag je best even uitruste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laf Ho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4360" y="549360"/>
            <a:ext cx="81356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Niets is sterker dan een id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waarvoor de tijd gekomen i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Victor Hu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37184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27640" y="333360"/>
            <a:ext cx="47163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cc"/>
                </a:solidFill>
                <a:latin typeface="Comic Sans MS"/>
              </a:rPr>
              <a:t>Wees uw vijanden dankbaar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voor de les in tolerantie, zelfbeheersing en geduld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Dalai L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87280" y="5433840"/>
            <a:ext cx="6913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Gelijk hebben hangt niet af van een luide stem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ff99"/>
                </a:solidFill>
                <a:latin typeface="Comic Sans MS"/>
              </a:rPr>
              <a:t>Oosterse wijs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33360"/>
            <a:ext cx="360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Het kleinste wordt gro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3300"/>
                </a:solidFill>
                <a:latin typeface="Comic Sans MS"/>
              </a:rPr>
              <a:t>als je het met liefde doet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3300"/>
                </a:solidFill>
                <a:latin typeface="Comic Sans MS"/>
              </a:rPr>
              <a:t>Pater Damia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95280" y="981000"/>
            <a:ext cx="201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ets origineels</a:t>
            </a:r>
            <a:r>
              <a:rPr b="1" i="1" lang="nl-BE" sz="18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i="1" lang="nl-BE" sz="1800" spc="-1" strike="noStrike">
                <a:solidFill>
                  <a:srgbClr val="ffcc00"/>
                </a:solidFill>
                <a:latin typeface="Comic Sans MS"/>
              </a:rPr>
              <a:t>is moeilijk te vinden, maar gemakkelijk te herkenne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ffcc00"/>
                </a:solidFill>
                <a:latin typeface="Comic Sans MS"/>
              </a:rPr>
              <a:t>J.L.M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28:20Z</dcterms:created>
  <dc:creator/>
  <dc:description/>
  <dc:language>en-US</dc:language>
  <cp:lastModifiedBy>ludo</cp:lastModifiedBy>
  <dcterms:modified xsi:type="dcterms:W3CDTF">2010-05-05T18:29:19Z</dcterms:modified>
  <cp:revision>16</cp:revision>
  <dc:subject/>
  <dc:title>Gewoon Mooi</dc:title>
</cp:coreProperties>
</file>