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ndreams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802-62F9-4390-AC4F-0EC29C9E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7BA-D9A3-4BA3-AD54-54C8DD3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190-DDF7-4F2F-AB4C-0F3E4774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447-95EA-448E-9EA4-B0790BFB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D8C6-14D7-4E1C-8C3F-85B1D991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342C-1248-40A4-AA36-316392C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B59-81E8-4FF6-B697-94A7A61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9D7-94E3-4F0A-90E5-2D5DF5A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238-6A79-4041-8DD9-85E42E0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2AA-AE83-45F9-9100-58C92C19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96FD-2C4B-4562-984B-E3FE303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909-3A06-4B38-AE65-A7BD975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43E-FD77-429B-A0D2-CDB268F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A59A-1924-4ED1-8414-7D12431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FDAE-708F-4571-B568-4A11BAF4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A51F-CB57-4AD6-B92D-E1AE7099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4B7-977E-4B7B-8B57-223C27A5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2112-D432-4064-8FC4-F510BAF0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57C2-EF83-4D94-A81C-15C1398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F672-FC3E-4952-9754-878C4203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36DA-8E4F-4D4E-AD78-3D27DEB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B12B-64F7-4B04-B206-2A10735E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E1D-CDA4-412D-8167-A05163EF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72EA-B107-4D1B-B43A-25BD0D1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2078-FB35-4EF7-B2E3-9CA8996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EF69-63C6-4F7D-A11B-7E7E2A3D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8751-B04C-468D-97E3-4FAC877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072F-C0E1-4908-AC99-8BFF73F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9ADC-3CC0-42C4-B581-6A2D402D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027F-7B3E-4FD3-AE62-F8E2A3B6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FC2-DB64-409B-96BC-1750272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527-F01E-43C4-8FAE-8FECD81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4F-E1C8-4E7A-9EAC-C9CCF7B4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2A1-87D0-466E-9629-298FDD9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DC9-2D5C-484E-894B-303456F5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611-EAA1-4CB6-A1F9-4CDBC7C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07D-E01F-4009-B977-CF50FEB5CB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FAAA-714B-4899-9492-E86334C088F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5C0D-E4F9-47F8-932F-61904BE2849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ream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87280" y="5950080"/>
            <a:ext cx="435312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ziek-Roy Orbison--Indream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2205000"/>
            <a:ext cx="27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83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  <p:sndAc>
      <p:stSnd>
        <p:snd r:embed="rId2" name="indream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9360" y="3213000"/>
            <a:ext cx="2114640" cy="1028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5516640"/>
            <a:ext cx="36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geeft niets aan de a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deelt iets met hen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Hindo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5157720"/>
            <a:ext cx="43196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Staar je niet blind op een gesloten deur, maar kijk om je heen naar een deur die wel op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Helen, K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anneer we op de grond vallen, doet dat pijn. Toch hebben we de grond weer nodig om overeind te krabbelen.” 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Kathleen Mc Dona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073480"/>
            <a:ext cx="280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ijn wolken treurend in het duister, vergeten dat zij het zelf zijn die de zon verborgen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Tag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4000" y="5229360"/>
            <a:ext cx="266364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Vrienden willen die geen fouten hebben, betekent dat je van niemand wilt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De S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219640" y="5300640"/>
            <a:ext cx="4248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uziek begint altijd met stil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Mstslav Restopov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54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In het leven ben je voor jezelf een raadsel, maar na je dood weet iedereen opeens hoe goed je was. Hadden ze je het maar eerder verteld…”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Remco Cam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60865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ij dragen in ons de wonderen die wij buiten onszelf zoeken.” 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Thomas Bro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59280" y="602136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Alleen in helder water zie je diepte…”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Rutger Kop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5734080"/>
            <a:ext cx="4500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Om rust te vinden moeten we ontslag nemen als heerser van het heel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00"/>
                </a:solidFill>
                <a:latin typeface="Comic Sans MS"/>
              </a:rPr>
              <a:t>Larry Eis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5805360"/>
            <a:ext cx="7848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Als wij ons licht laten stralen, geven we onbewust andere mensen de gelegenheid om het zelfde te do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Nelson Mand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43280" y="25653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De eerste stap tot het realiseren van een droom is hem in je geest tot prioriteit maken.” </a:t>
            </a:r>
            <a:r>
              <a:rPr b="1" i="1" lang="nl-BE" sz="1400" spc="-1" strike="noStrike">
                <a:solidFill>
                  <a:srgbClr val="cc0000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9756720" cy="7318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87700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Het grootste 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schenk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 dat je iemand kunt geven, is oprechte aandac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r.Richard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5950080"/>
            <a:ext cx="8353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Tussen het volhouden door mag je best even uitrust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laf Ho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549360"/>
            <a:ext cx="8135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Niets is sterker dan een id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aarvoor de tijd gekom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Victor Hu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37184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333360"/>
            <a:ext cx="471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ees uw vijanden dankbaar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voor de les in tolerantie, zelfbeheersing en geduld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alai 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87280" y="5433840"/>
            <a:ext cx="6913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lijk hebben hangt niet af van een luide stem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33360"/>
            <a:ext cx="360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Het kleinste wordt g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als je het met liefde doe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3300"/>
                </a:solidFill>
                <a:latin typeface="Comic Sans MS"/>
              </a:rPr>
              <a:t>Pater Dami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95280" y="981000"/>
            <a:ext cx="201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ets origineels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s moeilijk te vinden, maar gemakkelijk te herkenn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J.L.M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28:20Z</dcterms:created>
  <dc:creator/>
  <dc:description/>
  <dc:language>en-US</dc:language>
  <cp:lastModifiedBy>ludo</cp:lastModifiedBy>
  <dcterms:modified xsi:type="dcterms:W3CDTF">2010-05-05T18:29:19Z</dcterms:modified>
  <cp:revision>16</cp:revision>
  <dc:subject/>
  <dc:title>Gewoon Mooi</dc:title>
</cp:coreProperties>
</file>