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2.jpeg" ContentType="image/jpeg"/>
  <Override PartName="/ppt/media/IL%20DIVO%20Unchained%20M%C3%A9lody...wav" ContentType="audio/x-wav"/>
  <Override PartName="/ppt/media/image2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A13-9B33-4510-8725-C38B3FAE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070-346D-4493-869E-14038C9D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FA2-FF57-4099-B364-97578463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F6E-E566-4EC7-BBBB-15558B25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BFB-D184-4A75-8477-53698C1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6F1-0EF3-43EE-B5CE-70B94461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D1E-95F6-48AF-BB89-3AE1BC59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2A2-0FF4-4615-A3C8-D4B063AA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ED9-20A4-495F-9AA3-E30C36B6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E92-0AC7-4A67-A467-0A458510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CCC-C93D-462A-9045-B7206F4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7C0-00DD-40BA-A2AE-6E95176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0DE7-C0F9-4780-8567-FB8C1FBEA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L%20DIVO%20Unchained%20M&#233;lody.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84720" y="2565360"/>
            <a:ext cx="39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0520"/>
            <a:ext cx="720108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165720"/>
            <a:ext cx="738036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92360" y="1916280"/>
            <a:ext cx="32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-12600"/>
            <a:ext cx="8642160" cy="69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-3240"/>
            <a:ext cx="82803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89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219640" y="335772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637000"/>
            <a:ext cx="244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41400"/>
            <a:ext cx="8496000" cy="68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56000" y="260280"/>
            <a:ext cx="37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40000" y="17640"/>
            <a:ext cx="506268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5373720"/>
            <a:ext cx="431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9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227640" y="2781360"/>
            <a:ext cx="27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42840"/>
            <a:ext cx="856908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08720" y="0"/>
            <a:ext cx="183528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620640"/>
            <a:ext cx="25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675640" cy="681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40000" y="1125360"/>
            <a:ext cx="144360" cy="460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5661000"/>
            <a:ext cx="45370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1197000"/>
            <a:ext cx="71280" cy="46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1125360"/>
            <a:ext cx="468000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6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5373720"/>
            <a:ext cx="309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9224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167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093080" y="5300640"/>
            <a:ext cx="172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350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76720" y="278136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-17640"/>
            <a:ext cx="8642160" cy="695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60280"/>
            <a:ext cx="54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03280" y="5805360"/>
            <a:ext cx="63374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341360"/>
            <a:ext cx="626436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1413000"/>
            <a:ext cx="71640" cy="45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6028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8964720" cy="6721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6920" y="765000"/>
            <a:ext cx="216000" cy="554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3645000"/>
            <a:ext cx="482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612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524640"/>
            <a:ext cx="781200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40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56000" y="6308640"/>
            <a:ext cx="28728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1253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260280"/>
            <a:ext cx="6516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64720" y="404640"/>
            <a:ext cx="179280" cy="645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407664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76360" y="1052640"/>
            <a:ext cx="287280" cy="46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602136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6048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03280" y="5373720"/>
            <a:ext cx="2448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77000"/>
            <a:ext cx="85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4400"/>
            <a:ext cx="8569080" cy="68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6597720"/>
            <a:ext cx="51847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0"/>
            <a:ext cx="144360" cy="666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518472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24972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3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37236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26028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4400"/>
            <a:ext cx="8713800" cy="68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547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0000" y="260280"/>
            <a:ext cx="6912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734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27120"/>
            <a:ext cx="91440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3280" y="2997360"/>
            <a:ext cx="410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0324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27280" y="602136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9600"/>
            <a:ext cx="7777080" cy="681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16360" y="6021360"/>
            <a:ext cx="144144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4724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17800" y="0"/>
            <a:ext cx="514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1280" y="260280"/>
            <a:ext cx="108108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26828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42840"/>
            <a:ext cx="820728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5640" y="4211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331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076720" y="4156200"/>
            <a:ext cx="3602160" cy="27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76720" y="306864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263700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4760" y="0"/>
            <a:ext cx="5987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5950080"/>
            <a:ext cx="842472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60280"/>
            <a:ext cx="79218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44360"/>
            <a:ext cx="89647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492360" cy="822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5796000" cy="467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40360" y="602136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260280"/>
            <a:ext cx="8208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Déjame por un instante, sumergirme en la locura de los artistas. Olvidar las reglas que impone el hombre para no transgredir todo aquello que conocemos. No le temo a la aventura de vivir en un mundo surrealista porque mi espíritu, no conoce otra verdad que la que me eleva hasta las fronteras de lo imposible.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El día que deje de soñar, mándame flores blancas…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20310000">
            <a:off x="6443640" y="5734080"/>
            <a:ext cx="24764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merencian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285264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6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5280" y="549360"/>
            <a:ext cx="53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55440"/>
            <a:ext cx="7848360" cy="680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292720" y="2637000"/>
            <a:ext cx="352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-1440"/>
            <a:ext cx="856908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9640" y="0"/>
            <a:ext cx="655308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-531720"/>
            <a:ext cx="360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58680"/>
            <a:ext cx="792144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 0.33295 E">
                                      <p:cBhvr>
                                        <p:cTn id="6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2708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3204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34:15Z</dcterms:created>
  <dc:creator>System User</dc:creator>
  <dc:description/>
  <dc:language>en-US</dc:language>
  <cp:lastModifiedBy>usuario</cp:lastModifiedBy>
  <dcterms:modified xsi:type="dcterms:W3CDTF">2010-01-07T17:31:46Z</dcterms:modified>
  <cp:revision>98</cp:revision>
  <dc:subject/>
  <dc:title>Slide 1</dc:title>
</cp:coreProperties>
</file>