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42.jpeg" ContentType="image/jpeg"/>
  <Override PartName="/ppt/media/IL%20DIVO%20Unchained%20M%C3%A9lody...wav" ContentType="audio/x-wav"/>
  <Override PartName="/ppt/media/image26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29.jpeg" ContentType="image/jpeg"/>
  <Override PartName="/ppt/media/image1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E57-CC48-4D13-837B-AF3AAB1C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AF7-E7A1-4D20-911D-4CDA3F03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941-4F94-4488-81AA-E600145C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7CD-CBD8-49C1-AEAB-FEFD15FE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0A6-4AF9-44C6-90FE-94E0F650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C07-7D75-4A59-864E-10936B84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CAD-3825-4F9C-A93A-328BF8B0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814C-05A9-4797-AEA5-151CD969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2C4-DE7B-42F2-9C4E-4AA212B1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96B-7D66-43B8-9D89-29FB89FB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4BF-C01F-43F6-B8DF-50D20C0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D49-A8F9-48D0-988A-A97A3D9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8C1A-5E84-42AC-9B8B-58A90E5FA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L%20DIVO%20Unchained%20M&#233;lody..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84720" y="2565360"/>
            <a:ext cx="395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0520"/>
            <a:ext cx="7201080" cy="6837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165720"/>
            <a:ext cx="7380360" cy="69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92360" y="1916280"/>
            <a:ext cx="324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-12600"/>
            <a:ext cx="8642160" cy="691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-3240"/>
            <a:ext cx="82803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640720" cy="689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219640" y="335772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89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637000"/>
            <a:ext cx="244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41400"/>
            <a:ext cx="8496000" cy="68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56000" y="260280"/>
            <a:ext cx="37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40000" y="17640"/>
            <a:ext cx="5062680" cy="68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5373720"/>
            <a:ext cx="4319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90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260280"/>
            <a:ext cx="871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5500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227640" y="2781360"/>
            <a:ext cx="273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0920" y="42840"/>
            <a:ext cx="8569080" cy="685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08720" y="0"/>
            <a:ext cx="1835280" cy="5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72360" y="620640"/>
            <a:ext cx="25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675640" cy="681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340000" y="1125360"/>
            <a:ext cx="144360" cy="460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5661000"/>
            <a:ext cx="45370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1197000"/>
            <a:ext cx="71280" cy="4608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1125360"/>
            <a:ext cx="468000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6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558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5373720"/>
            <a:ext cx="3097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92240" y="0"/>
            <a:ext cx="5338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25640" y="0"/>
            <a:ext cx="5167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093080" y="5300640"/>
            <a:ext cx="172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9640" y="3500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83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76720" y="278136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-17640"/>
            <a:ext cx="8642160" cy="695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0920" y="260280"/>
            <a:ext cx="54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3204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03280" y="5805360"/>
            <a:ext cx="6337440" cy="14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6360" y="1341360"/>
            <a:ext cx="6264360" cy="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1413000"/>
            <a:ext cx="71640" cy="453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6028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8964720" cy="6721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6920" y="765000"/>
            <a:ext cx="216000" cy="554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3645000"/>
            <a:ext cx="482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8612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524640"/>
            <a:ext cx="7812000" cy="33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1880" y="0"/>
            <a:ext cx="5406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56000" y="6308640"/>
            <a:ext cx="28728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1253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3160" y="0"/>
            <a:ext cx="5462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260280"/>
            <a:ext cx="6516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64720" y="404640"/>
            <a:ext cx="179280" cy="6453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407664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76360" y="1052640"/>
            <a:ext cx="287280" cy="46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602136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860480" y="0"/>
            <a:ext cx="5840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03280" y="5373720"/>
            <a:ext cx="244800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77000"/>
            <a:ext cx="856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4400"/>
            <a:ext cx="8569080" cy="685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2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6597720"/>
            <a:ext cx="518472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0"/>
            <a:ext cx="144360" cy="666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0"/>
            <a:ext cx="5184720" cy="404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3249720"/>
            <a:ext cx="3816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3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372360" y="530064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7640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260280"/>
            <a:ext cx="828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4400"/>
            <a:ext cx="8713800" cy="688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44880" y="0"/>
            <a:ext cx="5476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0000" y="260280"/>
            <a:ext cx="6912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5734080"/>
            <a:ext cx="504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27120"/>
            <a:ext cx="91440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3280" y="2997360"/>
            <a:ext cx="410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0324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84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27280" y="6021360"/>
            <a:ext cx="38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9600"/>
            <a:ext cx="7777080" cy="681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716360" y="6021360"/>
            <a:ext cx="144144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4724280"/>
            <a:ext cx="360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17800" y="0"/>
            <a:ext cx="5148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1280" y="260280"/>
            <a:ext cx="108108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26828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42840"/>
            <a:ext cx="820728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5640" y="4211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4000" y="2421000"/>
            <a:ext cx="3311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076720" y="4156200"/>
            <a:ext cx="3602160" cy="27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76720" y="306864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2637000"/>
            <a:ext cx="1800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44760" y="0"/>
            <a:ext cx="59878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5950080"/>
            <a:ext cx="8424720" cy="90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60280"/>
            <a:ext cx="79218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44360"/>
            <a:ext cx="8964720" cy="67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2492280"/>
            <a:ext cx="3492360" cy="8226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132000" y="1125360"/>
            <a:ext cx="5796000" cy="4673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40360" y="6021360"/>
            <a:ext cx="28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260280"/>
            <a:ext cx="8208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Déjame por un instante, sumergirme en la locura de los artistas. Olvidar las reglas que impone el hombre para no transgredir todo aquello que conocemos. No le temo a la aventura de vivir en un mundo surrealista porque mi espíritu, no conoce otra verdad que la que me eleva hasta las fronteras de lo imposible.</a:t>
            </a:r>
            <a:r>
              <a:rPr b="0" i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El día que deje de soñar, mándame flores blancas…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20310000">
            <a:off x="6443640" y="5734080"/>
            <a:ext cx="24764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merencian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4360" y="285264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686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5280" y="549360"/>
            <a:ext cx="532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55440"/>
            <a:ext cx="7848360" cy="680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292720" y="2637000"/>
            <a:ext cx="352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-1440"/>
            <a:ext cx="8569080" cy="688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79640" y="0"/>
            <a:ext cx="655308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-531720"/>
            <a:ext cx="360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58680"/>
            <a:ext cx="7921440" cy="686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 0.33295 E">
                                      <p:cBhvr>
                                        <p:cTn id="6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2708280"/>
            <a:ext cx="36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3204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20:34:15Z</dcterms:created>
  <dc:creator>System User</dc:creator>
  <dc:description/>
  <dc:language>en-US</dc:language>
  <cp:lastModifiedBy>usuario</cp:lastModifiedBy>
  <dcterms:modified xsi:type="dcterms:W3CDTF">2010-01-07T17:31:46Z</dcterms:modified>
  <cp:revision>98</cp:revision>
  <dc:subject/>
  <dc:title>Slide 1</dc:title>
</cp:coreProperties>
</file>