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jpeg" ContentType="image/jpeg"/>
  <Override PartName="/ppt/media/Bee%20Gees%20-%20Saved%20By%20The%20Bell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910-BC4F-4888-BC72-BAD96D6F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813-EED4-4145-8884-3E43339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DE8-179E-454B-9FC4-D95C24C2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A1A-3AE1-414F-9510-44AFA4B9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02E-831D-401D-8CF3-CBCC290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A7D-945C-496C-B199-5D331AB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B15-B913-47E5-9BBC-D0B06CA3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2BE-8C9F-4057-BC41-8A374F2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105-4A3E-4B94-AE66-3CF60E4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FDF-AD9E-45FA-90F3-8B77079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11E-4592-4A06-8C23-1EEABE71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35D-C66D-41F2-8DC6-FECA456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C42-EDFF-4088-9CFC-AFD422FA0B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4A21-EF92-4BD5-961F-0FDC899F8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Bee%20Gees%20-%20Saved%20By%20The%20Be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Weiße Pracht von Oberschwimmerhammer Antonius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4913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0"/>
            <a:ext cx="9792000" cy="404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612720" y="6237360"/>
            <a:ext cx="10404360" cy="620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Palatino Linotype"/>
              </a:rPr>
              <a:t>Music by “The Bee ge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7440" y="477720"/>
            <a:ext cx="6046560" cy="9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rienden zijn er om je te steu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2B7-F0F1-49B2-87ED-3FCA84047AF4}" type="slidenum">
              <a:t>1</a:t>
            </a:fld>
          </a:p>
        </p:txBody>
      </p:sp>
    </p:spTree>
  </p:cSld>
  <p:transition advTm="7000">
    <p:blinds dir="horz"/>
    <p:sndAc>
      <p:stSnd>
        <p:snd r:embed="rId6" name="Bee%20Gees%20-%20Saved%20By%20Th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im Garten 3 von Karl Herrling"/>
          <p:cNvPicPr/>
          <p:nvPr/>
        </p:nvPicPr>
        <p:blipFill>
          <a:blip r:embed="rId1"/>
          <a:stretch/>
        </p:blipFill>
        <p:spPr>
          <a:xfrm>
            <a:off x="826920" y="907920"/>
            <a:ext cx="749016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1479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765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4936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3336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55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9640" y="54900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000" y="333000"/>
            <a:ext cx="0" cy="626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836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54936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333360"/>
            <a:ext cx="0" cy="626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616572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38172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659772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3440" y="1268280"/>
            <a:ext cx="43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verschijnt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 als je dacht alleen te zij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AC1-7C47-44A5-99C4-BE667ED036BA}" type="slidenum">
              <a:t>10</a:t>
            </a:fld>
          </a:p>
        </p:txBody>
      </p:sp>
    </p:spTree>
  </p:cSld>
  <p:transition advTm="10000"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3429000"/>
            <a:ext cx="7704000" cy="2808360"/>
          </a:xfrm>
          <a:prstGeom prst="rect">
            <a:avLst/>
          </a:prstGeom>
          <a:noFill/>
          <a:ln w="123840">
            <a:solidFill>
              <a:srgbClr val="ffcc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&quot;Heuschreckenfoto&quot; mal anders... von INGO DU.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3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47640" y="133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67840" y="1197000"/>
            <a:ext cx="456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blijft naast je lopen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wil zeker niet je vriendschap kop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49360"/>
            <a:ext cx="7991280" cy="583236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517-A1ED-4B4E-B39E-AAEA9B955B61}" type="slidenum">
              <a:t>11</a:t>
            </a:fld>
          </a:p>
        </p:txBody>
      </p:sp>
    </p:spTree>
  </p:cSld>
  <p:transition advTm="12000"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1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im Garten von Karl Herrling"/>
          <p:cNvPicPr/>
          <p:nvPr/>
        </p:nvPicPr>
        <p:blipFill>
          <a:blip r:embed="rId1"/>
          <a:stretch/>
        </p:blipFill>
        <p:spPr>
          <a:xfrm>
            <a:off x="233280" y="190440"/>
            <a:ext cx="8677440" cy="6477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440" y="907560"/>
            <a:ext cx="41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blijft op je wachten…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ook al duurt het dagen en n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2280" y="533520"/>
            <a:ext cx="9296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FA7-E432-4849-885A-C2FB720CECA1}" type="slidenum">
              <a:t>12</a:t>
            </a:fld>
          </a:p>
        </p:txBody>
      </p:sp>
    </p:spTree>
  </p:cSld>
  <p:transition advTm="10000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Zweisamkeit von Regina H."/>
          <p:cNvPicPr/>
          <p:nvPr/>
        </p:nvPicPr>
        <p:blipFill>
          <a:blip r:embed="rId1"/>
          <a:stretch/>
        </p:blipFill>
        <p:spPr>
          <a:xfrm>
            <a:off x="684360" y="571680"/>
            <a:ext cx="777528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9640" y="111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476280"/>
          <a:ext cx="7993080" cy="5905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9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26920" y="692280"/>
          <a:ext cx="7489800" cy="547344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54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14709"/>
                      </a:solidFill>
                    </a:lnL>
                    <a:lnR w="18720">
                      <a:solidFill>
                        <a:srgbClr val="d14709"/>
                      </a:solidFill>
                    </a:lnR>
                    <a:lnT w="18720">
                      <a:solidFill>
                        <a:srgbClr val="d14709"/>
                      </a:solidFill>
                    </a:lnT>
                    <a:lnB w="18720">
                      <a:solidFill>
                        <a:srgbClr val="d147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26920" y="836640"/>
            <a:ext cx="769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zegt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amen gaan we door, we keren nooit teru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het moeilijk gaat geef ik je een duwtje in de ru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2C4-460B-4426-9831-FEC990271179}" type="slidenum">
              <a:t>13</a:t>
            </a:fld>
          </a:p>
        </p:txBody>
      </p:sp>
    </p:spTree>
  </p:cSld>
  <p:transition advTm="13000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&gt;&gt;&gt;Springdrops&lt;&lt;&lt; von Markus Gubitzer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518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983520"/>
            <a:ext cx="7016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is elkaar een hand geven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p alle wegen elkaar steun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op moeilijke momenten op elkaars  schouder kunnen  leunen</a:t>
            </a: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>
                  <a:alpha val="72156"/>
                </a:srgbClr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638172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692280"/>
            <a:ext cx="7632720" cy="54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061-31E4-44A0-8564-B126BF46B613}" type="slidenum">
              <a:t>14</a:t>
            </a:fld>
          </a:p>
        </p:txBody>
      </p:sp>
    </p:spTree>
  </p:cSld>
  <p:transition advTm="12000">
    <p:blinds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Dunkelblüte von Karl G. Vock"/>
          <p:cNvPicPr/>
          <p:nvPr/>
        </p:nvPicPr>
        <p:blipFill>
          <a:blip r:embed="rId1"/>
          <a:stretch/>
        </p:blipFill>
        <p:spPr>
          <a:xfrm>
            <a:off x="285840" y="549360"/>
            <a:ext cx="8389800" cy="573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560" y="980640"/>
            <a:ext cx="846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Aan een goede vriendschap komt geen eind waar ter wereld je ook ben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53000" y="53730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Daarom is het zo fijn om goede vrienden t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765000"/>
            <a:ext cx="7705440" cy="525636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76280"/>
            <a:ext cx="8351640" cy="590544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2924280"/>
            <a:ext cx="140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Einde</a:t>
            </a:r>
            <a:endParaRPr b="1" i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E94-BE5F-442D-923F-6C1E10870993}" type="slidenum">
              <a:t>15</a:t>
            </a:fld>
          </a:p>
        </p:txBody>
      </p:sp>
    </p:spTree>
  </p:cSld>
  <p:transition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3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3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9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458136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5840" y="1052640"/>
            <a:ext cx="8572320" cy="475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04292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0"/>
            <a:ext cx="1043280" cy="765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0"/>
            <a:ext cx="1042920" cy="765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0"/>
            <a:ext cx="1043280" cy="765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104328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0"/>
            <a:ext cx="1042920" cy="765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0"/>
            <a:ext cx="1043280" cy="765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1080" y="0"/>
            <a:ext cx="1042920" cy="765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3000"/>
            <a:ext cx="1042920" cy="765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093000"/>
            <a:ext cx="1043280" cy="765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6093000"/>
            <a:ext cx="1042920" cy="765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1043280" cy="765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6093000"/>
            <a:ext cx="1043280" cy="765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6093000"/>
            <a:ext cx="1042920" cy="765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6093000"/>
            <a:ext cx="1043280" cy="765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1080" y="6093000"/>
            <a:ext cx="1042920" cy="765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777080" cy="41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341360"/>
            <a:ext cx="7920000" cy="4248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064360" cy="439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1840" y="1557360"/>
            <a:ext cx="31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Vrienden zijn er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om je te troosten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en tegen ze aan te leun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07F-1BC3-4655-BB12-C1F3A96758D2}" type="slidenum">
              <a:t>2</a:t>
            </a:fld>
          </a:p>
        </p:txBody>
      </p:sp>
    </p:spTree>
  </p:cSld>
  <p:transition advTm="9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4000" y="404640"/>
            <a:ext cx="4896000" cy="6120000"/>
          </a:xfrm>
          <a:prstGeom prst="rect">
            <a:avLst/>
          </a:prstGeom>
          <a:solidFill>
            <a:srgbClr val="bbe0e3">
              <a:alpha val="43000"/>
            </a:srgbClr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170028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1557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08720" cy="588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139320" y="-139680"/>
            <a:ext cx="1700280" cy="1979640"/>
          </a:xfrm>
          <a:prstGeom prst="flowChartExtra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24920" y="1574640"/>
            <a:ext cx="1728720" cy="1979640"/>
          </a:xfrm>
          <a:prstGeom prst="flowChartExtra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124920" y="3303360"/>
            <a:ext cx="1728720" cy="1979640"/>
          </a:xfrm>
          <a:prstGeom prst="flowChartExtra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102600" y="4981320"/>
            <a:ext cx="1773360" cy="1979640"/>
          </a:xfrm>
          <a:prstGeom prst="flowChartExtra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16200000">
            <a:off x="7302960" y="-139320"/>
            <a:ext cx="1700280" cy="197964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16200000">
            <a:off x="7302960" y="1560600"/>
            <a:ext cx="1700280" cy="1979640"/>
          </a:xfrm>
          <a:prstGeom prst="flowChartExtra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16200000">
            <a:off x="7302960" y="3217680"/>
            <a:ext cx="1699920" cy="1979640"/>
          </a:xfrm>
          <a:prstGeom prst="flowChartExtra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6200000">
            <a:off x="7302960" y="5018040"/>
            <a:ext cx="1700280" cy="1979640"/>
          </a:xfrm>
          <a:prstGeom prst="flowChartExtra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37760" y="8359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Vrienden zijn er om je te helpen…</a:t>
            </a:r>
            <a:br>
              <a:rPr sz="1800"/>
            </a:b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die jouw pijn voor even doen verg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51C-1680-49FC-839B-EB7B84CB60D5}" type="slidenum">
              <a:t>3</a:t>
            </a:fld>
          </a:p>
        </p:txBody>
      </p:sp>
    </p:spTree>
  </p:cSld>
  <p:transition advTm="8000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716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an einem Regentag... von Christa Schweins"/>
          <p:cNvPicPr/>
          <p:nvPr/>
        </p:nvPicPr>
        <p:blipFill>
          <a:blip r:embed="rId3"/>
          <a:stretch/>
        </p:blipFill>
        <p:spPr>
          <a:xfrm>
            <a:off x="1209600" y="900000"/>
            <a:ext cx="6724800" cy="50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7440" y="404640"/>
            <a:ext cx="867564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rot="5400000">
            <a:off x="-214272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rot="5400000">
            <a:off x="-1638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rot="5400000">
            <a:off x="5634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5400000">
            <a:off x="6210720" y="3013920"/>
            <a:ext cx="5023080" cy="23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7120" y="6857640"/>
            <a:ext cx="42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Vrienden zijn er om je blij te maken</a:t>
            </a:r>
            <a:br>
              <a:rPr sz="1800"/>
            </a:b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om jou kwaadheid weg te kraken.</a:t>
            </a:r>
            <a:r>
              <a:rPr b="1" lang="en-US" sz="1800" spc="-1" strike="noStrike">
                <a:solidFill>
                  <a:srgbClr val="bbe0e3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E80-D8A8-44C0-BF26-81091D7C833A}" type="slidenum">
              <a:t>4</a:t>
            </a:fld>
          </a:p>
        </p:txBody>
      </p:sp>
    </p:spTree>
  </p:cSld>
  <p:transition advTm="8000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15851 -0.16898 C 0.13281 -0.17477 0.10868 -0.18657 0.08351 -0.19491 C 0.06667 -0.20995 0.08455 -0.19583 0.06406 -0.20602 C 0.05087 -0.21273 0.03872 -0.22222 0.02517 -0.22824 C 0.02153 -0.23195 0.01823 -0.23657 0.01406 -0.23935 C 0.01059 -0.24167 0.00608 -0.24028 0.00295 -0.24306 C 0.00017 -0.2456 -5.5555600000012E-007 -0.25139 -0.0026 -0.25417 C -0.02517 -0.27824 0.00417 -0.23403 -0.01927 -0.26528 C -0.02257 -0.26968 -0.02448 -0.27546 -0.0276 -0.28009 C -0.04149 -0.30046 -0.05608 -0.31829 -0.06927 -0.33935 C -0.07691 -0.35162 -0.08142 -0.36713 -0.08871 -0.38009 C -0.08958 -0.38495 -0.09045 -0.39005 -0.09149 -0.39491 C -0.09323 -0.40232 -0.09705 -0.41713 -0.09705 -0.4169 C -0.09601 -0.44074 -0.09913 -0.47083 -0.09149 -0.49491 C -0.08455 -0.51644 -0.07101 -0.53171 -0.05816 -0.54676 C -0.05417 -0.55139 -0.05121 -0.55741 -0.04705 -0.56157 C -0.03611 -0.57245 -0.02292 -0.57593 -0.01094 -0.5838 C 0.01094 -0.59838 0.03438 -0.60579 0.05851 -0.60972 C 0.10504 -0.6081 0.17465 -0.60671 0.22517 -0.60232 C 0.23351 -0.60162 0.24184 -0.6 0.25017 -0.59861 C 0.26493 -0.5963 0.29462 -0.5912 0.29462 -0.59097 C 0.31441 -0.58241 0.33438 -0.5794 0.35278 -0.56528 C 0.3658 -0.55556 0.37899 -0.54583 0.39184 -0.53565 C 0.40486 -0.52523 0.41354 -0.5162 0.42795 -0.50972 C 0.44358 -0.48889 0.44028 -0.48079 0.43629 -0.44676 C 0.4309 -0.40324 0.42049 -0.40278 0.3974 -0.37639 C 0.38438 -0.36157 0.36945 -0.34306 0.35278 -0.33565 C 0.34271 -0.32199 0.33195 -0.31898 0.31962 -0.30972 C 0.2849 -0.28333 0.24358 -0.26042 0.20295 -0.25787 C 0.17153 -0.25579 0.13993 -0.25532 0.10833 -0.25417 C 0.08854 -0.25509 -0.01042 -0.2588 -0.03871 -0.26157 C -0.05365 -0.26296 -0.06545 -0.27269 -0.08038 -0.27269 E">
                                      <p:cBhvr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981000"/>
            <a:ext cx="6553080" cy="4969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418080" cy="4813200"/>
          </a:xfrm>
          <a:prstGeom prst="rect">
            <a:avLst/>
          </a:prstGeom>
          <a:ln w="9360">
            <a:solidFill>
              <a:srgbClr val="ff8b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16000" y="692280"/>
            <a:ext cx="6985080" cy="547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76280"/>
            <a:ext cx="7490160" cy="5905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76280"/>
            <a:ext cx="7921440" cy="612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71800" y="471744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7360" y="508428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Vrienden zijn er om je lief te hebben…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en ze zullen voor jou alles overhebb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E2C-D5D2-4B4C-B7B3-39DB718B0BB7}" type="slidenum">
              <a:t>5</a:t>
            </a:fld>
          </a:p>
        </p:txBody>
      </p:sp>
    </p:spTree>
  </p:cSld>
  <p:transition advTm="9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292640"/>
            <a:ext cx="453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Verzaubert ... von Sonja Witter"/>
          <p:cNvPicPr/>
          <p:nvPr/>
        </p:nvPicPr>
        <p:blipFill>
          <a:blip r:embed="rId1"/>
          <a:stretch/>
        </p:blipFill>
        <p:spPr>
          <a:xfrm>
            <a:off x="285840" y="314280"/>
            <a:ext cx="8534160" cy="614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6000" y="771480"/>
            <a:ext cx="288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ijn er om jou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IET te bedrieg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ullen ook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ooit tegen jou lieg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836640"/>
            <a:ext cx="7490160" cy="511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49360"/>
            <a:ext cx="7993080" cy="561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8424720" cy="6048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C0C-B6A1-4145-BFFD-F6611AF499C0}" type="slidenum">
              <a:t>6</a:t>
            </a:fld>
          </a:p>
        </p:txBody>
      </p:sp>
    </p:spTree>
  </p:cSld>
  <p:transition advTm="10000"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m o h n 2 0 0 6 von Werner Hertzer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5373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Vrienden zijn er om je tips  te geven en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je eens bot of ruw bent om je dat te  verg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92280"/>
            <a:ext cx="7993080" cy="5473440"/>
          </a:xfrm>
          <a:prstGeom prst="rect">
            <a:avLst/>
          </a:prstGeom>
          <a:noFill/>
          <a:ln w="572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49360"/>
            <a:ext cx="8424720" cy="5759280"/>
          </a:xfrm>
          <a:prstGeom prst="rect">
            <a:avLst/>
          </a:prstGeom>
          <a:noFill/>
          <a:ln w="57240">
            <a:solidFill>
              <a:srgbClr val="5d75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3EB-B88B-4482-A418-7235CB2B57C2}" type="slidenum">
              <a:t>7</a:t>
            </a:fld>
          </a:p>
        </p:txBody>
      </p:sp>
    </p:spTree>
  </p:cSld>
  <p:transition advTm="10000"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Eustomia... von Martina We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32960" y="1341360"/>
            <a:ext cx="38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re vrienden leer je kenne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t de tijd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nt ook al doe je iets verkeer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ze willen je niet kwijt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49360"/>
            <a:ext cx="7993080" cy="575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476280"/>
            <a:ext cx="8136000" cy="590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04640"/>
            <a:ext cx="82803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1280" y="479736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ze laten je niet in de steek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 zijn pas vriend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E26-EDFE-4EFF-A6B1-3A12400A883F}" type="slidenum">
              <a:t>8</a:t>
            </a:fld>
          </a:p>
        </p:txBody>
      </p:sp>
    </p:spTree>
  </p:cSld>
  <p:transition advTm="11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In der letzten Abendsonne II von Guenter W."/>
          <p:cNvPicPr/>
          <p:nvPr/>
        </p:nvPicPr>
        <p:blipFill>
          <a:blip r:embed="rId1"/>
          <a:stretch/>
        </p:blipFill>
        <p:spPr>
          <a:xfrm>
            <a:off x="971640" y="476280"/>
            <a:ext cx="7265880" cy="5877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48320" y="692280"/>
            <a:ext cx="4524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naar je lacht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als je te laat bent op je wacht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BF2-97F1-4557-8D6E-5AC87E353F99}" type="slidenum">
              <a:t>9</a:t>
            </a:fld>
          </a:p>
        </p:txBody>
      </p:sp>
    </p:spTree>
  </p:cSld>
  <p:transition advTm="10000"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7:51:09Z</dcterms:created>
  <dc:creator>Lutgarde</dc:creator>
  <dc:description>ontv.LieveR;verz.groep1</dc:description>
  <dc:language>en-US</dc:language>
  <cp:lastModifiedBy>Huub van Oudheusden</cp:lastModifiedBy>
  <dcterms:modified xsi:type="dcterms:W3CDTF">2008-10-25T13:17:50Z</dcterms:modified>
  <cp:revision>46</cp:revision>
  <dc:subject/>
  <dc:title>Vrienden kleuren je leven</dc:title>
</cp:coreProperties>
</file>