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lisonKrauss_InThePalmOfYourHand.wav" ContentType="audio/x-wav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9039-D753-4C0C-B19F-A19EC0B6D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C8F5-9E01-42C4-8EDE-CE8F7313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0EB-5A91-4E1D-8DEB-E863CD62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401-7DA1-4CEB-8B59-1F01118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662-7712-4FCB-B27E-0F630F44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53E-3C7E-4343-B1BE-0BAF3043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6E6-E5C4-4668-8631-427F2BB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2B6-CF1C-49C9-B6AF-8AF13E84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6DE-CF0E-4833-8922-43277C5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5E5-1F09-4A66-8E17-01B3AFB6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E7B-A2BE-4193-9037-C3D5114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E4D-69E7-4FD7-A2E0-B0E4443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7F8-6941-4B7E-A1B2-629923E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CB9-A477-4044-A549-BDD77AF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5260-1D15-448A-A501-0F2057DDA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isonKrauss_InThePalmOfYourHa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acred Roses  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114800" y="9144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ffffff"/>
                </a:solidFill>
                <a:latin typeface="Georgia"/>
              </a:rPr>
              <a:t>Enkele mooie  gedach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/>
    <p:sndAc>
      <p:stSnd>
        <p:snd r:embed="rId2" name="AlisonKrauss_InThePalmOfYourHa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39600" y="-2221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39600" y="85716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-39600" y="11858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-39600" y="21207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Golden Valley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1447920" y="6172200"/>
            <a:ext cx="6172200" cy="33732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elfs in de diepste dalen komt de zon stra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87480" y="-74520"/>
            <a:ext cx="46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87480" y="1004760"/>
            <a:ext cx="79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87480" y="1333440"/>
            <a:ext cx="465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87480" y="2268360"/>
            <a:ext cx="465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Golden Wave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990720" y="5334120"/>
            <a:ext cx="33526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is steeds een onveranderlijke eb en vlo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-90360" y="-4395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-90360" y="639720"/>
            <a:ext cx="77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-90360" y="9684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90360" y="1903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-79200" y="-1125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-79200" y="-4608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-79200" y="282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-79200" y="1217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Horizon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26" name="Text Box 15"/>
          <p:cNvSpPr/>
          <p:nvPr/>
        </p:nvSpPr>
        <p:spPr>
          <a:xfrm>
            <a:off x="4952880" y="502920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niet verlangen naar een horizon die men nooit            zal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Golden gate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2" name="Text Box 8"/>
          <p:cNvSpPr/>
          <p:nvPr/>
        </p:nvSpPr>
        <p:spPr>
          <a:xfrm>
            <a:off x="4191120" y="5478480"/>
            <a:ext cx="39621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Overbrug diepe waters, het is de enige manier om vrede te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Goldene Pony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8" name="Text Box 8"/>
          <p:cNvSpPr/>
          <p:nvPr/>
        </p:nvSpPr>
        <p:spPr>
          <a:xfrm>
            <a:off x="838080" y="685800"/>
            <a:ext cx="44197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ar dieren in alle rust verblijven kan de vrede van de natuur je verrijk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Jean-Marc Cornez\Mes documents\My pictures\vd1MkaRP8pMJ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0" name="Text Box 3"/>
          <p:cNvSpPr/>
          <p:nvPr/>
        </p:nvSpPr>
        <p:spPr>
          <a:xfrm>
            <a:off x="4800600" y="52578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Tedere gevoelens zijn als een echte verwar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Jean-Marc Cornez\Mes documents\My pictures\resizedpaardenkarinbosfg0.jpg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2" name="Text Box 3"/>
          <p:cNvSpPr/>
          <p:nvPr/>
        </p:nvSpPr>
        <p:spPr>
          <a:xfrm>
            <a:off x="4038480" y="990720"/>
            <a:ext cx="39625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bestemming van de rit van het leven gaat gepaard met ma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41200" y="336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1200" y="1415880"/>
            <a:ext cx="62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41200" y="17445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41200" y="2679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trees and path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9" name="Text Box 9"/>
          <p:cNvSpPr/>
          <p:nvPr/>
        </p:nvSpPr>
        <p:spPr>
          <a:xfrm>
            <a:off x="5105520" y="5257800"/>
            <a:ext cx="29718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ndel onder de bomen, ze zijn de bron van innerlijke kra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Canal du midi, Southern France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5" name="Text Box 8"/>
          <p:cNvSpPr/>
          <p:nvPr/>
        </p:nvSpPr>
        <p:spPr>
          <a:xfrm>
            <a:off x="1143000" y="5029200"/>
            <a:ext cx="304812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maakt kronkels, de kunst is op het juiste vaarwater te blij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-96840" y="-5317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-96840" y="5475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-96840" y="8762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-96840" y="18111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-98280" y="-907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-98280" y="1713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-98280" y="500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-98280" y="14349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Companion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65" name="Text Box 16"/>
          <p:cNvSpPr/>
          <p:nvPr/>
        </p:nvSpPr>
        <p:spPr>
          <a:xfrm>
            <a:off x="4191120" y="5486400"/>
            <a:ext cx="4038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Loop niet te snel, de eindstreep van het geluk is niet altijd zichtba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On Golden Pond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81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sp>
        <p:nvSpPr>
          <p:cNvPr id="55" name="Text Box 8"/>
          <p:cNvSpPr/>
          <p:nvPr/>
        </p:nvSpPr>
        <p:spPr>
          <a:xfrm>
            <a:off x="4800600" y="5562720"/>
            <a:ext cx="3505320" cy="580680"/>
          </a:xfrm>
          <a:prstGeom prst="rect">
            <a:avLst/>
          </a:prstGeom>
          <a:solidFill>
            <a:srgbClr val="2116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mooiste dingen in het leven         bloeien soms la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-96840" y="-406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96840" y="673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-96840" y="1001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-96840" y="193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an autumn day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3962520" y="5326200"/>
            <a:ext cx="4343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stroom van liefde die men ontvangt brengt ons naar de beste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5080" y="176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35080" y="109692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35080" y="1425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5080" y="2360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Misty Moonlight - Jeff Lew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75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3429000" y="5410080"/>
            <a:ext cx="48769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verandering geeft nieuwe kansen,          men moet ze enkel op tijd weten te grij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http://www.pixdaus.com/pics/1256093613IngExAg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388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3" name="Text Box 8"/>
          <p:cNvSpPr/>
          <p:nvPr/>
        </p:nvSpPr>
        <p:spPr>
          <a:xfrm>
            <a:off x="685800" y="5562720"/>
            <a:ext cx="4191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standvastig in je gedachten indien ze liefde als inhoud heb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-103320" y="-3715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-103320" y="70812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-103320" y="10368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-103320" y="19717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http://www.pixdaus.com/pics/1256039986YmlbkUv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5029200" y="5486400"/>
            <a:ext cx="31240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Niemand kan verder zien dan de horiz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46240" y="28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46240" y="110808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6240" y="14367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46240" y="23716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blossom trees and path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95" name="Text Box 8"/>
          <p:cNvSpPr/>
          <p:nvPr/>
        </p:nvSpPr>
        <p:spPr>
          <a:xfrm>
            <a:off x="5029200" y="54864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Genegenheid is een weg die steeds begaanbaar 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82520" y="-1096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82520" y="-1764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82520" y="311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2520" y="1246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104760" y="-28400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-104760" y="-176040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-104760" y="-14320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-104760" y="-49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1" descr="http://www.pixdaus.com/pics/1244468754a4MetvK.jpg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9982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685800" y="5334120"/>
            <a:ext cx="380988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dageraad van elke nieuwe dag is als een morgenstond                met goud in de mo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-79200" y="-622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0" y="457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-79200" y="785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-79200" y="1720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http://www.pixdaus.com/pics/1236075458xEnzg36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13" name="Text Box 8"/>
          <p:cNvSpPr/>
          <p:nvPr/>
        </p:nvSpPr>
        <p:spPr>
          <a:xfrm>
            <a:off x="4191120" y="5562720"/>
            <a:ext cx="41148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stap vooruit is als een vogelvlucht naar een nieuw gelu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-101520" y="-46972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101520" y="-36180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-101520" y="-32893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-101520" y="-2354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235080" y="279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235080" y="135900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235080" y="16876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235080" y="26226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530280" y="-8222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530280" y="25704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530280" y="585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530280" y="15210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01124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1011240" y="662040"/>
            <a:ext cx="38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101124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101124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2" descr="Roses"/>
          <p:cNvPicPr/>
          <p:nvPr/>
        </p:nvPicPr>
        <p:blipFill>
          <a:blip r:embed="rId1"/>
          <a:stretch/>
        </p:blipFill>
        <p:spPr>
          <a:xfrm>
            <a:off x="380880" y="304920"/>
            <a:ext cx="4413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35" name="Text Box 36"/>
          <p:cNvSpPr/>
          <p:nvPr/>
        </p:nvSpPr>
        <p:spPr>
          <a:xfrm>
            <a:off x="5029200" y="28195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6000" spc="-1" strike="noStrike">
                <a:solidFill>
                  <a:srgbClr val="ffffff"/>
                </a:solidFill>
                <a:latin typeface="Georgia"/>
              </a:rPr>
              <a:t>Ei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95400" y="-6634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-95400" y="41580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95400" y="744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5400" y="1679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olden Rays I----- Claudius L"/>
          <p:cNvPicPr/>
          <p:nvPr/>
        </p:nvPicPr>
        <p:blipFill>
          <a:blip r:embed="rId1"/>
          <a:stretch/>
        </p:blipFill>
        <p:spPr>
          <a:xfrm>
            <a:off x="-304920" y="-304920"/>
            <a:ext cx="9448920" cy="7400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914400" y="5410080"/>
            <a:ext cx="2895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en zonnestraal om          het hart warm te hou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Golden Peaks of Rundle Mountain, Banff National Park, Albe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181480" y="541008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Men hoeft niet de hoogste top te bereiken om te genieten van een uitzi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34920" y="-1494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-34920" y="93024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34920" y="12589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-34920" y="2193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Kouang Si Waterfalls, Laos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367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81" name="Text Box 15"/>
          <p:cNvSpPr/>
          <p:nvPr/>
        </p:nvSpPr>
        <p:spPr>
          <a:xfrm>
            <a:off x="5029200" y="5562720"/>
            <a:ext cx="3200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Alleen in helder water kan men veilig zwem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Jean-Marc Cornez\Mes documents\My pictures\1227732195lEdBTGe.jpg"/>
          <p:cNvPicPr/>
          <p:nvPr/>
        </p:nvPicPr>
        <p:blipFill>
          <a:blip r:embed="rId1"/>
          <a:stretch/>
        </p:blipFill>
        <p:spPr>
          <a:xfrm>
            <a:off x="0" y="-452520"/>
            <a:ext cx="9144000" cy="9043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724280" y="5630760"/>
            <a:ext cx="34290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Volg de weg van je hart en             het geluk komt je zo tegemo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96840" y="-3826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96840" y="696960"/>
            <a:ext cx="80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-96840" y="10256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96840" y="19605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hrough the golden haze"/>
          <p:cNvPicPr/>
          <p:nvPr/>
        </p:nvPicPr>
        <p:blipFill>
          <a:blip r:embed="rId1"/>
          <a:stretch/>
        </p:blipFill>
        <p:spPr>
          <a:xfrm>
            <a:off x="152280" y="171360"/>
            <a:ext cx="8763120" cy="65152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1" name="Text Box 8"/>
          <p:cNvSpPr/>
          <p:nvPr/>
        </p:nvSpPr>
        <p:spPr>
          <a:xfrm>
            <a:off x="762120" y="5486400"/>
            <a:ext cx="30477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achtheid en tederheid is de wieg van gevoele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92160" y="-1314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92160" y="-2350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92160" y="93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-92160" y="1028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Golden Sunlight - Mirkwood"/>
          <p:cNvPicPr/>
          <p:nvPr/>
        </p:nvPicPr>
        <p:blipFill>
          <a:blip r:embed="rId1"/>
          <a:stretch/>
        </p:blipFill>
        <p:spPr>
          <a:xfrm>
            <a:off x="304920" y="285840"/>
            <a:ext cx="853416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4267080" y="5334120"/>
            <a:ext cx="38862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icht dat ieders bestemming is maakt de weg klaar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1120" y="-13208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1120" y="-24120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1120" y="87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1120" y="1022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Golden path&#9;Photographer:&#9;Ta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4800600" y="5562720"/>
            <a:ext cx="35812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In de herfst van het leven staat er nog veel moois te bele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9:10:06Z</dcterms:created>
  <dc:creator>LR</dc:creator>
  <dc:description/>
  <dc:language>en-US</dc:language>
  <cp:lastModifiedBy>Firmin Heynssens</cp:lastModifiedBy>
  <dcterms:modified xsi:type="dcterms:W3CDTF">2009-12-03T15:57:02Z</dcterms:modified>
  <cp:revision>18</cp:revision>
  <dc:subject/>
  <dc:title>Enkele mooie gedachten</dc:title>
</cp:coreProperties>
</file>