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et%20les%20ouiseaux%20chantant.wav" ContentType="audio/x-wav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434-8B8E-4B12-BF9C-0E11828E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E3A-F665-4183-BE74-E5641D38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85C-7402-4246-B597-BA876BC3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59C-CC23-4D65-9EF8-2C0DBADB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0B0-1118-425C-AB94-D6F14873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DC3-EA16-4099-B109-830F9FF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7455-814F-48BA-989C-DD3FC9C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B64-B972-4B1F-BC60-918E2B0B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879-4FAB-4B54-9211-C22A6FD6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1A6-89F1-45E3-843D-4AC02731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993-9A25-46BC-B157-C0482D33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478-F31B-437A-8242-B491649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3F3A-AF47-4E8D-A62A-6DA574D3E75B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et%20les%20ouiseaux%20chantan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382" t="0" r="0" b="0"/>
          <a:stretch/>
        </p:blipFill>
        <p:spPr>
          <a:xfrm>
            <a:off x="150840" y="0"/>
            <a:ext cx="476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515772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59280" y="6094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Poor Richard"/>
              </a:rPr>
              <a:t>Eenv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1341360"/>
            <a:ext cx="367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Eenvoud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leve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schoonhe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320" y="0"/>
            <a:ext cx="4398840" cy="6597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79640" y="2060640"/>
            <a:ext cx="2994120" cy="4489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2033640" cy="3049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19920" y="498600"/>
            <a:ext cx="297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Als je    begrepen wilt worden, zeg dan precies  wat je  bedoel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91080" y="0"/>
            <a:ext cx="45561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413000"/>
            <a:ext cx="3313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2060640"/>
            <a:ext cx="1728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23920"/>
            <a:ext cx="42447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Humor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een prachti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waterlel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die wort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in het troebe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water v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66ff"/>
                </a:solidFill>
                <a:latin typeface="Script MT Bold"/>
              </a:rPr>
              <a:t>verdr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333360"/>
            <a:ext cx="23749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486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0"/>
            <a:ext cx="2514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Tra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verdunn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Script MT Bold"/>
              </a:rPr>
              <a:t>verdr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446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95680" y="0"/>
            <a:ext cx="41799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Geluk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de  ku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een boek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   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te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van de blo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0000"/>
                </a:solidFill>
                <a:latin typeface="Script MT Bold"/>
              </a:rPr>
              <a:t>waar je bij kan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16320" y="0"/>
            <a:ext cx="49276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260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1484280"/>
            <a:ext cx="1944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052640"/>
            <a:ext cx="2735280" cy="36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223920"/>
            <a:ext cx="3940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ie blij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met kle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ingen, k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zich de h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ag verheug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7308" t="8462" r="19231" b="8462"/>
          <a:stretch/>
        </p:blipFill>
        <p:spPr>
          <a:xfrm>
            <a:off x="4305240" y="0"/>
            <a:ext cx="4838760" cy="5472000"/>
          </a:xfrm>
          <a:prstGeom prst="rect">
            <a:avLst/>
          </a:prstGeom>
          <a:ln w="0">
            <a:noFill/>
          </a:ln>
        </p:spPr>
      </p:pic>
      <p:sp>
        <p:nvSpPr>
          <p:cNvPr id="90" name="plant"/>
          <p:cNvSpPr/>
          <p:nvPr/>
        </p:nvSpPr>
        <p:spPr>
          <a:xfrm>
            <a:off x="684360" y="189000"/>
            <a:ext cx="2735280" cy="2160360"/>
          </a:xfrm>
          <a:prstGeom prst="pie">
            <a:avLst/>
          </a:prstGeom>
          <a:noFill/>
          <a:ln w="57240">
            <a:solidFill>
              <a:srgbClr val="ebe67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0384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Zoek geen </a:t>
            </a:r>
            <a:br>
              <a:rPr sz="3600"/>
            </a:b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grote woorden, </a:t>
            </a:r>
            <a:br>
              <a:rPr sz="3600"/>
            </a:b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als een klein </a:t>
            </a:r>
            <a:br>
              <a:rPr sz="3600"/>
            </a:b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gebaar volsta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00600" y="361800"/>
            <a:ext cx="42354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vrie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is iemand di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als hij j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hand gee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igenlijk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hart aanraak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6153120" cy="6742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24360" y="1773360"/>
            <a:ext cx="2592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23920"/>
            <a:ext cx="33260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Het aardig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van plezieri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dingen is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herinnerin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47640" y="981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99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ccff99"/>
                </a:solidFill>
                <a:latin typeface="Script MT Bold"/>
              </a:rPr>
              <a:t>Spreek slechts van liefde als je weet                         wat tederheid 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6080" cy="6862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59280" y="800280"/>
            <a:ext cx="4284720" cy="69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Knuffeltj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9999ff"/>
                </a:solidFill>
                <a:latin typeface="Script MT Bold"/>
              </a:rPr>
              <a:t>en veel warm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9999ff"/>
                </a:solidFill>
                <a:latin typeface="Script MT Bold"/>
              </a:rPr>
              <a:t>Voor ieder die dit leest !</a:t>
            </a:r>
            <a:r>
              <a:rPr b="0" lang="nl-BE" sz="5400" spc="-1" strike="noStrike">
                <a:solidFill>
                  <a:srgbClr val="000000"/>
                </a:solidFill>
                <a:latin typeface="Script MT Bold"/>
              </a:rPr>
              <a:t> 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Script MT Bold"/>
              </a:rPr>
              <a:t>vvv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81080" y="-316080"/>
            <a:ext cx="10080720" cy="747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-316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20000" y="6237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91160"/>
            <a:ext cx="43196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59640" y="6515280"/>
            <a:ext cx="30970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5964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De hoogste wijsheid </a:t>
            </a:r>
            <a:br>
              <a:rPr sz="3600"/>
            </a:b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is vriendelijkheid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31680" y="0"/>
            <a:ext cx="5465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4360" y="2133720"/>
            <a:ext cx="27352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170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1268280"/>
            <a:ext cx="3473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waar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is 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van jezel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2708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5445000"/>
            <a:ext cx="795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99ff"/>
                </a:solidFill>
                <a:latin typeface="Script MT Bold"/>
              </a:rPr>
              <a:t>Het verleden is het enige deel van je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9999ff"/>
                </a:solidFill>
                <a:latin typeface="Script MT Bold"/>
              </a:rPr>
              <a:t>dat je niet kan verand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0" r="0" b="13801"/>
          <a:stretch/>
        </p:blipFill>
        <p:spPr>
          <a:xfrm>
            <a:off x="3597120" y="0"/>
            <a:ext cx="55468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304920"/>
            <a:ext cx="671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De herinnering die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later wil heb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Script MT Bold"/>
              </a:rPr>
              <a:t>moet je nu mak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1796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589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223920"/>
            <a:ext cx="36306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en optim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vergist z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evenz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als een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pessi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maa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hij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Script MT Bold"/>
              </a:rPr>
              <a:t>gelukki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5840" y="0"/>
            <a:ext cx="63532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08720" y="380880"/>
            <a:ext cx="34066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Ou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wor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is g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kun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er l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mee omga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ff"/>
                </a:solidFill>
                <a:latin typeface="Script MT Bold"/>
              </a:rPr>
              <a:t>we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9083" t="6812" r="9083" b="7191"/>
          <a:stretch/>
        </p:blipFill>
        <p:spPr>
          <a:xfrm>
            <a:off x="136440" y="260280"/>
            <a:ext cx="5624640" cy="5905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867280" y="765000"/>
            <a:ext cx="2952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Hoo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is 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voorsc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toekomsti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    </a:t>
            </a:r>
            <a:r>
              <a:rPr b="1" lang="nl-BE" sz="3600" spc="-1" strike="noStrike">
                <a:solidFill>
                  <a:srgbClr val="0066ff"/>
                </a:solidFill>
                <a:latin typeface="Script MT Bold"/>
              </a:rPr>
              <a:t>gelu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830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223920"/>
            <a:ext cx="38592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rechtvaard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ze o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mogen zij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Hard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 </a:t>
            </a:r>
            <a:r>
              <a:rPr b="1" lang="nl-BE" sz="3600" spc="-1" strike="noStrike">
                <a:solidFill>
                  <a:srgbClr val="ff99ff"/>
                </a:solidFill>
                <a:latin typeface="Script MT Bold"/>
              </a:rPr>
              <a:t>bijten altij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liliane Danach</cp:lastModifiedBy>
  <dcterms:modified xsi:type="dcterms:W3CDTF">2007-01-25T08:50:28Z</dcterms:modified>
  <cp:revision>21</cp:revision>
  <dc:subject/>
  <dc:title>Dia 1</dc:title>
</cp:coreProperties>
</file>