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et%20les%20ouiseaux%20chantant.wav" ContentType="audio/x-wav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70C-5457-42BD-A299-FBA15947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2E4-20CE-4579-B92B-568779C3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E61-78C1-4269-A247-D20295C6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F32-E886-4B61-A844-0827BC6F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783-D2C5-46A8-92FB-4D4EA96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D2D-167A-4292-B49E-F3623EDE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41D-F7BD-4ABB-83C1-DEF4568E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3D5-7094-4B87-8DA7-ACEF825C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402-D33B-465E-9274-A58088FE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2EE-5CA8-4DAA-A1D0-C7D0325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E88-AAD4-4673-8647-3ABCB26B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63E-0838-44B3-9ED2-31FE2725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258-E477-4FF6-8B17-38FB8772EA6D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t%20les%20ouiseaux%20chantan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382" t="0" r="0" b="0"/>
          <a:stretch/>
        </p:blipFill>
        <p:spPr>
          <a:xfrm>
            <a:off x="150840" y="0"/>
            <a:ext cx="476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515772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59280" y="6094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Poor Richard"/>
              </a:rPr>
              <a:t>Eenv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1341360"/>
            <a:ext cx="367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Eenvoud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leve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schoonhe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4398840" cy="6597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2994120" cy="4489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2033640" cy="304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19920" y="498600"/>
            <a:ext cx="297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Als je    begrepen wilt worden, zeg dan precies  wat je  bedoel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9108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413000"/>
            <a:ext cx="3313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2060640"/>
            <a:ext cx="1728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23920"/>
            <a:ext cx="4244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Humor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een prachti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waterlel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die wort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in het troebe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water v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verdr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333360"/>
            <a:ext cx="2374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486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0"/>
            <a:ext cx="2514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Tra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verdunn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verdr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446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5680" y="0"/>
            <a:ext cx="41799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Geluk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de  ku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een boek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te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van de blo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waar je bij kan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16320" y="0"/>
            <a:ext cx="49276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260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1484280"/>
            <a:ext cx="1944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052640"/>
            <a:ext cx="2735280" cy="36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23920"/>
            <a:ext cx="3940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ie blij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met kl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ingen, 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zich de h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ag verheug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7308" t="8462" r="19231" b="8462"/>
          <a:stretch/>
        </p:blipFill>
        <p:spPr>
          <a:xfrm>
            <a:off x="4305240" y="0"/>
            <a:ext cx="4838760" cy="5472000"/>
          </a:xfrm>
          <a:prstGeom prst="rect">
            <a:avLst/>
          </a:prstGeom>
          <a:ln w="0">
            <a:noFill/>
          </a:ln>
        </p:spPr>
      </p:pic>
      <p:sp>
        <p:nvSpPr>
          <p:cNvPr id="90" name="plant"/>
          <p:cNvSpPr/>
          <p:nvPr/>
        </p:nvSpPr>
        <p:spPr>
          <a:xfrm>
            <a:off x="684360" y="189000"/>
            <a:ext cx="2735280" cy="2160360"/>
          </a:xfrm>
          <a:prstGeom prst="pie">
            <a:avLst/>
          </a:prstGeom>
          <a:noFill/>
          <a:ln w="57240">
            <a:solidFill>
              <a:srgbClr val="ebe67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0384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Zoek geen </a:t>
            </a:r>
            <a:br>
              <a:rPr sz="3600"/>
            </a:b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grote woorden, </a:t>
            </a:r>
            <a:br>
              <a:rPr sz="3600"/>
            </a:b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als een klein </a:t>
            </a:r>
            <a:br>
              <a:rPr sz="3600"/>
            </a:b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gebaar volsta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00600" y="361800"/>
            <a:ext cx="4235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vrie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is iemand di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als hij j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hand gee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igenlijk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hart aanraak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6153120" cy="6742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24360" y="1773360"/>
            <a:ext cx="2592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23920"/>
            <a:ext cx="33260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Het aardig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van plezieri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dingen is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herinnerin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47640" y="981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Spreek slechts van liefde als je weet                         wat tederheid 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6080" cy="6862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59280" y="800280"/>
            <a:ext cx="4284720" cy="69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Knuffeltj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en veel warm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9999ff"/>
                </a:solidFill>
                <a:latin typeface="Script MT Bold"/>
              </a:rPr>
              <a:t>Voor ieder die dit leest !</a:t>
            </a:r>
            <a:r>
              <a:rPr b="0" lang="nl-BE" sz="5400" spc="-1" strike="noStrike">
                <a:solidFill>
                  <a:srgbClr val="000000"/>
                </a:solidFill>
                <a:latin typeface="Script MT Bold"/>
              </a:rPr>
              <a:t> 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Script MT Bold"/>
              </a:rPr>
              <a:t>vvv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10080720" cy="747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-316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6237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91160"/>
            <a:ext cx="43196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9640" y="6515280"/>
            <a:ext cx="3097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5964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De hoogste wijsheid </a:t>
            </a:r>
            <a:br>
              <a:rPr sz="3600"/>
            </a:b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is vriendelijkheid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31680" y="0"/>
            <a:ext cx="546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4360" y="2133720"/>
            <a:ext cx="27352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170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1268280"/>
            <a:ext cx="3473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aar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is 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an jezel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445000"/>
            <a:ext cx="795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99ff"/>
                </a:solidFill>
                <a:latin typeface="Script MT Bold"/>
              </a:rPr>
              <a:t>Het verleden is het enige deel van je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99ff"/>
                </a:solidFill>
                <a:latin typeface="Script MT Bold"/>
              </a:rPr>
              <a:t>dat je niet kan verand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3801"/>
          <a:stretch/>
        </p:blipFill>
        <p:spPr>
          <a:xfrm>
            <a:off x="3597120" y="0"/>
            <a:ext cx="5546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304920"/>
            <a:ext cx="671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e herinnering die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later wil heb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moet je nu mak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1796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589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23920"/>
            <a:ext cx="36306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optim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vergist z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venz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als een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pessi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maa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hij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gelukki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63532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08720" y="380880"/>
            <a:ext cx="34066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Ou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wor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is g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kun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er l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mee omga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we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083" t="6812" r="9083" b="7191"/>
          <a:stretch/>
        </p:blipFill>
        <p:spPr>
          <a:xfrm>
            <a:off x="136440" y="260280"/>
            <a:ext cx="5624640" cy="590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867280" y="765000"/>
            <a:ext cx="2952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Hoo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is 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voorsc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toekomsti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gelu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830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223920"/>
            <a:ext cx="38592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rechtvaard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ze o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mogen zij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Hard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bijten altij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liliane Danach</cp:lastModifiedBy>
  <dcterms:modified xsi:type="dcterms:W3CDTF">2007-01-25T08:50:28Z</dcterms:modified>
  <cp:revision>21</cp:revision>
  <dc:subject/>
  <dc:title>Dia 1</dc:title>
</cp:coreProperties>
</file>