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3.jpeg" ContentType="image/jpeg"/>
  <Override PartName="/ppt/media/image1.jpeg" ContentType="image/jpeg"/>
  <Override PartName="/ppt/media/sound004.wav" ContentType="audio/x-wav"/>
  <Override PartName="/ppt/media/image7.jpeg" ContentType="image/jpeg"/>
  <Override PartName="/ppt/media/image1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DA20-4D5C-44E5-8282-36E8BE641F0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F91F-4217-46E7-9463-957E8A14087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6197-5492-4101-BC6B-BB8ADED72AC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97B0-6F55-4BD3-8C94-4CCF59BBFEC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CF3D-29AA-4B08-ADB3-ADAC0599BDD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E5E2-8B17-4656-9B80-0295B3C9FE9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3146-3F07-45C1-8FA3-DD62375CFE5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F969-F8B6-42BB-BA3D-B6019E7248A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26A6-033D-4B6A-96F0-E2FA26D84C2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20BD-0213-4217-B204-8D6C3659C92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EE3E-A5E9-4BB6-84DB-D74A469B94A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D0F5-B5BD-42B8-BC46-DB3A831F1BC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FCA9-4B5D-41B2-839C-8D587888C3C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32C5-5FC8-4DDD-88B0-47843A5E6FE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2A17-ECBD-47AE-81A2-8DB5D3AA001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3D73-108B-422C-9357-C0751D0D99D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3B3-DDC1-4B25-99D2-76CA4496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CC9-C048-40A6-9FD9-A5333945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894-F690-4959-B668-0221FB1F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669-AABA-4C2C-801A-36C2A9BC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A4B-7998-487F-ABAD-9B586A65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712-943B-4E94-B435-B8818639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F2A-1FDE-45D6-8F30-EB8551D3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B08-577C-4ED1-8989-CB3F9579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FB2-7344-4765-B0FD-1DD921C7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097-317C-4A78-B372-BBC2A101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2B1-2FD4-4F48-86FD-773454E9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041-238E-4518-9AE1-E176327C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7CB0-E69B-4317-87DB-96BCCDDFA3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4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IJNED~11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  <p:sndAc>
      <p:stSnd>
        <p:snd r:embed="rId2" name="sound004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31"/>
          <p:cNvPicPr/>
          <p:nvPr/>
        </p:nvPicPr>
        <p:blipFill>
          <a:blip r:embed="rId1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Documents"/>
          <p:cNvSpPr/>
          <p:nvPr/>
        </p:nvSpPr>
        <p:spPr>
          <a:xfrm>
            <a:off x="4859280" y="549360"/>
            <a:ext cx="4105440" cy="5832360"/>
          </a:xfrm>
          <a:custGeom>
            <a:avLst/>
            <a:gdLst>
              <a:gd name="textAreaLeft" fmla="*/ 312480 w 4105440"/>
              <a:gd name="textAreaRight" fmla="*/ 3140280 w 4105440"/>
              <a:gd name="textAreaTop" fmla="*/ 1126080 h 5832360"/>
              <a:gd name="textAreaBottom" fmla="*/ 4675320 h 58323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noFill/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003640" y="1700280"/>
            <a:ext cx="32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48c3"/>
                </a:solidFill>
                <a:latin typeface="Poor Richard"/>
              </a:rPr>
              <a:t>Woorden als glas zo breekbaar, gebroken in mijn mond. Voor eeuwig onuitspreekbaar, omdat ik de moed niet v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33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324000" y="549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Poor Richard"/>
              </a:rPr>
              <a:t>Laat zien wie je bent, los van verwachtingen, los van goedkeu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3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324000" y="3429000"/>
            <a:ext cx="374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edb1e6"/>
                </a:solidFill>
                <a:latin typeface="Poor Richard"/>
              </a:rPr>
              <a:t>"Als je denkt dat iets kleins en simpels geen verschil uitmaakt, probeer dan maar eens te slapen met een mug in je kamer."</a:t>
            </a:r>
            <a:r>
              <a:rPr b="0" lang="nl-NL" sz="2400" spc="-1" strike="noStrike">
                <a:solidFill>
                  <a:srgbClr val="edb1e6"/>
                </a:solidFill>
                <a:latin typeface="Poor Rich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4932360" y="1125360"/>
            <a:ext cx="33116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ddddd"/>
                </a:solidFill>
                <a:latin typeface="Poor Richard"/>
              </a:rPr>
              <a:t>"</a:t>
            </a:r>
            <a:r>
              <a:rPr b="0" lang="nl-NL" sz="3600" spc="-1" strike="noStrike">
                <a:solidFill>
                  <a:srgbClr val="dddddd"/>
                </a:solidFill>
                <a:latin typeface="Poor Richard"/>
              </a:rPr>
              <a:t>Je bent niet in het leven om vrienden te maken, je bent in het leven om een vriend te zijn. 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971640" y="260280"/>
            <a:ext cx="71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ddddd"/>
                </a:solidFill>
                <a:latin typeface="Poor Richard"/>
              </a:rPr>
              <a:t>"Mensen kun je vergelijken met muzieknoten</a:t>
            </a:r>
            <a:r>
              <a:rPr b="0" lang="nl-NL" sz="3200" spc="-1" strike="noStrike">
                <a:solidFill>
                  <a:srgbClr val="dddddd"/>
                </a:solidFill>
                <a:latin typeface="Poor Richard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5373720"/>
            <a:ext cx="828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dddddd"/>
                </a:solidFill>
                <a:latin typeface="Poor Richard"/>
              </a:rPr>
              <a:t>Als ze eenmaal op elkaar zijn afgestemd, vormen ze een prachtig orkest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lide0008_image037"/>
          <p:cNvPicPr/>
          <p:nvPr/>
        </p:nvPicPr>
        <p:blipFill>
          <a:blip r:embed="rId1"/>
          <a:stretch/>
        </p:blipFill>
        <p:spPr>
          <a:xfrm>
            <a:off x="0" y="0"/>
            <a:ext cx="9144000" cy="423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slide0019_image054"/>
          <p:cNvPicPr/>
          <p:nvPr/>
        </p:nvPicPr>
        <p:blipFill>
          <a:blip r:embed="rId2"/>
          <a:stretch/>
        </p:blipFill>
        <p:spPr>
          <a:xfrm>
            <a:off x="1547640" y="4356000"/>
            <a:ext cx="3384720" cy="250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slide0020_image019"/>
          <p:cNvPicPr/>
          <p:nvPr/>
        </p:nvPicPr>
        <p:blipFill>
          <a:blip r:embed="rId3"/>
          <a:stretch/>
        </p:blipFill>
        <p:spPr>
          <a:xfrm>
            <a:off x="5435640" y="0"/>
            <a:ext cx="3708360" cy="363996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3564000" y="479736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f88d4"/>
                </a:solidFill>
                <a:latin typeface="Poor Richard"/>
              </a:rPr>
              <a:t>"Probeer, elke keer als je tegen de lamp loopt, een beetje licht mee te nemen."</a:t>
            </a:r>
            <a:r>
              <a:rPr b="0" lang="nl-NL" sz="32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684360" y="2133720"/>
            <a:ext cx="331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e5"/>
                </a:solidFill>
                <a:latin typeface="Poor Richard"/>
              </a:rPr>
              <a:t>"Wees tevreden met de kleine dingen en ze zullen je overvloedig omringen."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24"/>
          <p:cNvPicPr/>
          <p:nvPr/>
        </p:nvPicPr>
        <p:blipFill>
          <a:blip r:embed="rId1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4643280" y="765000"/>
            <a:ext cx="4500720" cy="5400720"/>
          </a:xfrm>
          <a:custGeom>
            <a:avLst/>
            <a:gdLst>
              <a:gd name="textAreaLeft" fmla="*/ 1049400 w 4500720"/>
              <a:gd name="textAreaRight" fmla="*/ 3449880 w 4500720"/>
              <a:gd name="textAreaTop" fmla="*/ 569160 h 5400720"/>
              <a:gd name="textAreaBottom" fmla="*/ 3419640 h 5400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57240">
            <a:solidFill>
              <a:srgbClr val="8e3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292720" y="1557360"/>
            <a:ext cx="302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e3274"/>
                </a:solidFill>
                <a:latin typeface="Arial"/>
              </a:rPr>
              <a:t>"</a:t>
            </a:r>
            <a:r>
              <a:rPr b="0" lang="nl-NL" sz="3600" spc="-1" strike="noStrike">
                <a:solidFill>
                  <a:srgbClr val="8e3274"/>
                </a:solidFill>
                <a:latin typeface="Poor Richard"/>
              </a:rPr>
              <a:t>Wie een goed humeur bewaart, wordt veel last en zorg bespaard."</a:t>
            </a:r>
            <a:r>
              <a:rPr b="0" lang="nl-NL" sz="1800" spc="-1" strike="noStrike">
                <a:solidFill>
                  <a:srgbClr val="8e32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5"/>
          <p:cNvPicPr/>
          <p:nvPr/>
        </p:nvPicPr>
        <p:blipFill>
          <a:blip r:embed="rId1"/>
          <a:stretch/>
        </p:blipFill>
        <p:spPr>
          <a:xfrm>
            <a:off x="464328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25"/>
          <p:cNvPicPr/>
          <p:nvPr/>
        </p:nvPicPr>
        <p:blipFill>
          <a:blip r:embed="rId2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395280" y="4365720"/>
            <a:ext cx="38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cc"/>
                </a:solidFill>
                <a:latin typeface="Poor Richard"/>
              </a:rPr>
              <a:t>"Mensen die de zon in andermans leven bren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64000" y="4221000"/>
            <a:ext cx="338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Poor Richard"/>
              </a:rPr>
              <a:t>zullen zelf ook haar stralen voelen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468360" y="494172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cc00"/>
                </a:solidFill>
                <a:latin typeface="Poor Richard"/>
              </a:rPr>
              <a:t>"Niet krijgen wat je wenst, is soms het beste dat je kan overkomen."</a:t>
            </a:r>
            <a:r>
              <a:rPr b="0" lang="nl-NL" sz="3200" spc="-1" strike="noStrike">
                <a:solidFill>
                  <a:srgbClr val="99cc00"/>
                </a:solidFill>
                <a:latin typeface="Poor Rich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5364000" y="907920"/>
            <a:ext cx="33116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be0e3"/>
                </a:solidFill>
                <a:latin typeface="Poor Richard"/>
              </a:rPr>
              <a:t>"Wat je werkelijk toebehoort, kun je niet verliezen, zelfs niet als je het wegwerpt.</a:t>
            </a:r>
            <a:r>
              <a:rPr b="0" lang="nl-NL" sz="4800" spc="-1" strike="noStrike">
                <a:solidFill>
                  <a:srgbClr val="bbe0e3"/>
                </a:solidFill>
                <a:latin typeface="Poor Richard"/>
              </a:rPr>
              <a:t> "</a:t>
            </a:r>
            <a:r>
              <a:rPr b="0" lang="nl-NL" sz="48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900000" y="54936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Poor Richard"/>
              </a:rPr>
              <a:t>Maak van je gedachten een tuin vol bloe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29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539640" y="3429000"/>
            <a:ext cx="331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Poor Richard"/>
              </a:rPr>
              <a:t>"Wie zich niet ergert, doch zich verwondert, die wordt geen tachtig maar die wordt honderd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7:58:36Z</dcterms:created>
  <dc:creator>Sylvi@</dc:creator>
  <dc:description/>
  <dc:language>en-US</dc:language>
  <cp:lastModifiedBy>Annie Verhenne</cp:lastModifiedBy>
  <dcterms:modified xsi:type="dcterms:W3CDTF">2010-02-24T16:24:15Z</dcterms:modified>
  <cp:revision>13</cp:revision>
  <dc:subject/>
  <dc:title>Dia 1</dc:title>
</cp:coreProperties>
</file>