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3.jpeg" ContentType="image/jpeg"/>
  <Override PartName="/ppt/media/image1.jpeg" ContentType="image/jpeg"/>
  <Override PartName="/ppt/media/sound004.wav" ContentType="audio/x-wav"/>
  <Override PartName="/ppt/media/image7.jpeg" ContentType="image/jpeg"/>
  <Override PartName="/ppt/media/image1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0236-628F-49D3-81A3-4BF69343A3D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6F59-99FC-411F-B260-8DF3E1E4C14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CF48-7004-4F94-BD1C-97DFAC8B601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2858-4DD8-4111-AFBC-26724662CAB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645D-8140-4A1E-B11F-58A483D465B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6B1E-C1D1-4096-9145-64AA2555247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7754-ECAA-4222-B6FD-C60DD11181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D714-967E-400C-A486-41A740850AD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C26D-827F-4963-A824-5E9B8F94FAB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277A-67D7-40CB-A924-AAABDF7E917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68D4-3D54-4EF8-8AC3-6B3D61E68C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22B2-C056-49D4-981D-7D5E05B7F0C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2837-9A51-4AEC-8659-ED64AE894CE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6D58-D56D-40A2-BAB0-069B152950E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6A26-01DA-476A-ABCA-CE7C33E6BCB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3748-93B9-4507-8EA3-382513A54AE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071-624D-48D5-A00C-293210CD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D7C3-6C8F-4B4B-B72C-13F2C3B6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EF2-DFE5-4FCE-81C6-310D30E2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756-2236-4B58-919B-77C754F8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67C-7255-4C7E-A1B8-96637EDE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BBE-47C0-493C-AEF8-80BD0602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C71-194B-4F8B-A4D1-B7663C0B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E01-E84D-4CAC-9130-91DA0556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710-DC54-4B6F-9F14-093015B8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7C5-74A2-48E2-B9A6-B15234FF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129-9D59-4827-866C-C164B69F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1E1-9336-47DF-975D-2089D7AF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3FE7-0ABB-45BE-B78C-E96815B1F2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4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IJNED~11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  <p:sndAc>
      <p:stSnd>
        <p:snd r:embed="rId2" name="sound004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31"/>
          <p:cNvPicPr/>
          <p:nvPr/>
        </p:nvPicPr>
        <p:blipFill>
          <a:blip r:embed="rId1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Documents"/>
          <p:cNvSpPr/>
          <p:nvPr/>
        </p:nvSpPr>
        <p:spPr>
          <a:xfrm>
            <a:off x="4859280" y="549360"/>
            <a:ext cx="4105440" cy="5832360"/>
          </a:xfrm>
          <a:custGeom>
            <a:avLst/>
            <a:gdLst>
              <a:gd name="textAreaLeft" fmla="*/ 312480 w 4105440"/>
              <a:gd name="textAreaRight" fmla="*/ 3140280 w 4105440"/>
              <a:gd name="textAreaTop" fmla="*/ 1126080 h 5832360"/>
              <a:gd name="textAreaBottom" fmla="*/ 4675320 h 58323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noFill/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003640" y="1700280"/>
            <a:ext cx="32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48c3"/>
                </a:solidFill>
                <a:latin typeface="Poor Richard"/>
              </a:rPr>
              <a:t>Woorden als glas zo breekbaar, gebroken in mijn mond. Voor eeuwig onuitspreekbaar, omdat ik de moed niet v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324000" y="549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Poor Richard"/>
              </a:rPr>
              <a:t>Laat zien wie je bent, los van verwachtingen, los van goedkeu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324000" y="3429000"/>
            <a:ext cx="374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db1e6"/>
                </a:solidFill>
                <a:latin typeface="Poor Richard"/>
              </a:rPr>
              <a:t>"Als je denkt dat iets kleins en simpels geen verschil uitmaakt, probeer dan maar eens te slapen met een mug in je kamer."</a:t>
            </a:r>
            <a:r>
              <a:rPr b="0" lang="nl-NL" sz="2400" spc="-1" strike="noStrike">
                <a:solidFill>
                  <a:srgbClr val="edb1e6"/>
                </a:solidFill>
                <a:latin typeface="Poor Rich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4932360" y="1125360"/>
            <a:ext cx="33116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ddddd"/>
                </a:solidFill>
                <a:latin typeface="Poor Richard"/>
              </a:rPr>
              <a:t>"</a:t>
            </a:r>
            <a:r>
              <a:rPr b="0" lang="nl-NL" sz="3600" spc="-1" strike="noStrike">
                <a:solidFill>
                  <a:srgbClr val="dddddd"/>
                </a:solidFill>
                <a:latin typeface="Poor Richard"/>
              </a:rPr>
              <a:t>Je bent niet in het leven om vrienden te maken, je bent in het leven om een vriend te zijn. 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971640" y="260280"/>
            <a:ext cx="71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ddddd"/>
                </a:solidFill>
                <a:latin typeface="Poor Richard"/>
              </a:rPr>
              <a:t>"Mensen kun je vergelijken met muzieknoten</a:t>
            </a:r>
            <a:r>
              <a:rPr b="0" lang="nl-NL" sz="3200" spc="-1" strike="noStrike">
                <a:solidFill>
                  <a:srgbClr val="dddddd"/>
                </a:solidFill>
                <a:latin typeface="Poor Richard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5373720"/>
            <a:ext cx="828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ddddd"/>
                </a:solidFill>
                <a:latin typeface="Poor Richard"/>
              </a:rPr>
              <a:t>Als ze eenmaal op elkaar zijn afgestemd, vormen ze een prachtig orkest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lide0008_image037"/>
          <p:cNvPicPr/>
          <p:nvPr/>
        </p:nvPicPr>
        <p:blipFill>
          <a:blip r:embed="rId1"/>
          <a:stretch/>
        </p:blipFill>
        <p:spPr>
          <a:xfrm>
            <a:off x="0" y="0"/>
            <a:ext cx="9144000" cy="423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slide0019_image054"/>
          <p:cNvPicPr/>
          <p:nvPr/>
        </p:nvPicPr>
        <p:blipFill>
          <a:blip r:embed="rId2"/>
          <a:stretch/>
        </p:blipFill>
        <p:spPr>
          <a:xfrm>
            <a:off x="1547640" y="4356000"/>
            <a:ext cx="3384720" cy="250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slide0020_image019"/>
          <p:cNvPicPr/>
          <p:nvPr/>
        </p:nvPicPr>
        <p:blipFill>
          <a:blip r:embed="rId3"/>
          <a:stretch/>
        </p:blipFill>
        <p:spPr>
          <a:xfrm>
            <a:off x="5435640" y="0"/>
            <a:ext cx="3708360" cy="363996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3564000" y="479736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f88d4"/>
                </a:solidFill>
                <a:latin typeface="Poor Richard"/>
              </a:rPr>
              <a:t>"Probeer, elke keer als je tegen de lamp loopt, een beetje licht mee te nemen."</a:t>
            </a:r>
            <a:r>
              <a:rPr b="0" lang="nl-NL" sz="32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684360" y="2133720"/>
            <a:ext cx="331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e5"/>
                </a:solidFill>
                <a:latin typeface="Poor Richard"/>
              </a:rPr>
              <a:t>"Wees tevreden met de kleine dingen en ze zullen je overvloedig omringen."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24"/>
          <p:cNvPicPr/>
          <p:nvPr/>
        </p:nvPicPr>
        <p:blipFill>
          <a:blip r:embed="rId1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4643280" y="765000"/>
            <a:ext cx="4500720" cy="5400720"/>
          </a:xfrm>
          <a:custGeom>
            <a:avLst/>
            <a:gdLst>
              <a:gd name="textAreaLeft" fmla="*/ 1049400 w 4500720"/>
              <a:gd name="textAreaRight" fmla="*/ 3449880 w 4500720"/>
              <a:gd name="textAreaTop" fmla="*/ 569160 h 5400720"/>
              <a:gd name="textAreaBottom" fmla="*/ 3419640 h 5400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57240">
            <a:solidFill>
              <a:srgbClr val="8e3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292720" y="1557360"/>
            <a:ext cx="302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e3274"/>
                </a:solidFill>
                <a:latin typeface="Arial"/>
              </a:rPr>
              <a:t>"</a:t>
            </a:r>
            <a:r>
              <a:rPr b="0" lang="nl-NL" sz="3600" spc="-1" strike="noStrike">
                <a:solidFill>
                  <a:srgbClr val="8e3274"/>
                </a:solidFill>
                <a:latin typeface="Poor Richard"/>
              </a:rPr>
              <a:t>Wie een goed humeur bewaart, wordt veel last en zorg bespaard."</a:t>
            </a:r>
            <a:r>
              <a:rPr b="0" lang="nl-NL" sz="1800" spc="-1" strike="noStrike">
                <a:solidFill>
                  <a:srgbClr val="8e32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5"/>
          <p:cNvPicPr/>
          <p:nvPr/>
        </p:nvPicPr>
        <p:blipFill>
          <a:blip r:embed="rId1"/>
          <a:stretch/>
        </p:blipFill>
        <p:spPr>
          <a:xfrm>
            <a:off x="464328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25"/>
          <p:cNvPicPr/>
          <p:nvPr/>
        </p:nvPicPr>
        <p:blipFill>
          <a:blip r:embed="rId2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395280" y="4365720"/>
            <a:ext cx="38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cc"/>
                </a:solidFill>
                <a:latin typeface="Poor Richard"/>
              </a:rPr>
              <a:t>"Mensen die de zon in andermans leven bren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64000" y="4221000"/>
            <a:ext cx="338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Poor Richard"/>
              </a:rPr>
              <a:t>zullen zelf ook haar stralen voelen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468360" y="494172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cc00"/>
                </a:solidFill>
                <a:latin typeface="Poor Richard"/>
              </a:rPr>
              <a:t>"Niet krijgen wat je wenst, is soms het beste dat je kan overkomen."</a:t>
            </a:r>
            <a:r>
              <a:rPr b="0" lang="nl-NL" sz="3200" spc="-1" strike="noStrike">
                <a:solidFill>
                  <a:srgbClr val="99cc00"/>
                </a:solidFill>
                <a:latin typeface="Poor Rich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5364000" y="907920"/>
            <a:ext cx="33116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be0e3"/>
                </a:solidFill>
                <a:latin typeface="Poor Richard"/>
              </a:rPr>
              <a:t>"Wat je werkelijk toebehoort, kun je niet verliezen, zelfs niet als je het wegwerpt.</a:t>
            </a:r>
            <a:r>
              <a:rPr b="0" lang="nl-NL" sz="4800" spc="-1" strike="noStrike">
                <a:solidFill>
                  <a:srgbClr val="bbe0e3"/>
                </a:solidFill>
                <a:latin typeface="Poor Richard"/>
              </a:rPr>
              <a:t> "</a:t>
            </a:r>
            <a:r>
              <a:rPr b="0" lang="nl-NL" sz="48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900000" y="54936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Poor Richard"/>
              </a:rPr>
              <a:t>Maak van je gedachten een tuin vol bloe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9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539640" y="3429000"/>
            <a:ext cx="331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Poor Richard"/>
              </a:rPr>
              <a:t>"Wie zich niet ergert, doch zich verwondert, die wordt geen tachtig maar die wordt honderd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7:58:36Z</dcterms:created>
  <dc:creator>Sylvi@</dc:creator>
  <dc:description/>
  <dc:language>en-US</dc:language>
  <cp:lastModifiedBy>Annie Verhenne</cp:lastModifiedBy>
  <dcterms:modified xsi:type="dcterms:W3CDTF">2010-02-24T16:24:15Z</dcterms:modified>
  <cp:revision>13</cp:revision>
  <dc:subject/>
  <dc:title>Dia 1</dc:title>
</cp:coreProperties>
</file>