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Ernesto%20Cortazar%20-%20Endlessly.wav" ContentType="audio/x-wav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0921-982F-4273-9DCA-E7B859E179F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8AF6-D9BD-402E-A989-6C42DA54837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2705-B937-4801-B3A6-C0563E66086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8503-C2E1-4C5F-8C54-4C9548AB86CC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1730-129F-4835-840D-BBD2BE1F2F3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2C67-B9F7-42C2-9D2A-E388A8BE978E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52A0-0CE0-479F-BDE9-463759551091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AEDD-F1D3-4C9D-9E4B-CE3B33C03CF6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7CB8-3174-4B09-91AB-C60D39C0098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8740-D861-484A-845C-20CBC37B27AE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37A1-6FF9-4446-870D-CE7F70F3DC51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4DD8-83D8-4A24-9E3C-0EDD8670E65D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95BC-A93E-4B64-ADBC-06493F659683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DB37-BA7E-4EB6-AE2C-24048B95EB03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5FB0-3B69-4192-B690-8AF1B9361854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7765-3A78-492E-9EFE-027E5C4925C4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FFD1-8D47-4748-BB41-3BFDE5408C6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CE10-29E3-489B-B886-764EFBB3AEF7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68E6-CE5D-4D36-A2A9-8CFA8AA8B34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FA2B-00CD-4C41-8737-9102F1392A57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063D-A5F6-431D-BCCF-F8C0825E0B11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2DD7-9AA5-4DD5-8BDD-1533A72F9FC4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75C0-04CD-4B74-93E4-D827526D2387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E57-D3E8-4277-865F-68325D7D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856C-0362-45DA-91D4-9B5F5238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008F-79AB-4DDA-8825-DC60560A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592-017D-444C-A54C-A6F9C25C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0AE-E51A-4285-91F3-5B896323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9A4-D4B9-4108-942D-951ECF62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C54-74C4-4B8D-B09D-A11C64FE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EE3-34F5-4F52-9812-E74FAD8C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B237-2E64-45CE-B147-CFD1ADD6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C9A-DE94-4B4F-84E0-47150962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17E6-9D4D-464A-8D56-1613AF42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302-72C8-4315-9C4A-76F3EC42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CC3A-D808-441B-8CE1-77B115F33DCE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nesto%20Cortazar%20-%20Endlessly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sc_7222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0" y="2602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Comic Sans MS"/>
              </a:rPr>
              <a:t>ZACHTE WOORDEN VOOR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Comic Sans MS"/>
              </a:rPr>
              <a:t>DE OUDERS …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Tekstvak 5"/>
          <p:cNvSpPr/>
          <p:nvPr/>
        </p:nvSpPr>
        <p:spPr>
          <a:xfrm>
            <a:off x="-324000" y="6237360"/>
            <a:ext cx="94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Monotype Corsiva"/>
              </a:rPr>
              <a:t>Vertaald uit het Frans – Freddy Storm – 06/2010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  <p:sndAc>
      <p:stSnd>
        <p:snd r:embed="rId2" name="Ernesto%20Cortazar%20-%20Endlessl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-181080" y="-136440"/>
            <a:ext cx="9325080" cy="699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snails-2"/>
          <p:cNvPicPr/>
          <p:nvPr/>
        </p:nvPicPr>
        <p:blipFill>
          <a:blip r:embed="rId2"/>
          <a:stretch/>
        </p:blipFill>
        <p:spPr>
          <a:xfrm>
            <a:off x="0" y="0"/>
            <a:ext cx="5302080" cy="7029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5364000" y="333360"/>
            <a:ext cx="378000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ZOUDEN WE AAN ONZE OUDERS ALLES WAT ZE ONS HEBBEN GEGEVEN KUNNEN TERUGGEVEN? 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ONMOGELIJK !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WE MOETEN ONS ERMEE TEVREDEN STELLEN TE BLIJVEN LUISTEREN NAAR HUN BEHOEFTEN, HUN WENSEN, EN ZE VOORAL GRENZELOOS BEMINNEN 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achoeira_online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684360" y="260280"/>
            <a:ext cx="77770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ACHTER ELK KIND IN MOEILIJKHEDEN DAT ER UITRAAKT STAAT EEN VOLHARDENDE OUDER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alloweenig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684360" y="4724280"/>
            <a:ext cx="79214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ZEG MIJ WELKE OUDERS JULLIE ZIJN EN IK ZAL JULLIE ZEGGEN WAT JULLIE KINDEREN ZULLEN WORDEN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sc027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250920" y="549360"/>
            <a:ext cx="86421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Comic Sans MS"/>
              </a:rPr>
              <a:t>DOOR HUN KINDEREN TE LOVEN FLATTEREN OUDERS ZICHZELF …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bluereaching"/>
          <p:cNvPicPr/>
          <p:nvPr/>
        </p:nvPicPr>
        <p:blipFill>
          <a:blip r:embed="rId2"/>
          <a:stretch/>
        </p:blipFill>
        <p:spPr>
          <a:xfrm>
            <a:off x="1523880" y="1066680"/>
            <a:ext cx="5688000" cy="5189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324000" y="4508640"/>
            <a:ext cx="8496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ONDERHOUD DE TUIN VAN DE OUDERLIJKE LIEFDE GOED. HIJ IS HET ENIGE ECHTE IN DEZE WERELD WAAROP JE ALTIJD KAN STEUNEN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sc052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0" y="260280"/>
            <a:ext cx="914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IN HET LEVEN EVOLUEREN ZONDER OUDERS  IS ALS EEN ONBEKEND LAND DOORTREKKEN ZONDER WEGENKAART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dropyello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4000" y="5229360"/>
            <a:ext cx="84582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HET VOLSTAAT NIET KINDEREN TE MAKEN OM OUDERS TE ZIJN. MEN MOET DIE NAAM WETEN TE VERDIENEN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barn_small_f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468360" y="260280"/>
            <a:ext cx="84582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ER BESTAAT GEEN SCHOOL VOOR OUDERS. WAT ZOU ZE WEL KUNNEN ONDERWIJZEN, WANT ELK KIND IS VERSCHILLEND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umalikizik_tre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826920" y="5157720"/>
            <a:ext cx="7632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LAAAT HET LAATSTE WOORD AAN JE OUDERS. DAT PRIVILEGE HEBBEN ZE ZEKER VERDIEND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_cattails_tn_te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80880" y="333360"/>
            <a:ext cx="8763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DE OUDERLIEFDE IS DE GROOTSTE SCHAT. SPIJTIG DAT SOMMIGE KINDEREN DAT PAS MERKEN ALS ZE WEG ZIJN 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nenufar__"/>
          <p:cNvPicPr/>
          <p:nvPr/>
        </p:nvPicPr>
        <p:blipFill>
          <a:blip r:embed="rId2"/>
          <a:stretch/>
        </p:blipFill>
        <p:spPr>
          <a:xfrm>
            <a:off x="1523880" y="2657520"/>
            <a:ext cx="6096240" cy="4200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0" y="144792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ccff"/>
                </a:solidFill>
                <a:latin typeface="Comic Sans MS"/>
              </a:rPr>
              <a:t>IK WIL VANDAAG AL ONZE VOOROUDERS 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ccff"/>
                </a:solidFill>
                <a:latin typeface="Comic Sans MS"/>
              </a:rPr>
              <a:t>BEDANKEN: OMA’S EN OPA’S, EN VOORAL 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ccff"/>
                </a:solidFill>
                <a:latin typeface="Comic Sans MS"/>
              </a:rPr>
              <a:t>ONZE OUDERS DIE ONS DIT MOOIE            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ccff"/>
                </a:solidFill>
                <a:latin typeface="Comic Sans MS"/>
              </a:rPr>
              <a:t>KARAKTER HEBBEN GESCHONKEN.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01600" y="187200"/>
            <a:ext cx="8742240" cy="6481800"/>
          </a:xfrm>
          <a:prstGeom prst="rect">
            <a:avLst/>
          </a:prstGeom>
          <a:noFill/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52280" y="152280"/>
            <a:ext cx="9144000" cy="68580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53880" y="339840"/>
            <a:ext cx="8742600" cy="64818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8" name="Afbeelding 11" descr="Muis.gif"/>
          <p:cNvPicPr/>
          <p:nvPr/>
        </p:nvPicPr>
        <p:blipFill>
          <a:blip r:embed="rId3"/>
          <a:stretch/>
        </p:blipFill>
        <p:spPr>
          <a:xfrm>
            <a:off x="7596360" y="5732640"/>
            <a:ext cx="95220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_dsc84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971640" y="5516640"/>
            <a:ext cx="69818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DE OUDERLIEFDE KENT GEEN TIJD, AFSTAND EN AFWEZIGHEID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_dsc0015-hummingbird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0" y="685800"/>
            <a:ext cx="64771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DE LIEFDE DIE OUDERS AAN HUN KINDEREN GEVEN IS NOOIT VERLOREN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dsc_7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457200" y="69228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Comic Sans MS"/>
              </a:rPr>
              <a:t>ZACHTE WOORDEN VOOR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Comic Sans MS"/>
              </a:rPr>
              <a:t>DE OUDERS …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835280" y="2852640"/>
            <a:ext cx="5545080" cy="29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omic Sans MS"/>
              </a:rPr>
              <a:t>MUZIEK: ERNESTO CORTAZAR</a:t>
            </a:r>
            <a:endParaRPr b="1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CREATIE: MARLENE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1 FEBRUARI 2007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7" descr="coeur_90"/>
          <p:cNvPicPr/>
          <p:nvPr/>
        </p:nvPicPr>
        <p:blipFill>
          <a:blip r:embed="rId2"/>
          <a:stretch/>
        </p:blipFill>
        <p:spPr>
          <a:xfrm>
            <a:off x="7164360" y="5300640"/>
            <a:ext cx="5144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19_4826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611280" y="260280"/>
            <a:ext cx="82818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Comic Sans MS"/>
              </a:rPr>
              <a:t>NA MIJ HET SPREKEN TE HEBBEN GELEERD, HEBBEN MIJN OUDERS MIJ OOK HET ZWIJGEN GELEERD…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wheelbarro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0" y="4869000"/>
            <a:ext cx="9144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Comic Sans MS"/>
              </a:rPr>
              <a:t>VROEGER HADDEN OUDERS MEERDERE KINDEREN. NU ZIJN HET DE KINDEREN DIE MEERDERE OUDERS HEBBEN… 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8060135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11280" y="333360"/>
            <a:ext cx="769464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Comic Sans MS"/>
              </a:rPr>
              <a:t>MEN KAN ALLES KOPEN, BEHALVE EEN VADER EN EEN MOEDER …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trekmtober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0" y="5157720"/>
            <a:ext cx="914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HET IS NIET DE REDE NOCH DE PASSIE DIE ONS MOET LEIDEN, WEL DE WIJSHEID VAN ONZE OUDERS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topa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260280"/>
            <a:ext cx="88390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SOMMIGEN GELOVEN DAT GENIALITEIT ERFELIJK IS, DE ANDEREN HEBBEN GEEN KINDEREN …</a:t>
            </a:r>
            <a:r>
              <a:rPr b="1" lang="fr-CA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velo-fleur-espinas-tarn-montauban-5807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11280" y="4941720"/>
            <a:ext cx="78483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Comic Sans MS"/>
              </a:rPr>
              <a:t>HET IS AAN HET WELSLAGEN VAN HUN KINDEREN DAT OUDERS DAT VAN HEN AFMETEN …  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encinas-en-la-nieb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684360" y="333360"/>
            <a:ext cx="79200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Comic Sans MS"/>
              </a:rPr>
              <a:t>HET IS ALS NIETS MEER GAAT DAT MEN ER ZICH REKENSCHAP VAN GEEFT HOEZEER ZIJN OUDERS TROOSTEND ZIJN …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20:59:35Z</dcterms:created>
  <dc:creator>Marlene</dc:creator>
  <dc:description/>
  <dc:language>en-US</dc:language>
  <cp:lastModifiedBy>fredje</cp:lastModifiedBy>
  <dcterms:modified xsi:type="dcterms:W3CDTF">2010-06-19T05:40:00Z</dcterms:modified>
  <cp:revision>67</cp:revision>
  <dc:subject/>
  <dc:title>Diapositive 1</dc:title>
</cp:coreProperties>
</file>