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Ernesto%20Cortazar%20-%20Endlessly.wav" ContentType="audio/x-wav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D351-C68D-41D3-AAD1-22CA9CEEDFF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E1F3-6600-472C-BC7C-E12ECFDF2E67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75C1-B06C-4157-A184-AB2FAA468A9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7E70-CCAD-4D1A-9425-654FCC152E4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34D2-3BF4-46E1-B111-FDD67C4FF86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B69E-8329-4436-AD09-BD3BA13ED9A7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C3B7-8D3C-4B7B-B1CD-7E6B99459DD3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70DC-8E9A-4099-9AE2-8F04B4750E7E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DCB7-743A-4731-99B3-0F7D56E5068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0B31-178E-4B27-8096-05C8F81F0C5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7E9A-7152-45C0-B721-CCD8FE60793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70BD-F240-482E-A0FD-A46AA3ADE19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B4B3-6B0A-4276-AEDE-3D6DDADAD9F7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BF8A-1AC3-426D-BEDA-232E9C7B09B3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04DC-8F68-42AD-B82A-7E3A8A5A0D4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4453-0B83-48B2-81AB-15DA19F8B68B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39AD-CEA5-4E7E-A1C8-F65A656C255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96F2-F8DA-486D-9F66-0F6ACDC2613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0787-319A-48B7-AFC0-A51FA8ED4BE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3F6C-5FC5-429B-BC02-6E0CE27E85D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C6E4-09BC-4996-895D-CE99A701CBC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C7AC-7DC7-4680-9713-94D5EAA0F92E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DA09-F768-4A2C-A904-565B59E1DC9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9E08-D143-49ED-A76E-CD1DBD7C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D02-43CB-4934-ABEF-6947A393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8992-4970-495B-AC82-6EA44610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5C0-5C58-4CC1-8384-A201FFC4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7C8B-9B37-4CA7-BE8C-7BD4E787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7058-3147-4F83-A275-0BCDF1EC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50FE-17DA-4FA1-9BCC-7E60000E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E58-A6A9-4724-840C-62312370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4F7F-4CE3-48AC-A8BA-DA6C6AC5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289E-6FEC-47C1-A0D5-830CFF19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8FCE-23D5-4CE2-BB13-3222AABF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AC7-B884-4566-B545-5BEE06DC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A260-6938-4DE9-85C8-421FE69FB255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rnesto%20Cortazar%20-%20Endlessly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sc_7222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0" y="2602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Comic Sans MS"/>
              </a:rPr>
              <a:t>ZACHTE WOORDEN VOOR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Comic Sans MS"/>
              </a:rPr>
              <a:t>DE OUDERS …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Tekstvak 5"/>
          <p:cNvSpPr/>
          <p:nvPr/>
        </p:nvSpPr>
        <p:spPr>
          <a:xfrm>
            <a:off x="-324000" y="6237360"/>
            <a:ext cx="94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Monotype Corsiva"/>
              </a:rPr>
              <a:t>Vertaald uit het Frans – Freddy Storm – 06/2010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  <p:sndAc>
      <p:stSnd>
        <p:snd r:embed="rId2" name="Ernesto%20Cortazar%20-%20Endlessl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-181080" y="-136440"/>
            <a:ext cx="9325080" cy="6994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snails-2"/>
          <p:cNvPicPr/>
          <p:nvPr/>
        </p:nvPicPr>
        <p:blipFill>
          <a:blip r:embed="rId2"/>
          <a:stretch/>
        </p:blipFill>
        <p:spPr>
          <a:xfrm>
            <a:off x="0" y="0"/>
            <a:ext cx="5302080" cy="7029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5364000" y="333360"/>
            <a:ext cx="378000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ZOUDEN WE AAN ONZE OUDERS ALLES WAT ZE ONS HEBBEN GEGEVEN KUNNEN TERUGGEVEN? 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ONMOGELIJK !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WE MOETEN ONS ERMEE TEVREDEN STELLEN TE BLIJVEN LUISTEREN NAAR HUN BEHOEFTEN, HUN WENSEN, EN ZE VOORAL GRENZELOOS BEMINNEN 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achoeira_online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684360" y="260280"/>
            <a:ext cx="77770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ACHTER ELK KIND IN MOEILIJKHEDEN DAT ER UITRAAKT STAAT EEN VOLHARDENDE OUDER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alloweenig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684360" y="4724280"/>
            <a:ext cx="79214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ZEG MIJ WELKE OUDERS JULLIE ZIJN EN IK ZAL JULLIE ZEGGEN WAT JULLIE KINDEREN ZULLEN WORDEN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dsc027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250920" y="549360"/>
            <a:ext cx="86421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Comic Sans MS"/>
              </a:rPr>
              <a:t>DOOR HUN KINDEREN TE LOVEN FLATTEREN OUDERS ZICHZELF …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bluereaching"/>
          <p:cNvPicPr/>
          <p:nvPr/>
        </p:nvPicPr>
        <p:blipFill>
          <a:blip r:embed="rId2"/>
          <a:stretch/>
        </p:blipFill>
        <p:spPr>
          <a:xfrm>
            <a:off x="1523880" y="1066680"/>
            <a:ext cx="5688000" cy="5189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324000" y="4508640"/>
            <a:ext cx="8496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ONDERHOUD DE TUIN VAN DE OUDERLIJKE LIEFDE GOED. HIJ IS HET ENIGE ECHTE IN DEZE WERELD WAAROP JE ALTIJD KAN STEUNEN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sc052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0" y="260280"/>
            <a:ext cx="914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IN HET LEVEN EVOLUEREN ZONDER OUDERS  IS ALS EEN ONBEKEND LAND DOORTREKKEN ZONDER WEGENKAART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dropyello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4000" y="5229360"/>
            <a:ext cx="84582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HET VOLSTAAT NIET KINDEREN TE MAKEN OM OUDERS TE ZIJN. MEN MOET DIE NAAM WETEN TE VERDIENEN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barn_small_f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468360" y="260280"/>
            <a:ext cx="84582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ER BESTAAT GEEN SCHOOL VOOR OUDERS. WAT ZOU ZE WEL KUNNEN ONDERWIJZEN, WANT ELK KIND IS VERSCHILLEND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umalikizik_tre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826920" y="5157720"/>
            <a:ext cx="7632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LAAAT HET LAATSTE WOORD AAN JE OUDERS. DAT PRIVILEGE HEBBEN ZE ZEKER VERDIEND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_cattails_tn_te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80880" y="333360"/>
            <a:ext cx="8763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DE OUDERLIEFDE IS DE GROOTSTE SCHAT. SPIJTIG DAT SOMMIGE KINDEREN DAT PAS MERKEN ALS ZE WEG ZIJN …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nenufar__"/>
          <p:cNvPicPr/>
          <p:nvPr/>
        </p:nvPicPr>
        <p:blipFill>
          <a:blip r:embed="rId2"/>
          <a:stretch/>
        </p:blipFill>
        <p:spPr>
          <a:xfrm>
            <a:off x="1523880" y="2657520"/>
            <a:ext cx="6096240" cy="4200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0" y="144792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ccff"/>
                </a:solidFill>
                <a:latin typeface="Comic Sans MS"/>
              </a:rPr>
              <a:t>IK WIL VANDAAG AL ONZE VOOROUDERS 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ccff"/>
                </a:solidFill>
                <a:latin typeface="Comic Sans MS"/>
              </a:rPr>
              <a:t>BEDANKEN: OMA’S EN OPA’S, EN VOORAL 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ccff"/>
                </a:solidFill>
                <a:latin typeface="Comic Sans MS"/>
              </a:rPr>
              <a:t>ONZE OUDERS DIE ONS DIT MOOIE            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ccff"/>
                </a:solidFill>
                <a:latin typeface="Comic Sans MS"/>
              </a:rPr>
              <a:t>KARAKTER HEBBEN GESCHONKEN.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01600" y="187200"/>
            <a:ext cx="8742240" cy="6481800"/>
          </a:xfrm>
          <a:prstGeom prst="rect">
            <a:avLst/>
          </a:prstGeom>
          <a:noFill/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52280" y="152280"/>
            <a:ext cx="9144000" cy="68580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53880" y="339840"/>
            <a:ext cx="8742600" cy="6481800"/>
          </a:xfrm>
          <a:prstGeom prst="rect">
            <a:avLst/>
          </a:prstGeom>
          <a:noFill/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8" name="Afbeelding 11" descr="Muis.gif"/>
          <p:cNvPicPr/>
          <p:nvPr/>
        </p:nvPicPr>
        <p:blipFill>
          <a:blip r:embed="rId3"/>
          <a:stretch/>
        </p:blipFill>
        <p:spPr>
          <a:xfrm>
            <a:off x="7596360" y="5732640"/>
            <a:ext cx="95220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_dsc84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971640" y="5516640"/>
            <a:ext cx="69818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DE OUDERLIEFDE KENT GEEN TIJD, AFSTAND EN AFWEZIGHEID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_dsc0015-hummingbird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0" y="685800"/>
            <a:ext cx="64771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DE LIEFDE DIE OUDERS AAN HUN KINDEREN GEVEN IS NOOIT VERLOREN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dsc_7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457200" y="69228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Comic Sans MS"/>
              </a:rPr>
              <a:t>ZACHTE WOORDEN VOOR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Comic Sans MS"/>
              </a:rPr>
              <a:t>DE OUDERS …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835280" y="2852640"/>
            <a:ext cx="5545080" cy="29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omic Sans MS"/>
              </a:rPr>
              <a:t>MUZIEK: ERNESTO CORTAZAR</a:t>
            </a:r>
            <a:endParaRPr b="1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CREATIE: MARLENE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 Sans MS"/>
              </a:rPr>
              <a:t>1 FEBRUARI 2007</a:t>
            </a: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7" descr="coeur_90"/>
          <p:cNvPicPr/>
          <p:nvPr/>
        </p:nvPicPr>
        <p:blipFill>
          <a:blip r:embed="rId2"/>
          <a:stretch/>
        </p:blipFill>
        <p:spPr>
          <a:xfrm>
            <a:off x="7164360" y="5300640"/>
            <a:ext cx="5144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19_4826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611280" y="260280"/>
            <a:ext cx="82818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Comic Sans MS"/>
              </a:rPr>
              <a:t>NA MIJ HET SPREKEN TE HEBBEN GELEERD, HEBBEN MIJN OUDERS MIJ OOK HET ZWIJGEN GELEERD…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wheelbarro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0" y="4869000"/>
            <a:ext cx="9144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Comic Sans MS"/>
              </a:rPr>
              <a:t>VROEGER HADDEN OUDERS MEERDERE KINDEREN. NU ZIJN HET DE KINDEREN DIE MEERDERE OUDERS HEBBEN… 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8060135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11280" y="333360"/>
            <a:ext cx="769464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Comic Sans MS"/>
              </a:rPr>
              <a:t>MEN KAN ALLES KOPEN, BEHALVE EEN VADER EN EEN MOEDER …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trekmtober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0" y="5157720"/>
            <a:ext cx="9144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HET IS NIET DE REDE NOCH DE PASSIE DIE ONS MOET LEIDEN, WEL DE WIJSHEID VAN ONZE OUDERS …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topa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260280"/>
            <a:ext cx="883908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 Sans MS"/>
              </a:rPr>
              <a:t>SOMMIGEN GELOVEN DAT GENIALITEIT ERFELIJK IS, DE ANDEREN HEBBEN GEEN KINDEREN …</a:t>
            </a:r>
            <a:r>
              <a:rPr b="1" lang="fr-CA" sz="28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velo-fleur-espinas-tarn-montauban-5807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11280" y="4941720"/>
            <a:ext cx="78483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Comic Sans MS"/>
              </a:rPr>
              <a:t>HET IS AAN HET WELSLAGEN VAN HUN KINDEREN DAT OUDERS DAT VAN HEN AFMETEN …  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encinas-en-la-nieb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684360" y="333360"/>
            <a:ext cx="792000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Comic Sans MS"/>
              </a:rPr>
              <a:t>HET IS ALS NIETS MEER GAAT DAT MEN ER ZICH REKENSCHAP VAN GEEFT HOEZEER ZIJN OUDERS TROOSTEND ZIJN …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20:59:35Z</dcterms:created>
  <dc:creator>Marlene</dc:creator>
  <dc:description/>
  <dc:language>en-US</dc:language>
  <cp:lastModifiedBy>fredje</cp:lastModifiedBy>
  <dcterms:modified xsi:type="dcterms:W3CDTF">2010-06-19T05:40:00Z</dcterms:modified>
  <cp:revision>67</cp:revision>
  <dc:subject/>
  <dc:title>Diapositive 1</dc:title>
</cp:coreProperties>
</file>