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de%20roos%20%20%20%20%20%20%20%20%20%20%20%20%20%20%20%20%20Ann%20Christy%20%20%20%20%20%20%20%20%20%20%20%20%20%20%20%20%20%20%20%20%20%20%20%20%20%20%20%20%20%20%20%20%20%20%20%20%20%20%20%20%20%20%20%20%20%20%20%20%203'20%20ins.wav" ContentType="audio/x-wav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8C38-C88B-463C-AF02-34827148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21D-0B86-481B-8363-0C491D89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4992-719D-4BA3-AF98-87EC3E40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BB4-7DF4-4AF0-85A8-724DA07C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01B-2829-42CF-B9BE-54B2CB51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F59E-B617-498F-8C1D-F86100BB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6771-4BC3-4842-8D83-F8D9925E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DC65-EB27-4033-B413-169CE777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76C-E926-439E-8D00-3B217C30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661-F720-404D-B674-CDAEFC2D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B79-A17C-4CF2-A4A2-5738ED37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889-5C95-490E-82AD-398509E6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1670-068B-466B-B91D-CBBDB175F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e%20roos%20%20%20%20%20%20%20%20%20%20%20%20%20%20%20%20%20Ann%20Christy%20%20%20%20%20%20%20%20%20%20%20%20%20%20%20%20%20%20%20%20%20%20%20%20%20%20%20%20%20%20%20%20%20%20%20%20%20%20%20%20%20%20%20%20%20%20%20%20%203&apos;20%20in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42920" y="5300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cc66"/>
                </a:solidFill>
                <a:latin typeface="Arial"/>
                <a:ea typeface="新細明體"/>
              </a:rPr>
              <a:t>Belangrijke waarheden om even over na te den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  <p:sndAc>
      <p:stSnd>
        <p:snd r:embed="rId2" name="de%20roos%20%20%20%20%20%20%20%20%20%20%20%20%20%20%20%20%20Ann%20Christy%20%20%20%20%20%20%20%20%20%20%20%20%20%20%20%20%20%20%20%20%20%20%20%20%20%20%20%20%20%20%20%20%20%20%20%20%20%20%20%20%20%20%20%20%20%20%20%20%203'20%20in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55640" y="5877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Arial"/>
                <a:ea typeface="新細明體"/>
              </a:rPr>
              <a:t>Maak van elk moment een mon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40464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99"/>
                </a:solidFill>
                <a:latin typeface="Arial"/>
                <a:ea typeface="新細明體"/>
              </a:rPr>
              <a:t>Etiketten plak je op fle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99"/>
                </a:solidFill>
                <a:latin typeface="Arial"/>
                <a:ea typeface="新細明體"/>
              </a:rPr>
              <a:t> </a:t>
            </a:r>
            <a:r>
              <a:rPr b="1" lang="fr-BE" sz="3200" spc="-1" strike="noStrike">
                <a:solidFill>
                  <a:srgbClr val="ffff99"/>
                </a:solidFill>
                <a:latin typeface="Arial"/>
                <a:ea typeface="新細明體"/>
              </a:rPr>
              <a:t>niet op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3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8360" y="692280"/>
            <a:ext cx="230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66ff"/>
                </a:solidFill>
                <a:latin typeface="Arial"/>
                <a:ea typeface="新細明體"/>
              </a:rPr>
              <a:t>De waarheid komt nooit uit de loop van een gew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5640" y="5877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  <a:ea typeface="新細明體"/>
              </a:rPr>
              <a:t>Hang de sleutel van je hart niet te h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4360" y="54450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3300"/>
                </a:solidFill>
                <a:latin typeface="Arial"/>
                <a:ea typeface="新細明體"/>
              </a:rPr>
              <a:t>eenzaamheid is de jas die nieman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04000" y="620640"/>
            <a:ext cx="1728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9999"/>
                </a:solidFill>
                <a:latin typeface="Arial"/>
                <a:ea typeface="新細明體"/>
              </a:rPr>
              <a:t>ook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9999"/>
                </a:solidFill>
                <a:latin typeface="Arial"/>
                <a:ea typeface="新細明體"/>
              </a:rPr>
              <a:t>vakan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9999"/>
                </a:solidFill>
                <a:latin typeface="Arial"/>
                <a:ea typeface="新細明體"/>
              </a:rPr>
              <a:t>kan 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9999"/>
                </a:solidFill>
                <a:latin typeface="Arial"/>
                <a:ea typeface="新細明體"/>
              </a:rPr>
              <a:t>te 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9999"/>
                </a:solidFill>
                <a:latin typeface="Arial"/>
                <a:ea typeface="新細明體"/>
              </a:rPr>
              <a:t>g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58920" y="8366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ccff"/>
                </a:solidFill>
                <a:latin typeface="Arial"/>
                <a:ea typeface="新細明體"/>
              </a:rPr>
              <a:t>Als alles draait om geld ben je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5280" y="609300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99"/>
                </a:solidFill>
                <a:latin typeface="Arial"/>
                <a:ea typeface="新細明體"/>
              </a:rPr>
              <a:t>Geef mensen geld en ze maken ruz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26920" y="8366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cc66"/>
                </a:solidFill>
                <a:latin typeface="Century Gothic"/>
                <a:ea typeface="新細明體"/>
              </a:rPr>
              <a:t>Geef ze een droom en ze werken s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3933720"/>
            <a:ext cx="2950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cc66"/>
                </a:solidFill>
                <a:latin typeface="Arial"/>
                <a:ea typeface="新細明體"/>
              </a:rPr>
              <a:t>De beste ar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cc66"/>
                </a:solidFill>
                <a:latin typeface="Arial"/>
                <a:ea typeface="新細明體"/>
              </a:rPr>
              <a:t>dr. Ma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cc66"/>
                </a:solidFill>
                <a:latin typeface="Arial"/>
                <a:ea typeface="新細明體"/>
              </a:rPr>
              <a:t>dr. Rus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cc66"/>
                </a:solidFill>
                <a:latin typeface="Arial"/>
                <a:ea typeface="新細明體"/>
              </a:rPr>
              <a:t>dr. Vro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3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3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3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3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765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99"/>
                </a:solidFill>
                <a:latin typeface="Arial"/>
                <a:ea typeface="新細明體"/>
              </a:rPr>
              <a:t>Elke kleine attentie is g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11280" y="404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Arial"/>
                <a:ea typeface="新細明體"/>
              </a:rPr>
              <a:t>Doe wat je kunt met wat je hebt</a:t>
            </a:r>
            <a:r>
              <a:rPr b="1" lang="fr-BE" sz="2800" spc="-1" strike="noStrike">
                <a:solidFill>
                  <a:srgbClr val="ff3300"/>
                </a:solidFill>
                <a:latin typeface="Arial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ccff"/>
                </a:solidFill>
                <a:latin typeface="Arial"/>
                <a:ea typeface="新細明體"/>
              </a:rPr>
              <a:t>Als de droom sterft in de mens sterft de 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404640"/>
            <a:ext cx="2519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cc"/>
                </a:solidFill>
                <a:latin typeface="Arial"/>
                <a:ea typeface="新細明體"/>
              </a:rPr>
              <a:t>Zet de Tv 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cc"/>
                </a:solidFill>
                <a:latin typeface="Arial"/>
                <a:ea typeface="新細明體"/>
              </a:rPr>
              <a:t>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cc"/>
                </a:solidFill>
                <a:latin typeface="Arial"/>
                <a:ea typeface="新細明體"/>
              </a:rPr>
              <a:t>het leven 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6206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9966ff"/>
                </a:solidFill>
                <a:latin typeface="Arial"/>
                <a:ea typeface="新細明體"/>
              </a:rPr>
              <a:t>Kinderen zijn dikwijls onze leermee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6920" y="2924280"/>
            <a:ext cx="172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9999"/>
                </a:solidFill>
                <a:latin typeface="Arial"/>
                <a:ea typeface="新細明體"/>
              </a:rPr>
              <a:t>Het leven is te kort om het te m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292720" y="4581360"/>
            <a:ext cx="32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9999"/>
                </a:solidFill>
                <a:latin typeface="Arial"/>
                <a:ea typeface="新細明體"/>
              </a:rPr>
              <a:t>Verander de lijn onder aan je gez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42920" y="5445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Arial"/>
                <a:ea typeface="新細明體"/>
              </a:rPr>
              <a:t>Je gezicht is de spiegel van je 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516720" y="5084640"/>
            <a:ext cx="208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99"/>
                </a:solidFill>
                <a:latin typeface="Arial"/>
                <a:ea typeface="新細明體"/>
              </a:rPr>
              <a:t>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99"/>
                </a:solidFill>
                <a:latin typeface="Arial"/>
                <a:ea typeface="新細明體"/>
              </a:rPr>
              <a:t>E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760" y="620640"/>
            <a:ext cx="83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Hopelijk heb je van al deze waarheden iets opgestoke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500"/>
                            </p:stCondLst>
                            <p:childTnLst>
                              <p:par>
                                <p:cTn id="27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" dur="3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8500"/>
                            </p:stCondLst>
                            <p:childTnLst>
                              <p:par>
                                <p:cTn id="2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9280" y="0"/>
            <a:ext cx="849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Arial"/>
                <a:ea typeface="新細明體"/>
              </a:rPr>
              <a:t>Humor is een goede schokbre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ls je botst in het 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8900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ccffcc"/>
                </a:solidFill>
                <a:latin typeface="Arial"/>
                <a:ea typeface="新細明體"/>
              </a:rPr>
              <a:t>Ontroerd zijn is adem halen met het 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55640" y="549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99"/>
                </a:solidFill>
                <a:latin typeface="Arial"/>
                <a:ea typeface="新細明體"/>
              </a:rPr>
              <a:t>Al doen wat je kan is al wat je ka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516720" y="2349360"/>
            <a:ext cx="2089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Arial"/>
                <a:ea typeface="新細明體"/>
              </a:rPr>
              <a:t>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Arial"/>
                <a:ea typeface="新細明體"/>
              </a:rPr>
              <a:t>d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Arial"/>
                <a:ea typeface="新細明體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Arial"/>
                <a:ea typeface="新細明體"/>
              </a:rPr>
              <a:t>w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Arial"/>
                <a:ea typeface="新細明體"/>
              </a:rPr>
              <a:t>men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Arial"/>
                <a:ea typeface="新細明體"/>
              </a:rPr>
              <a:t>drij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5373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Century Gothic"/>
                <a:ea typeface="新細明體"/>
              </a:rPr>
              <a:t>Eén goede kant is beter dan een groot v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1341360"/>
            <a:ext cx="172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ffcc"/>
                </a:solidFill>
                <a:latin typeface="Arial"/>
                <a:ea typeface="新細明體"/>
              </a:rPr>
              <a:t>r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ffcc"/>
                </a:solidFill>
                <a:latin typeface="Arial"/>
                <a:ea typeface="新細明體"/>
              </a:rPr>
              <a:t>wij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ffcc"/>
                </a:solidFill>
                <a:latin typeface="Arial"/>
                <a:ea typeface="新細明體"/>
              </a:rPr>
              <a:t>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ffcc"/>
                </a:solidFill>
                <a:latin typeface="Arial"/>
                <a:ea typeface="新細明體"/>
              </a:rPr>
              <a:t>‘</a:t>
            </a:r>
            <a:r>
              <a:rPr b="1" lang="fr-BE" sz="2800" spc="-1" strike="noStrike">
                <a:solidFill>
                  <a:srgbClr val="ccffcc"/>
                </a:solidFill>
                <a:latin typeface="Arial"/>
                <a:ea typeface="新細明體"/>
              </a:rPr>
              <a:t>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ffcc"/>
                </a:solidFill>
                <a:latin typeface="Arial"/>
                <a:ea typeface="新細明體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ffcc"/>
                </a:solidFill>
                <a:latin typeface="Arial"/>
                <a:ea typeface="新細明體"/>
              </a:rPr>
              <a:t>laat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ffcc"/>
                </a:solidFill>
                <a:latin typeface="Arial"/>
                <a:ea typeface="新細明體"/>
              </a:rPr>
              <a:t>r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7960" y="444600"/>
            <a:ext cx="60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Schoonheid zit in de kleine dingen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08:06:27Z</dcterms:created>
  <dc:creator>Elly</dc:creator>
  <dc:description/>
  <dc:language>en-US</dc:language>
  <cp:lastModifiedBy>Elly</cp:lastModifiedBy>
  <dcterms:modified xsi:type="dcterms:W3CDTF">2006-11-13T09:16:25Z</dcterms:modified>
  <cp:revision>2</cp:revision>
  <dc:subject/>
  <dc:title>Dia 1</dc:title>
</cp:coreProperties>
</file>