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37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media/image12.jpeg" ContentType="image/jpeg"/>
  <Override PartName="/ppt/media/image4.png" ContentType="image/png"/>
  <Override PartName="/ppt/media/image9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Donau%20Walzer.Joh.Strauss.wav" ContentType="audio/x-wav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D590-AF76-4BF6-8975-3F238199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D2E8-0629-49BA-BC11-35D91812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6E5E-4EE0-483D-8960-2C40C5F9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48DB-695D-4312-80B2-03E0BB24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AF0C-560E-4AE9-976E-0EEC4DC5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91BE-2F0F-4486-9A1E-652AEFF2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B82-FA64-44DD-B042-0F620676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9CFF-02CF-4231-9194-2FDD4FC5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BA1E-218C-448E-AA79-05DDE578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4EA3-63C6-4E2B-82FB-36132FE7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342C-9D14-4FE2-99FE-68CE18FC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597A-D2B5-46E2-AE13-A43524F5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176E-2DEC-46EE-B8FE-9F2AEA282598}" type="slidenum"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Donau%20Walzer.Joh.Strauss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mailto:werner.drechsler@chello.at?subject=Kaiserstadt" TargetMode="External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248520" y="4572000"/>
            <a:ext cx="1234800" cy="411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62520" y="1981080"/>
            <a:ext cx="1066680" cy="822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019920" y="762120"/>
            <a:ext cx="641160" cy="327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191120" y="304920"/>
            <a:ext cx="761760" cy="57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6248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304920"/>
            <a:ext cx="8458200" cy="6324480"/>
          </a:xfrm>
          <a:prstGeom prst="rect">
            <a:avLst/>
          </a:pr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096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4.JHdt. Gründung  der  Gatterburg -  spätere  Kattermühle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  1717  Maria  Theresia</a:t>
            </a: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780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830  Franz Joseph</a:t>
            </a: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916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887  Kaiser  Karl 1.</a:t>
            </a:r>
            <a:br>
              <a:rPr sz="1400"/>
            </a:br>
            <a:r>
              <a:rPr b="0" lang="de-DE" sz="1400" spc="-1" strike="noStrike">
                <a:solidFill>
                  <a:srgbClr val="000066"/>
                </a:solidFill>
                <a:latin typeface="Times New Roman"/>
              </a:rPr>
              <a:t>19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943600" y="2209680"/>
            <a:ext cx="1371600" cy="876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943600" y="3200400"/>
            <a:ext cx="685800" cy="762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943600" y="4114800"/>
            <a:ext cx="685800" cy="81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943600" y="5029200"/>
            <a:ext cx="6858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609480" y="2971800"/>
            <a:ext cx="24336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172200" y="4572000"/>
            <a:ext cx="762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to.m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791320" y="4876920"/>
            <a:ext cx="3650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51228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068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5:21:02Z</dcterms:created>
  <dc:creator>../</dc:creator>
  <dc:description/>
  <dc:language>en-US</dc:language>
  <cp:lastModifiedBy>ANI</cp:lastModifiedBy>
  <dcterms:modified xsi:type="dcterms:W3CDTF">2008-01-24T16:35:15Z</dcterms:modified>
  <cp:revision>11</cp:revision>
  <dc:subject/>
  <dc:title>PowerPoint-Präsentation</dc:title>
</cp:coreProperties>
</file>