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37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media/image12.jpeg" ContentType="image/jpeg"/>
  <Override PartName="/ppt/media/image4.png" ContentType="image/png"/>
  <Override PartName="/ppt/media/image9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Donau%20Walzer.Joh.Strauss.wav" ContentType="audio/x-wav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3B56-07D1-46A7-B81F-CFEC7DB6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B799-53A9-491B-89E9-0465819E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4F0A-1A00-4685-9626-73EDA2C1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43BC-B12B-4A78-AB54-40EF8374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AE32-C808-4A8E-84F2-2C87E8BD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E753-AAAD-45EF-AFCE-81EA7DBC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34D9-D7D6-4D5E-9E7C-1DB8439F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D012-C988-4E90-9656-87015FD7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C0FA-73F1-4D20-B03C-3304295A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7548-850F-4AEB-9E4E-EF8D2F6E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735A-6483-4D1C-A386-49D9B227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67AF-E298-433E-871F-644556A4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2DD6-B162-4C03-BE30-F071D75EFD40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Donau%20Walzer.Joh.Strauss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mailto:werner.drechsler@chello.at?subject=Kaiserstadt" TargetMode="External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248520" y="4572000"/>
            <a:ext cx="1234800" cy="411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62520" y="1981080"/>
            <a:ext cx="1066680" cy="822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019920" y="762120"/>
            <a:ext cx="641160" cy="327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191120" y="304920"/>
            <a:ext cx="76176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6248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304920"/>
            <a:ext cx="8458200" cy="632448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096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4.JHdt. Gründung  der  Gatterburg -  spätere  Kattermühle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  1717  Maria  Theresia</a:t>
            </a: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780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830  Franz Joseph</a:t>
            </a: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916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887  Kaiser  Karl 1.</a:t>
            </a: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9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943600" y="2209680"/>
            <a:ext cx="1371600" cy="876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943600" y="3200400"/>
            <a:ext cx="685800" cy="762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943600" y="4114800"/>
            <a:ext cx="685800" cy="81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943600" y="5029200"/>
            <a:ext cx="6858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609480" y="2971800"/>
            <a:ext cx="24336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172200" y="4572000"/>
            <a:ext cx="762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to.m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791320" y="4876920"/>
            <a:ext cx="3650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51228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5:21:02Z</dcterms:created>
  <dc:creator>../</dc:creator>
  <dc:description/>
  <dc:language>en-US</dc:language>
  <cp:lastModifiedBy>ANI</cp:lastModifiedBy>
  <dcterms:modified xsi:type="dcterms:W3CDTF">2008-01-24T16:35:15Z</dcterms:modified>
  <cp:revision>11</cp:revision>
  <dc:subject/>
  <dc:title>PowerPoint-Präsentation</dc:title>
</cp:coreProperties>
</file>