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ric%20CLapton%20You%20look%20wonderfull.Wav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6F5-50AB-4FA6-8544-B72365CD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881-0253-415F-9FFC-FF0281FA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6A9-4241-4738-AD49-FFE167AB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49E-3794-406D-845C-D191F4C3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988-5092-4164-B3FE-48DE8C0E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893-4D0D-42A6-ACBC-F840331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AF1-6D1D-4AFB-B68C-79519165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EF6-9A5C-4B55-8238-8F2A41F2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D44-6AF9-4C81-AFA2-7BA422F7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0B4-F77C-49A7-B26A-3D118C1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AF7E-97C2-4333-96FA-5F36BA3F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42C-2FA2-4DD7-B299-639CC539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F8CF-D4E6-4D03-A42B-4E1ACABC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audio" Target="../media/Eric%20CLapton%20You%20look%20wonderfull.Wav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492280"/>
            <a:ext cx="6624720" cy="19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133720"/>
            <a:ext cx="6769080" cy="21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4176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971640" y="5084640"/>
            <a:ext cx="741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808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99cc00">
                      <a:alpha val="50000"/>
                    </a:srgbClr>
                  </a:outerShdw>
                </a:effectLst>
                <a:latin typeface="Times New Roman"/>
              </a:rPr>
              <a:t>Eenvoud........ siert je 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99cc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5000">
    <p:fade/>
    <p:sndAc>
      <p:stSnd>
        <p:snd r:embed="rId4" name="Eric%20CLapton%20You%20look%20wonderfull.Wav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animClr clrSpc="rgb">
                                      <p:cBhvr>
                                        <p:cTn id="12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20640"/>
            <a:ext cx="6264360" cy="5805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765000"/>
            <a:ext cx="5977080" cy="5472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488360" cy="44654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80" name=""/>
          <p:cNvSpPr/>
          <p:nvPr/>
        </p:nvSpPr>
        <p:spPr>
          <a:xfrm>
            <a:off x="5219640" y="2708640"/>
            <a:ext cx="2808360" cy="265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Wees een zonnestraa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 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je medemensen hebben er behoefte a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2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476280"/>
            <a:ext cx="8353440" cy="6121440"/>
          </a:xfrm>
          <a:prstGeom prst="rect">
            <a:avLst/>
          </a:prstGeom>
          <a:solidFill>
            <a:srgbClr val="80808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907920"/>
            <a:ext cx="7129440" cy="5329440"/>
          </a:xfrm>
          <a:prstGeom prst="rect">
            <a:avLst/>
          </a:prstGeom>
          <a:noFill/>
          <a:ln w="57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777080" cy="4286160"/>
          </a:xfrm>
          <a:prstGeom prst="rect">
            <a:avLst/>
          </a:prstGeom>
          <a:ln w="38160">
            <a:solidFill>
              <a:srgbClr val="dddddd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</p:pic>
      <p:sp>
        <p:nvSpPr>
          <p:cNvPr id="84" name=""/>
          <p:cNvSpPr/>
          <p:nvPr/>
        </p:nvSpPr>
        <p:spPr>
          <a:xfrm>
            <a:off x="1332000" y="3031560"/>
            <a:ext cx="236844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Bekijk jezelf eerst</a:t>
            </a:r>
            <a:br>
              <a:rPr sz="2400"/>
            </a:b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door de ogen van een ander,</a:t>
            </a:r>
            <a:br>
              <a:rPr sz="2400"/>
            </a:b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voordat je een ander</a:t>
            </a:r>
            <a:br>
              <a:rPr sz="2400"/>
            </a:b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met je eigen ogen bekij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836640"/>
            <a:ext cx="8496360" cy="5184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208720" cy="331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7" name=""/>
          <p:cNvSpPr txBox="1"/>
          <p:nvPr/>
        </p:nvSpPr>
        <p:spPr>
          <a:xfrm>
            <a:off x="3708360" y="5661000"/>
            <a:ext cx="2232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foto's &amp; pps mj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0000" y="6237360"/>
            <a:ext cx="4680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Muziek " Eric Clapton"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50000"/>
                    </a:srgbClr>
                  </a:outerShdw>
                </a:effectLst>
                <a:latin typeface="Times New Roman"/>
              </a:rPr>
              <a:t>"You look wonderfull to night"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6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692280"/>
            <a:ext cx="8640720" cy="5616360"/>
          </a:xfrm>
          <a:prstGeom prst="rect">
            <a:avLst/>
          </a:prstGeom>
          <a:solidFill>
            <a:srgbClr val="99cc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052640"/>
            <a:ext cx="8280360" cy="5040360"/>
          </a:xfrm>
          <a:prstGeom prst="rect">
            <a:avLst/>
          </a:prstGeom>
          <a:solidFill>
            <a:srgbClr val="c0c0c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284640"/>
            <a:ext cx="7921440" cy="2665440"/>
          </a:xfrm>
          <a:prstGeom prst="rect">
            <a:avLst/>
          </a:prstGeom>
          <a:solidFill>
            <a:srgbClr val="99cc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72360" cy="3743280"/>
          </a:xfrm>
          <a:prstGeom prst="rect">
            <a:avLst/>
          </a:prstGeom>
          <a:ln w="9360">
            <a:solidFill>
              <a:srgbClr val="dddddd"/>
            </a:solidFill>
            <a:miter/>
          </a:ln>
        </p:spPr>
      </p:pic>
      <p:sp>
        <p:nvSpPr>
          <p:cNvPr id="93" name=""/>
          <p:cNvSpPr txBox="1"/>
          <p:nvPr/>
        </p:nvSpPr>
        <p:spPr>
          <a:xfrm>
            <a:off x="1332000" y="2637000"/>
            <a:ext cx="5904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ffffff">
                      <a:alpha val="50000"/>
                    </a:srgbClr>
                  </a:outerShdw>
                </a:effectLst>
                <a:latin typeface="Times New Roman"/>
              </a:rPr>
              <a:t>Bedankt......!!!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ffffff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7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348000" y="4554360"/>
            <a:ext cx="4753080" cy="1970280"/>
          </a:xfrm>
          <a:prstGeom prst="ellipse">
            <a:avLst/>
          </a:prstGeom>
          <a:solidFill>
            <a:srgbClr val="80808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125360"/>
            <a:ext cx="8569080" cy="38163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6200" y="477720"/>
            <a:ext cx="7851600" cy="42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356000" y="5092560"/>
            <a:ext cx="3492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Zoek de zonnekant in het leven de schaduw volgt van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32360" y="2708280"/>
            <a:ext cx="3887640" cy="3168720"/>
          </a:xfrm>
          <a:prstGeom prst="rect">
            <a:avLst/>
          </a:prstGeom>
          <a:solidFill>
            <a:srgbClr val="cc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016000" cy="4464000"/>
          </a:xfrm>
          <a:prstGeom prst="rect">
            <a:avLst/>
          </a:prstGeom>
          <a:solidFill>
            <a:srgbClr val="cc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40323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796000" y="1262880"/>
            <a:ext cx="2016000" cy="52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dddddd"/>
                </a:solidFill>
                <a:latin typeface="Arial"/>
              </a:rPr>
              <a:t>Ik schenk aan jou een doosje stilte </a:t>
            </a:r>
            <a:br>
              <a:rPr sz="2400"/>
            </a:br>
            <a:r>
              <a:rPr b="0" lang="nl-NL" sz="2400" spc="-1" strike="noStrike">
                <a:solidFill>
                  <a:srgbClr val="dddddd"/>
                </a:solidFill>
                <a:latin typeface="Arial"/>
              </a:rPr>
              <a:t>toegestrikt met de zachtste rust </a:t>
            </a:r>
            <a:br>
              <a:rPr sz="2400"/>
            </a:br>
            <a:r>
              <a:rPr b="0" lang="nl-NL" sz="2400" spc="-1" strike="noStrike">
                <a:solidFill>
                  <a:srgbClr val="dddddd"/>
                </a:solidFill>
                <a:latin typeface="Arial"/>
              </a:rPr>
              <a:t>Ook een bosje mooie vreugde </a:t>
            </a:r>
            <a:br>
              <a:rPr sz="2400"/>
            </a:br>
            <a:r>
              <a:rPr b="0" lang="nl-NL" sz="2400" spc="-1" strike="noStrike">
                <a:solidFill>
                  <a:srgbClr val="dddddd"/>
                </a:solidFill>
                <a:latin typeface="Arial"/>
              </a:rPr>
              <a:t>en een portie levenslust.</a:t>
            </a:r>
            <a:r>
              <a:rPr b="1" lang="nl-NL" sz="24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7777080" cy="4175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700280"/>
            <a:ext cx="5040360" cy="482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79640" y="333360"/>
            <a:ext cx="8064360" cy="43196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6084720" y="1700280"/>
            <a:ext cx="201636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oor jou speciaal een potje liefde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offe momenten, dag na dag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oeg daarbij een goeie gezondheid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 een hele mooie lach.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2205000"/>
            <a:ext cx="4248000" cy="3168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208720" cy="4176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5219640" y="620640"/>
            <a:ext cx="273708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'k Geef je ook een pakje blijdschap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 een fles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ol met hoop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Je ziet, de allermooiste geschenken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zijn niet overal te koop!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6913440" cy="1873080"/>
          </a:xfrm>
          <a:prstGeom prst="rect">
            <a:avLst/>
          </a:prstGeom>
          <a:solidFill>
            <a:srgbClr val="f7e6a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22200" y="2033640"/>
            <a:ext cx="7921800" cy="4824360"/>
          </a:xfrm>
          <a:prstGeom prst="rect">
            <a:avLst/>
          </a:prstGeom>
          <a:solidFill>
            <a:srgbClr val="f7e6a7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8677440" cy="410400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258920" y="1341360"/>
            <a:ext cx="2592360" cy="52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Neem je tijd voor heel w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vriendschap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 kijk uit naar elk vriendelijk gebaar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n als je nood hebt om het uit te schreeuwen,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k luister graag, je roept me maar!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333360"/>
            <a:ext cx="8353440" cy="60483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569440" cy="3960720"/>
          </a:xfrm>
          <a:prstGeom prst="rect">
            <a:avLst/>
          </a:prstGeom>
          <a:ln w="76320">
            <a:solidFill>
              <a:srgbClr val="dddddd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6227640" y="1628640"/>
            <a:ext cx="208944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k wilde je nog veel meer geven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aar helaas, zo werkt het niet!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Kijk om je heen en laat je leiden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oor al het moois wat het leven b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197000"/>
            <a:ext cx="5508720" cy="496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765000"/>
            <a:ext cx="8280360" cy="38163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413000"/>
            <a:ext cx="4897440" cy="446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8317080" cy="4032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5292720" y="1484280"/>
            <a:ext cx="230508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Elke dag die er mag zij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om iets liefs te geven,</a:t>
            </a:r>
            <a:br>
              <a:rPr sz="2400"/>
            </a:b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om iets liefs te do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om een bloem of een kaar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Arial"/>
              </a:rPr>
              <a:t>of zomaar een……………….. lieve z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9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60280"/>
            <a:ext cx="6227640" cy="6120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49360"/>
            <a:ext cx="5543280" cy="5589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844640"/>
            <a:ext cx="7632720" cy="37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41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5651640" y="3577320"/>
            <a:ext cx="2633400" cy="22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"Afstand scheidt slechts lichamen, 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niet de geesten."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2:21:20Z</dcterms:created>
  <dc:creator>Swannet</dc:creator>
  <dc:description/>
  <dc:language>en-US</dc:language>
  <cp:lastModifiedBy>Swannet</cp:lastModifiedBy>
  <dcterms:modified xsi:type="dcterms:W3CDTF">2006-10-11T09:04:15Z</dcterms:modified>
  <cp:revision>4</cp:revision>
  <dc:subject/>
  <dc:title>Dia 1</dc:title>
</cp:coreProperties>
</file>