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20.jpeg" ContentType="image/jpeg"/>
  <Override PartName="/ppt/media/image2.jpeg" ContentType="image/jpeg"/>
  <Override PartName="/ppt/media/Nachtegaal%20Serenade%201.wav" ContentType="audio/x-wav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439-D310-4798-9C10-A148CCDA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0D6-1A78-4589-B20F-32FE6E48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A41-545E-4BAE-B1C4-36AA7D0F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067-E0C6-4874-ABE4-96FC3DA6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0E8-55A2-4465-BB23-CE91A479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FCF-72B5-444C-A1D7-C91C1AFB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E77-E7D2-4256-B18F-A391325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CDE-6DE5-4EC2-8A14-07D13DF2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F71-47B0-4AE2-9414-EDFD66E3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86B-5B13-4D78-986A-BD0448CF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F95-ADDD-48B9-BFF6-49A39B37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9A4-0877-4CBC-8420-B85B5BB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8ECE-4594-4D35-8CDD-6B72C6EE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Nachtegaal%20Serenade%20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a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3530880" cy="2743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3" name="Nachtegaal%20Serenade%2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0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" name="l" descr=""/>
          <p:cNvPicPr/>
          <p:nvPr/>
        </p:nvPicPr>
        <p:blipFill>
          <a:blip r:embed="rId2"/>
          <a:stretch/>
        </p:blipFill>
        <p:spPr>
          <a:xfrm>
            <a:off x="2874960" y="2286000"/>
            <a:ext cx="3394080" cy="2787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5%20(1)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  <p:pic>
        <p:nvPicPr>
          <p:cNvPr id="62" name="j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2819520" cy="1697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n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3047760" cy="2620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%20(1)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66" name="m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o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3505320" cy="2895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895480" cy="2781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0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72" name="r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27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q" descr=""/>
          <p:cNvPicPr/>
          <p:nvPr/>
        </p:nvPicPr>
        <p:blipFill>
          <a:blip r:embed="rId2"/>
          <a:stretch/>
        </p:blipFill>
        <p:spPr>
          <a:xfrm>
            <a:off x="2819520" y="2895480"/>
            <a:ext cx="3352680" cy="2667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0%20(1)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6" name="s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3549600" cy="2211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t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3505320" cy="3047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5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44" name="aa" descr=""/>
          <p:cNvPicPr/>
          <p:nvPr/>
        </p:nvPicPr>
        <p:blipFill>
          <a:blip r:embed="rId2"/>
          <a:stretch/>
        </p:blipFill>
        <p:spPr>
          <a:xfrm>
            <a:off x="1905120" y="281952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5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80" name="u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v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124080" cy="2417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4%20(1)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y" descr=""/>
          <p:cNvPicPr/>
          <p:nvPr/>
        </p:nvPicPr>
        <p:blipFill>
          <a:blip r:embed="rId2"/>
          <a:stretch/>
        </p:blipFill>
        <p:spPr>
          <a:xfrm>
            <a:off x="3505320" y="2819520"/>
            <a:ext cx="327636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30%20(1)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6" name="w" descr=""/>
          <p:cNvPicPr/>
          <p:nvPr/>
        </p:nvPicPr>
        <p:blipFill>
          <a:blip r:embed="rId2"/>
          <a:stretch/>
        </p:blipFill>
        <p:spPr>
          <a:xfrm>
            <a:off x="3048120" y="2590920"/>
            <a:ext cx="3076560" cy="196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7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x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3124080" cy="2790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z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343400" y="6019920"/>
            <a:ext cx="593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inde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867280" y="6248520"/>
            <a:ext cx="9288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sign by Inge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0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6" name="b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771640" cy="271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7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c" descr=""/>
          <p:cNvPicPr/>
          <p:nvPr/>
        </p:nvPicPr>
        <p:blipFill>
          <a:blip r:embed="rId2"/>
          <a:stretch/>
        </p:blipFill>
        <p:spPr>
          <a:xfrm>
            <a:off x="2895480" y="2830680"/>
            <a:ext cx="3200400" cy="2714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i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276720" cy="2146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bb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3429000" cy="2670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5%20(1)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  <p:pic>
        <p:nvPicPr>
          <p:cNvPr id="54" name="e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2971800" cy="2070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f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368316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k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347976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6:18:41Z</dcterms:created>
  <dc:creator>inge</dc:creator>
  <dc:description/>
  <dc:language>en-US</dc:language>
  <cp:lastModifiedBy>Inge Huizing</cp:lastModifiedBy>
  <dcterms:modified xsi:type="dcterms:W3CDTF">2010-02-02T12:43:36Z</dcterms:modified>
  <cp:revision>17</cp:revision>
  <dc:subject>leven</dc:subject>
  <dc:title>schrijfsels</dc:title>
</cp:coreProperties>
</file>