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image27.jpeg" ContentType="image/jpeg"/>
  <Override PartName="/ppt/media/image20.jpeg" ContentType="image/jpeg"/>
  <Override PartName="/ppt/media/image2.jpeg" ContentType="image/jpeg"/>
  <Override PartName="/ppt/media/Nachtegaal%20Serenade%201.wav" ContentType="audio/x-wav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3F0-11E1-4C43-B605-1CD21FD8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3079-A638-48AD-89E7-CF33DB68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AAA-FD40-4C37-9AAB-987E888A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85E-64C6-4679-A500-810C7806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627-6D24-454F-A3C4-8A5058D6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D70-F40C-4B4C-A8ED-2DD968E7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BA6-742B-4C16-B671-B1EAFCF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B6C-69AF-46E0-85BE-E2F6D645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1C6-DA4E-463E-B9C4-22D56F8F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6E2-A51B-4DDB-BF0C-E0B43637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49D-88A5-47E2-BED1-EC694134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58B-1C4D-453A-BEAF-CD9154CA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F3E3-02BD-448D-B783-01456963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Nachtegaal%20Serenade%201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a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3530880" cy="2743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/>
    <p:sndAc>
      <p:stSnd>
        <p:snd r:embed="rId3" name="Nachtegaal%20Serenade%2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0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" name="l" descr=""/>
          <p:cNvPicPr/>
          <p:nvPr/>
        </p:nvPicPr>
        <p:blipFill>
          <a:blip r:embed="rId2"/>
          <a:stretch/>
        </p:blipFill>
        <p:spPr>
          <a:xfrm>
            <a:off x="2874960" y="2286000"/>
            <a:ext cx="3394080" cy="2787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5%20(1)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  <p:pic>
        <p:nvPicPr>
          <p:cNvPr id="62" name="j" descr=""/>
          <p:cNvPicPr/>
          <p:nvPr/>
        </p:nvPicPr>
        <p:blipFill>
          <a:blip r:embed="rId2"/>
          <a:stretch/>
        </p:blipFill>
        <p:spPr>
          <a:xfrm>
            <a:off x="2666880" y="3200400"/>
            <a:ext cx="2819520" cy="16970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n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3047760" cy="2620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7%20(1)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66" name="m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335268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o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3505320" cy="2895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" descr=""/>
          <p:cNvPicPr/>
          <p:nvPr/>
        </p:nvPicPr>
        <p:blipFill>
          <a:blip r:embed="rId2"/>
          <a:stretch/>
        </p:blipFill>
        <p:spPr>
          <a:xfrm>
            <a:off x="3200400" y="2209680"/>
            <a:ext cx="2895480" cy="2781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30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72" name="r" descr=""/>
          <p:cNvPicPr/>
          <p:nvPr/>
        </p:nvPicPr>
        <p:blipFill>
          <a:blip r:embed="rId2"/>
          <a:stretch/>
        </p:blipFill>
        <p:spPr>
          <a:xfrm>
            <a:off x="2895480" y="24382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27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q" descr=""/>
          <p:cNvPicPr/>
          <p:nvPr/>
        </p:nvPicPr>
        <p:blipFill>
          <a:blip r:embed="rId2"/>
          <a:stretch/>
        </p:blipFill>
        <p:spPr>
          <a:xfrm>
            <a:off x="2819520" y="2895480"/>
            <a:ext cx="3352680" cy="2667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0%20(1)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6" name="s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3549600" cy="2211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t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3505320" cy="3047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5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44" name="aa" descr=""/>
          <p:cNvPicPr/>
          <p:nvPr/>
        </p:nvPicPr>
        <p:blipFill>
          <a:blip r:embed="rId2"/>
          <a:stretch/>
        </p:blipFill>
        <p:spPr>
          <a:xfrm>
            <a:off x="1905120" y="281952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5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80" name="u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v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124080" cy="2417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4%20(1)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y" descr=""/>
          <p:cNvPicPr/>
          <p:nvPr/>
        </p:nvPicPr>
        <p:blipFill>
          <a:blip r:embed="rId2"/>
          <a:stretch/>
        </p:blipFill>
        <p:spPr>
          <a:xfrm>
            <a:off x="3505320" y="2819520"/>
            <a:ext cx="327636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30%20(1)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6" name="w" descr=""/>
          <p:cNvPicPr/>
          <p:nvPr/>
        </p:nvPicPr>
        <p:blipFill>
          <a:blip r:embed="rId2"/>
          <a:stretch/>
        </p:blipFill>
        <p:spPr>
          <a:xfrm>
            <a:off x="3048120" y="2590920"/>
            <a:ext cx="3076560" cy="1962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27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x" descr=""/>
          <p:cNvPicPr/>
          <p:nvPr/>
        </p:nvPicPr>
        <p:blipFill>
          <a:blip r:embed="rId2"/>
          <a:stretch/>
        </p:blipFill>
        <p:spPr>
          <a:xfrm>
            <a:off x="2971800" y="2743200"/>
            <a:ext cx="3124080" cy="2790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z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343400" y="6019920"/>
            <a:ext cx="593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inde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867280" y="6248520"/>
            <a:ext cx="9288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sign by Inge</a:t>
            </a:r>
            <a:endParaRPr b="0" lang="en-US" sz="1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0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6" name="b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2771640" cy="271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7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c" descr=""/>
          <p:cNvPicPr/>
          <p:nvPr/>
        </p:nvPicPr>
        <p:blipFill>
          <a:blip r:embed="rId2"/>
          <a:stretch/>
        </p:blipFill>
        <p:spPr>
          <a:xfrm>
            <a:off x="2895480" y="2830680"/>
            <a:ext cx="3200400" cy="2714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i" descr=""/>
          <p:cNvPicPr/>
          <p:nvPr/>
        </p:nvPicPr>
        <p:blipFill>
          <a:blip r:embed="rId2"/>
          <a:stretch/>
        </p:blipFill>
        <p:spPr>
          <a:xfrm>
            <a:off x="2895480" y="2590920"/>
            <a:ext cx="3276720" cy="21463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bb" descr=""/>
          <p:cNvPicPr/>
          <p:nvPr/>
        </p:nvPicPr>
        <p:blipFill>
          <a:blip r:embed="rId2"/>
          <a:stretch/>
        </p:blipFill>
        <p:spPr>
          <a:xfrm>
            <a:off x="3581280" y="2895480"/>
            <a:ext cx="3429000" cy="2670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5%20(1)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  <p:pic>
        <p:nvPicPr>
          <p:cNvPr id="54" name="e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2971800" cy="2070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28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f" descr=""/>
          <p:cNvPicPr/>
          <p:nvPr/>
        </p:nvPicPr>
        <p:blipFill>
          <a:blip r:embed="rId2"/>
          <a:stretch/>
        </p:blipFill>
        <p:spPr>
          <a:xfrm>
            <a:off x="2743200" y="2362320"/>
            <a:ext cx="368316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%20(1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k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3479760" cy="2971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6:18:41Z</dcterms:created>
  <dc:creator>inge</dc:creator>
  <dc:description/>
  <dc:language>en-US</dc:language>
  <cp:lastModifiedBy>Inge Huizing</cp:lastModifiedBy>
  <dcterms:modified xsi:type="dcterms:W3CDTF">2010-02-02T12:43:36Z</dcterms:modified>
  <cp:revision>17</cp:revision>
  <dc:subject>leven</dc:subject>
  <dc:title>schrijfsels</dc:title>
</cp:coreProperties>
</file>