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25.png" ContentType="image/png"/>
  <Override PartName="/ppt/media/image32.gif" ContentType="image/gif"/>
  <Override PartName="/ppt/media/image6.png" ContentType="image/png"/>
  <Override PartName="/ppt/media/image29.png" ContentType="image/png"/>
  <Override PartName="/ppt/media/image36.gif" ContentType="image/gif"/>
  <Override PartName="/ppt/media/image9.png" ContentType="image/png"/>
  <Override PartName="/ppt/media/image46.gif" ContentType="image/gif"/>
  <Override PartName="/ppt/media/image39.png" ContentType="image/png"/>
  <Override PartName="/ppt/media/image30.gif" ContentType="image/gif"/>
  <Override PartName="/ppt/media/image38.png" ContentType="image/png"/>
  <Override PartName="/ppt/media/image8.png" ContentType="image/png"/>
  <Override PartName="/ppt/media/image43.png" ContentType="image/png"/>
  <Override PartName="/ppt/media/image44.png" ContentType="image/png"/>
  <Override PartName="/ppt/media/image34.png" ContentType="image/png"/>
  <Override PartName="/ppt/media/image41.gif" ContentType="image/gif"/>
  <Override PartName="/ppt/media/image45.png" ContentType="image/png"/>
  <Override PartName="/ppt/media/image10.png" ContentType="image/png"/>
  <Override PartName="/ppt/media/image47.gif" ContentType="image/gi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42.gif" ContentType="image/gif"/>
  <Override PartName="/ppt/media/image5.png" ContentType="image/png"/>
  <Override PartName="/ppt/media/image35.gif" ContentType="image/gif"/>
  <Override PartName="/ppt/media/image28.png" ContentType="image/png"/>
  <Override PartName="/ppt/media/Captain%20Cook%20-%20Patrona%20Bavariae.wav" ContentType="audio/x-wav"/>
  <Override PartName="/ppt/media/image40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61D3-32EF-4F14-8C36-4D98F5F6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706-78BE-49E4-842E-080B4C37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0AE-DFC6-4BCD-933B-4527E0EB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F9E-DB5C-4558-A9A6-FFB0CD9F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8C9-A27E-459B-8723-9323E674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B733-617E-41E7-8A12-86EC6FD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64C-B85E-4DC6-A6AD-694BCA5D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3A8-2E42-4AAD-A136-D52A6A3C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F50-7130-4C8A-80CC-4DCBADA0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EC8-0DAF-46A0-9CD8-8B218581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B60-7A1C-425A-84E7-5188B46D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6C3-78AF-4CBE-8A67-66F52A3C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FFD3-F452-4A26-ADC3-725DD945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audio" Target="../media/Captain%20Cook%20-%20Patrona%20Bavariae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7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gif"/><Relationship Id="rId6" Type="http://schemas.openxmlformats.org/officeDocument/2006/relationships/image" Target="../media/image45.png"/><Relationship Id="rId7" Type="http://schemas.openxmlformats.org/officeDocument/2006/relationships/image" Target="../media/image47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14.png"/><Relationship Id="rId7" Type="http://schemas.openxmlformats.org/officeDocument/2006/relationships/image" Target="../media/image30.gi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44800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765000"/>
            <a:ext cx="2448000" cy="1229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67320" y="1773360"/>
            <a:ext cx="3676680" cy="4127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2880360" y="1375560"/>
            <a:ext cx="1942920" cy="3024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854ec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27280" y="2421000"/>
            <a:ext cx="2449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ecep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19468200">
            <a:off x="324000" y="2997000"/>
            <a:ext cx="1439640" cy="1182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vert"/>
    <p:sndAc>
      <p:stSnd>
        <p:snd r:embed="rId6" name="Captain%20Cook%20-%20Patrona%20Bavaria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1595520" cy="2792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1905120" cy="2114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 rot="1406400">
            <a:off x="611280" y="2565000"/>
            <a:ext cx="1904760" cy="2114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 rot="1406400">
            <a:off x="4284360" y="3284640"/>
            <a:ext cx="1905120" cy="211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588000" y="1341360"/>
            <a:ext cx="1595520" cy="2792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411280" y="1989000"/>
            <a:ext cx="1800360" cy="251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3995640" y="4437000"/>
            <a:ext cx="1433520" cy="1363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360" y="333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snuifje verwondering en bewondering,voor al het moois om ons he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2565360"/>
            <a:ext cx="3419640" cy="2752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95640" y="765000"/>
            <a:ext cx="38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ng dit alles goed met een beetje warmte..geef hier en daar nog wat lic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700360" y="2276640"/>
            <a:ext cx="201600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71640" y="549360"/>
            <a:ext cx="2736720" cy="857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43280" y="414972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140360" y="2349360"/>
            <a:ext cx="2304720" cy="3313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2997360"/>
            <a:ext cx="2049480" cy="1703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549360"/>
            <a:ext cx="16668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2268360" y="3068640"/>
            <a:ext cx="1978200" cy="1644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360" y="83664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arneer dit alles met vrolijkheid   en serveer het met een blij gezic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47960" cy="126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381560" y="1015920"/>
            <a:ext cx="4762440" cy="5842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258920" y="404640"/>
            <a:ext cx="3529080" cy="122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967120" y="236844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t smakelijk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643280" y="0"/>
            <a:ext cx="4762800" cy="5842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268360" y="4869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64008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7000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1923840" cy="324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19280" y="836640"/>
            <a:ext cx="5616720" cy="942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932360" y="2924280"/>
            <a:ext cx="1924200" cy="324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 rot="3769200">
            <a:off x="1027800" y="3732480"/>
            <a:ext cx="1758960" cy="273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95480" y="1865160"/>
            <a:ext cx="340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eem een portie  opgewektheid ,een volle kan met een l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5472360" cy="136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796000" y="162864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140360" y="4292640"/>
            <a:ext cx="863280" cy="1727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86364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916360" y="2421000"/>
            <a:ext cx="232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blikje boordevol gedul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50"/>
                            </p:stCondLst>
                            <p:childTnLst>
                              <p:par>
                                <p:cTn id="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3468600" cy="3468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68360" y="4005360"/>
            <a:ext cx="1729080" cy="1428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116000" y="549360"/>
            <a:ext cx="2376360" cy="809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59280" y="134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soeplepel geluk voor iedere dag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50"/>
                            </p:stCondLst>
                            <p:childTnLst>
                              <p:par>
                                <p:cTn id="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889440" cy="4762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356000" y="4005360"/>
            <a:ext cx="2448000" cy="1733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076720" y="4221000"/>
            <a:ext cx="2016360" cy="144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059280" y="3789360"/>
            <a:ext cx="1255680" cy="1833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1476360" y="1197000"/>
            <a:ext cx="1224000" cy="152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443640" y="162864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6300720" y="249228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250920" y="981000"/>
            <a:ext cx="1228680" cy="1076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0"/>
          <a:stretch/>
        </p:blipFill>
        <p:spPr>
          <a:xfrm>
            <a:off x="1403280" y="2276640"/>
            <a:ext cx="122868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 rot="10799400">
            <a:off x="3056040" y="2130840"/>
            <a:ext cx="33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volle lepel moed tegen verdriet en tegenspoe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2556000" y="5013360"/>
            <a:ext cx="2952720" cy="1247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635280" y="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50"/>
                            </p:stCondLst>
                            <p:childTnLst>
                              <p:par>
                                <p:cTn id="5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5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24000" y="3645000"/>
            <a:ext cx="3745080" cy="2760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2476440" cy="24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800680" y="765000"/>
            <a:ext cx="3343320" cy="2314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64000" y="1700280"/>
            <a:ext cx="216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ruiden met wat humor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732720" y="206064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71640" y="260280"/>
            <a:ext cx="2143080" cy="8571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50"/>
                            </p:stCondLst>
                            <p:childTnLst>
                              <p:par>
                                <p:cTn id="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381560" y="404640"/>
            <a:ext cx="4762440" cy="6453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0"/>
            <a:ext cx="47628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 rot="10800000">
            <a:off x="324000" y="6020640"/>
            <a:ext cx="48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ok een vleugje blijdschap kan eri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195640" y="692280"/>
            <a:ext cx="1973160" cy="194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029040" cy="2922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443640" y="260280"/>
            <a:ext cx="1981080" cy="809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067280" y="1989000"/>
            <a:ext cx="792000" cy="720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split dir="out" orient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5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5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23075 L 0.26181 0.1022 E">
                                      <p:cBhvr>
                                        <p:cTn id="10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340000" y="1413000"/>
            <a:ext cx="2303280" cy="2736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508720" y="3086280"/>
            <a:ext cx="2943000" cy="37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484360" y="1268280"/>
            <a:ext cx="1333440" cy="151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3789360"/>
            <a:ext cx="1333440" cy="151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333360"/>
            <a:ext cx="41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mandje vriendschap om te geven en te ontvang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1197000"/>
            <a:ext cx="6153120" cy="7800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3456000" cy="628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39640" y="4005360"/>
            <a:ext cx="3024360" cy="23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050920" y="260280"/>
            <a:ext cx="3025800" cy="1524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V="1" rot="10788600">
            <a:off x="2967120" y="2005560"/>
            <a:ext cx="434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en potje rust en gezelligheid..en tenslotte nog wat mooie drom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8:05:58Z</dcterms:created>
  <dc:creator>fred</dc:creator>
  <dc:description/>
  <dc:language>en-US</dc:language>
  <cp:lastModifiedBy>fred</cp:lastModifiedBy>
  <dcterms:modified xsi:type="dcterms:W3CDTF">2010-02-20T18:07:52Z</dcterms:modified>
  <cp:revision>1</cp:revision>
  <dc:subject>pps</dc:subject>
  <dc:title>Dia 1</dc:title>
</cp:coreProperties>
</file>