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5.png" ContentType="image/png"/>
  <Override PartName="/ppt/media/image32.gif" ContentType="image/gif"/>
  <Override PartName="/ppt/media/image6.png" ContentType="image/png"/>
  <Override PartName="/ppt/media/image29.png" ContentType="image/png"/>
  <Override PartName="/ppt/media/image36.gif" ContentType="image/gif"/>
  <Override PartName="/ppt/media/image9.png" ContentType="image/png"/>
  <Override PartName="/ppt/media/image46.gif" ContentType="image/gif"/>
  <Override PartName="/ppt/media/image39.png" ContentType="image/png"/>
  <Override PartName="/ppt/media/image30.gif" ContentType="image/gif"/>
  <Override PartName="/ppt/media/image38.png" ContentType="image/png"/>
  <Override PartName="/ppt/media/image8.png" ContentType="image/png"/>
  <Override PartName="/ppt/media/image43.png" ContentType="image/png"/>
  <Override PartName="/ppt/media/image44.png" ContentType="image/png"/>
  <Override PartName="/ppt/media/image34.png" ContentType="image/png"/>
  <Override PartName="/ppt/media/image41.gif" ContentType="image/gif"/>
  <Override PartName="/ppt/media/image45.png" ContentType="image/png"/>
  <Override PartName="/ppt/media/image10.png" ContentType="image/png"/>
  <Override PartName="/ppt/media/image47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42.gif" ContentType="image/gif"/>
  <Override PartName="/ppt/media/image5.png" ContentType="image/png"/>
  <Override PartName="/ppt/media/image35.gif" ContentType="image/gif"/>
  <Override PartName="/ppt/media/image28.png" ContentType="image/png"/>
  <Override PartName="/ppt/media/Captain%20Cook%20-%20Patrona%20Bavariae.wav" ContentType="audio/x-wav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FFC-BAD2-4BF4-9283-8291853D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E40-76CD-499B-A9ED-78870380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D77-DFBC-4519-A991-9F1A240E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853-945B-4ADD-AE6F-E3BA7421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0D8-9BCF-4AA1-9F57-B9FCC231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875-632E-4D1C-AC93-022AEAE7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4C0-7AE8-43CC-BB41-F552940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5F1-FEE1-430C-B6BE-9F83563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69F-A8F1-4AF7-857A-A826E3A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13C-AC09-42DC-80EE-1E1FA02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7DE-ACB6-4708-B3DF-F547D2A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2F3-FB07-4145-9871-2AF1AE5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3EE8-095C-43A4-9699-358DD691B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audio" Target="../media/Captain%20Cook%20-%20Patrona%20Bavariae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gif"/><Relationship Id="rId6" Type="http://schemas.openxmlformats.org/officeDocument/2006/relationships/image" Target="../media/image45.png"/><Relationship Id="rId7" Type="http://schemas.openxmlformats.org/officeDocument/2006/relationships/image" Target="../media/image47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4.png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44800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448000" cy="12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67320" y="1773360"/>
            <a:ext cx="3676680" cy="412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2880360" y="1375560"/>
            <a:ext cx="1942920" cy="3024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54e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2421000"/>
            <a:ext cx="2449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ecep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19468200">
            <a:off x="324000" y="2997000"/>
            <a:ext cx="1439640" cy="118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  <p:sndAc>
      <p:stSnd>
        <p:snd r:embed="rId6" name="Captain%20Cook%20-%20Patrona%20Bavaria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1595520" cy="279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905120" cy="2114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1406400">
            <a:off x="611280" y="2565000"/>
            <a:ext cx="1904760" cy="211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1406400">
            <a:off x="4284360" y="3284640"/>
            <a:ext cx="1905120" cy="211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588000" y="1341360"/>
            <a:ext cx="1595520" cy="2792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1800360" cy="251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95640" y="4437000"/>
            <a:ext cx="1433520" cy="1363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360" y="333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snuifje verwondering en bewondering,voor al het moois om ons he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419640" cy="275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95640" y="765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ng dit alles goed met een beetje warmte..geef hier en daar nog wat lic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71640" y="549360"/>
            <a:ext cx="2736720" cy="857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43280" y="414972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40360" y="2349360"/>
            <a:ext cx="2304720" cy="331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2997360"/>
            <a:ext cx="2049480" cy="1703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549360"/>
            <a:ext cx="16668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268360" y="3068640"/>
            <a:ext cx="1978200" cy="1644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360" y="83664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arneer dit alles met vrolijkheid   en serveer het met een blij gezic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47960" cy="126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81560" y="1015920"/>
            <a:ext cx="4762440" cy="584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3529080" cy="122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67120" y="236844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t smakelijk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762800" cy="584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268360" y="486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64008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7000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1923840" cy="324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836640"/>
            <a:ext cx="5616720" cy="94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932360" y="2924280"/>
            <a:ext cx="1924200" cy="324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3769200">
            <a:off x="1027800" y="3732480"/>
            <a:ext cx="175896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1865160"/>
            <a:ext cx="340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em een portie  opgewektheid ,een volle kan met een l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547236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1628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140360" y="4292640"/>
            <a:ext cx="863280" cy="172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86364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916360" y="2421000"/>
            <a:ext cx="232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blikje boordevol gedul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5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68360" y="4005360"/>
            <a:ext cx="172908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116000" y="549360"/>
            <a:ext cx="2376360" cy="80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9280" y="134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soeplepel geluk voor iedere dag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"/>
                            </p:stCondLst>
                            <p:childTnLst>
                              <p:par>
                                <p:cTn id="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889440" cy="4762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356000" y="4005360"/>
            <a:ext cx="2448000" cy="1733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076720" y="4221000"/>
            <a:ext cx="2016360" cy="144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059280" y="3789360"/>
            <a:ext cx="1255680" cy="18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476360" y="1197000"/>
            <a:ext cx="1224000" cy="152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443640" y="162864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00720" y="249228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250920" y="98100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403280" y="2276640"/>
            <a:ext cx="122868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 rot="10799400">
            <a:off x="3056040" y="2130840"/>
            <a:ext cx="33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volle lepel moed tegen verdriet en tegenspoe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2556000" y="5013360"/>
            <a:ext cx="295272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635280" y="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50"/>
                            </p:stCondLst>
                            <p:childTnLst>
                              <p:par>
                                <p:cTn id="5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5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745080" cy="2760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800680" y="765000"/>
            <a:ext cx="3343320" cy="23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64000" y="17002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ruiden met wat humor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32720" y="206064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71640" y="260280"/>
            <a:ext cx="2143080" cy="857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5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81560" y="404640"/>
            <a:ext cx="4762440" cy="645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47628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 rot="10800000">
            <a:off x="324000" y="602064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ok een vleugje blijdschap kan eri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95640" y="692280"/>
            <a:ext cx="1973160" cy="194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029040" cy="2922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443640" y="260280"/>
            <a:ext cx="1981080" cy="80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067280" y="198900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5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5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23075 L 0.26181 0.1022 E">
                                      <p:cBhvr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230328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08720" y="3086280"/>
            <a:ext cx="2943000" cy="37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84360" y="1268280"/>
            <a:ext cx="13334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3789360"/>
            <a:ext cx="133344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3333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mandje vriendschap om te geven en te ontvang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6153120" cy="780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3456000" cy="62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050920" y="260280"/>
            <a:ext cx="3025800" cy="15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 rot="10788600">
            <a:off x="2967120" y="2005560"/>
            <a:ext cx="43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potje rust en gezelligheid..en tenslotte nog wat mooie drom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8:05:58Z</dcterms:created>
  <dc:creator>fred</dc:creator>
  <dc:description/>
  <dc:language>en-US</dc:language>
  <cp:lastModifiedBy>fred</cp:lastModifiedBy>
  <dcterms:modified xsi:type="dcterms:W3CDTF">2010-02-20T18:07:52Z</dcterms:modified>
  <cp:revision>1</cp:revision>
  <dc:subject>pps</dc:subject>
  <dc:title>Dia 1</dc:title>
</cp:coreProperties>
</file>