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32.gif" ContentType="image/gif"/>
  <Override PartName="/ppt/media/image23.png" ContentType="image/png"/>
  <Override PartName="/ppt/media/image30.gif" ContentType="image/gif"/>
  <Override PartName="/ppt/media/image21.png" ContentType="image/png"/>
  <Override PartName="/ppt/media/image19.png" ContentType="image/png"/>
  <Override PartName="/ppt/media/-FloydCramer-Crazy.wav" ContentType="audio/x-wav"/>
  <Override PartName="/ppt/media/image7.png" ContentType="image/png"/>
  <Override PartName="/ppt/media/image22.jpeg" ContentType="image/jpeg"/>
  <Override PartName="/ppt/media/image9.png" ContentType="image/png"/>
  <Override PartName="/ppt/media/image28.gif" ContentType="image/gif"/>
  <Override PartName="/ppt/media/image14.jpeg" ContentType="image/jpeg"/>
  <Override PartName="/ppt/media/image8.png" ContentType="image/png"/>
  <Override PartName="/ppt/media/image5.jpeg" ContentType="image/jpeg"/>
  <Override PartName="/ppt/media/image6.gif" ContentType="image/gif"/>
  <Override PartName="/ppt/media/image29.png" ContentType="image/png"/>
  <Override PartName="/ppt/media/image10.png" ContentType="image/png"/>
  <Override PartName="/ppt/media/image11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3.gif" ContentType="image/gif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5F5-F6A1-4F9A-ACE7-A3B9EA0A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29A-4EC6-4539-9CF1-1DC06DE5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4F6A-F9D6-412D-99F1-FDEADEE1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DD4B-7B5A-4E3E-AF74-BBB21E155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AA74-2BF8-4247-817C-1390E7B1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9EA5-7732-4525-9292-96F6C478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B8B0-976D-49AC-8C79-23751FD2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8116-ED9A-4ACC-8687-AECD430B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60A-224E-4BD9-BD5D-733350B4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09C6-B11E-40BC-BC3F-C46E5849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0AB-3197-4B28-8146-212124F9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400D-7316-4734-A60E-D4B7FDBB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0408-BEFB-49FA-8193-2F3C5A74D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audio" Target="../media/-FloydCramer-Crazy.wav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8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2.jpeg"/><Relationship Id="rId4" Type="http://schemas.openxmlformats.org/officeDocument/2006/relationships/image" Target="../media/image30.gif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3.png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jpeg"/><Relationship Id="rId3" Type="http://schemas.openxmlformats.org/officeDocument/2006/relationships/image" Target="../media/image6.gi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gif"/><Relationship Id="rId3" Type="http://schemas.openxmlformats.org/officeDocument/2006/relationships/image" Target="../media/image2.jpeg"/><Relationship Id="rId4" Type="http://schemas.openxmlformats.org/officeDocument/2006/relationships/image" Target="../media/image1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4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52360" y="21337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11640" y="1052640"/>
            <a:ext cx="4464000" cy="4824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692360" y="2565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877080" y="1197000"/>
            <a:ext cx="934920" cy="2133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 rot="19585200">
            <a:off x="539640" y="1267920"/>
            <a:ext cx="40197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en vriendelijk gebaar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867280" y="3500280"/>
            <a:ext cx="2376720" cy="8938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ush dir="d"/>
    <p:sndAc>
      <p:stSnd>
        <p:snd r:embed="rId6" name="-FloydCramer-Crazy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1541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16360" y="692280"/>
            <a:ext cx="4008600" cy="5400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619280" y="1844640"/>
            <a:ext cx="4248000" cy="4176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356000" y="0"/>
            <a:ext cx="4788000" cy="1541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724360" y="4941720"/>
            <a:ext cx="2857680" cy="1190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496200" y="2008080"/>
            <a:ext cx="1820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Om je hart te openen voor de mens om je heen in vreugd en verdrie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211640" y="404640"/>
            <a:ext cx="4321080" cy="561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3895920" cy="4110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521480" y="549360"/>
            <a:ext cx="1622520" cy="2781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948360" y="4581360"/>
            <a:ext cx="1594080" cy="1479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64200" y="1989000"/>
            <a:ext cx="1820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Het kost maar Weinig, je arm om een schouder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5877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19280" y="2565360"/>
            <a:ext cx="2019240" cy="2820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643280" y="1197000"/>
            <a:ext cx="4249800" cy="5040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7812000" y="1125360"/>
            <a:ext cx="1009800" cy="1752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6227640" y="4724280"/>
            <a:ext cx="2019600" cy="1381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496200" y="1916280"/>
            <a:ext cx="1676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Het kost zo weinig om een ander  liefde te geven ..iets wat je zelf ook zo heel graag ontvangt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788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3543480" cy="48006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284720" y="692280"/>
            <a:ext cx="4608360" cy="5400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308720" y="765000"/>
            <a:ext cx="2181240" cy="1428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332000" y="1844640"/>
            <a:ext cx="1433520" cy="1990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424560" y="2081160"/>
            <a:ext cx="203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Vriendschap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Alleen door dat weg te schenk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Geef je iets waar ieder mens naar verlang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710480" y="4365720"/>
            <a:ext cx="1433520" cy="19908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push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6265800" cy="5329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12000" y="4005360"/>
            <a:ext cx="95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4024440"/>
            <a:ext cx="7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211640" y="2349360"/>
            <a:ext cx="2801880" cy="3481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11280" y="277920"/>
            <a:ext cx="2235240" cy="6580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rot="19202400">
            <a:off x="1847160" y="3188880"/>
            <a:ext cx="286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Groetj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8000">
    <p:push dir="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81080" y="1581120"/>
            <a:ext cx="5148360" cy="5276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851280" cy="561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062920" y="620640"/>
            <a:ext cx="1081080" cy="2374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427640" y="3933720"/>
            <a:ext cx="3749400" cy="1849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496200" y="229716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40560" y="2297160"/>
            <a:ext cx="1676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Het kost n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zov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ie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gliml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schenken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067280" y="620640"/>
            <a:ext cx="4608360" cy="5400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67640" y="907920"/>
            <a:ext cx="1011240" cy="3068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5280" y="2205000"/>
            <a:ext cx="5126040" cy="3838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496200" y="1936800"/>
            <a:ext cx="15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64200" y="2637000"/>
            <a:ext cx="189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Of je h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op te steke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ush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4753080" cy="360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88000" y="692280"/>
            <a:ext cx="4103640" cy="4967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16000" cy="2857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572000" y="4581360"/>
            <a:ext cx="863640" cy="1528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 rot="10800000">
            <a:off x="6641640" y="2374920"/>
            <a:ext cx="174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Voor 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vriendelij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Groe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ush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4537080" cy="4365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724360" y="765000"/>
            <a:ext cx="790920" cy="2133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572000" y="404640"/>
            <a:ext cx="4572000" cy="532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5300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3120" y="5229360"/>
            <a:ext cx="24685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589720"/>
            <a:ext cx="22510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55840" y="5950080"/>
            <a:ext cx="21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5824440"/>
            <a:ext cx="21798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516720" y="4292640"/>
            <a:ext cx="2106720" cy="2071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567480" y="1844640"/>
            <a:ext cx="1892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Zoiets kan opeens de zon laten schijnen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In het hart van ieder mens,die je zomaar ontmo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932360" y="620640"/>
            <a:ext cx="3801960" cy="5616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4752720" cy="424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2771640" y="4797360"/>
            <a:ext cx="863640" cy="1528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58920" cy="2133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351480" y="2349360"/>
            <a:ext cx="167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16720" y="2421000"/>
            <a:ext cx="165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Het kost niet zoveel een hand  uit te steke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956720" y="1052640"/>
            <a:ext cx="1187280" cy="1800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push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43280" y="549360"/>
            <a:ext cx="4176720" cy="5543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5695920" cy="4148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885080" y="907920"/>
            <a:ext cx="757440" cy="2133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424560" y="2349360"/>
            <a:ext cx="1747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Om een ander een beetje behulpzaam te zij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877080" y="4221000"/>
            <a:ext cx="1333440" cy="1333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sh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716360" y="765000"/>
            <a:ext cx="4105440" cy="5616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32000" y="2782800"/>
            <a:ext cx="5295960" cy="4075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605640" y="4724280"/>
            <a:ext cx="2538360" cy="1852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 rot="19393200">
            <a:off x="-317160" y="856800"/>
            <a:ext cx="4143240" cy="1143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6227640" y="1268280"/>
            <a:ext cx="2232000" cy="1041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424560" y="3141720"/>
            <a:ext cx="196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Of alleen maar even een zachte druk van een hand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88000" y="404640"/>
            <a:ext cx="4032000" cy="5400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4515120" cy="3162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164360" y="4005360"/>
            <a:ext cx="1517760" cy="1660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0" y="-171360"/>
            <a:ext cx="1760400" cy="234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640560" y="2276640"/>
            <a:ext cx="153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Het kost niet zovee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push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8:59:31Z</dcterms:created>
  <dc:creator>elza</dc:creator>
  <dc:description/>
  <dc:language>en-US</dc:language>
  <cp:lastModifiedBy>Greetje</cp:lastModifiedBy>
  <dcterms:modified xsi:type="dcterms:W3CDTF">2009-12-08T23:32:40Z</dcterms:modified>
  <cp:revision>3</cp:revision>
  <dc:subject>pps</dc:subject>
  <dc:title>een vriendelijk gebaar</dc:title>
</cp:coreProperties>
</file>