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32.gif" ContentType="image/gif"/>
  <Override PartName="/ppt/media/image23.png" ContentType="image/png"/>
  <Override PartName="/ppt/media/image30.gif" ContentType="image/gif"/>
  <Override PartName="/ppt/media/image21.png" ContentType="image/png"/>
  <Override PartName="/ppt/media/image19.png" ContentType="image/png"/>
  <Override PartName="/ppt/media/-FloydCramer-Crazy.wav" ContentType="audio/x-wav"/>
  <Override PartName="/ppt/media/image7.png" ContentType="image/png"/>
  <Override PartName="/ppt/media/image22.jpeg" ContentType="image/jpeg"/>
  <Override PartName="/ppt/media/image9.png" ContentType="image/png"/>
  <Override PartName="/ppt/media/image28.gif" ContentType="image/gif"/>
  <Override PartName="/ppt/media/image14.jpeg" ContentType="image/jpeg"/>
  <Override PartName="/ppt/media/image8.png" ContentType="image/png"/>
  <Override PartName="/ppt/media/image5.jpeg" ContentType="image/jpeg"/>
  <Override PartName="/ppt/media/image6.gif" ContentType="image/gif"/>
  <Override PartName="/ppt/media/image29.png" ContentType="image/png"/>
  <Override PartName="/ppt/media/image10.png" ContentType="image/png"/>
  <Override PartName="/ppt/media/image1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0EB-504A-425A-85AF-6C7E48A6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952-92B7-4784-BF84-AAACAF5E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2EB-6B13-4D16-BCBC-7D754EB1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CB2-D447-4850-8B18-047D0FC6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47B-522A-47D1-B83B-5CC33D60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C8B-54F7-4F41-A701-25D1067A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FC1-9027-44FD-9DCC-8E6BD92D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732-2A19-48E0-A250-9D3F0A72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FF7-051A-45DA-A1E7-23041110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6DD9-D4B4-4B28-8E3C-4F55F1AD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B6A0-1540-4D8B-BBA9-646B053E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B7C-54F1-43EC-AB0A-5B16120B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91C2-75DE-42CE-94F7-6B9F2B9A5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-FloydCramer-Crazy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8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2.jpeg"/><Relationship Id="rId4" Type="http://schemas.openxmlformats.org/officeDocument/2006/relationships/image" Target="../media/image30.gi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4464000" cy="4824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9236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77080" y="1197000"/>
            <a:ext cx="93492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19585200">
            <a:off x="539640" y="1267920"/>
            <a:ext cx="4019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vriendelijk gebaar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867280" y="3500280"/>
            <a:ext cx="2376720" cy="893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d"/>
    <p:sndAc>
      <p:stSnd>
        <p:snd r:embed="rId6" name="-FloydCramer-Craz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154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4008600" cy="540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4248000" cy="417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4788000" cy="1541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724360" y="4941720"/>
            <a:ext cx="2857680" cy="11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96200" y="2008080"/>
            <a:ext cx="182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m je hart te openen voor de mens om je heen in vreugd en verdri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321080" cy="561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895920" cy="4110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521480" y="549360"/>
            <a:ext cx="1622520" cy="2781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948360" y="4581360"/>
            <a:ext cx="1594080" cy="147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64200" y="1989000"/>
            <a:ext cx="182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maar Weinig, je arm om een schouder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587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2019240" cy="282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4249800" cy="504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812000" y="1125360"/>
            <a:ext cx="1009800" cy="175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2019600" cy="138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96200" y="1916280"/>
            <a:ext cx="167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zo weinig om een ander  liefde te geven ..iets wat je zelf ook zo heel graag ontvang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88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543480" cy="4800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284720" y="692280"/>
            <a:ext cx="4608360" cy="540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08720" y="765000"/>
            <a:ext cx="218124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332000" y="1844640"/>
            <a:ext cx="1433520" cy="1990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24560" y="2081160"/>
            <a:ext cx="203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riendschap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Alleen door dat weg te schen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eef je iets waar ieder mens naar verlang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710480" y="4365720"/>
            <a:ext cx="1433520" cy="19908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sh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6265800" cy="5329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12000" y="4005360"/>
            <a:ext cx="95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02444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211640" y="2349360"/>
            <a:ext cx="2801880" cy="3481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1280" y="277920"/>
            <a:ext cx="2235240" cy="658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9202400">
            <a:off x="1847160" y="3188880"/>
            <a:ext cx="28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Groetj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8000">
    <p:push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81080" y="1581120"/>
            <a:ext cx="5148360" cy="527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51280" cy="561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062920" y="620640"/>
            <a:ext cx="1081080" cy="237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427640" y="3933720"/>
            <a:ext cx="3749400" cy="184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96200" y="22971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40560" y="2297160"/>
            <a:ext cx="167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zov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liml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schenk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608360" cy="540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67640" y="907920"/>
            <a:ext cx="1011240" cy="306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5126040" cy="38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96200" y="193680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64200" y="2637000"/>
            <a:ext cx="189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f je h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p te stek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753080" cy="36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4103640" cy="496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1600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572000" y="4581360"/>
            <a:ext cx="863640" cy="1528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 rot="10800000">
            <a:off x="6641640" y="2374920"/>
            <a:ext cx="174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oor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riendelij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ro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537080" cy="4365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79092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572000" y="404640"/>
            <a:ext cx="4572000" cy="532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5300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3120" y="5229360"/>
            <a:ext cx="24685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589720"/>
            <a:ext cx="2251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55840" y="5950080"/>
            <a:ext cx="21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824440"/>
            <a:ext cx="2179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516720" y="4292640"/>
            <a:ext cx="2106720" cy="20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67480" y="1844640"/>
            <a:ext cx="189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Zoiets kan opeens de zon laten schijn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n het hart van ieder mens,die je zomaar ontmo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32360" y="620640"/>
            <a:ext cx="3801960" cy="561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752720" cy="424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771640" y="4797360"/>
            <a:ext cx="863640" cy="1528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351480" y="234936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242100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 zoveel een hand  uit te ste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56720" y="1052640"/>
            <a:ext cx="1187280" cy="1800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176720" cy="554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5695920" cy="414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85080" y="907920"/>
            <a:ext cx="75744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24560" y="2349360"/>
            <a:ext cx="174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m een ander een beetje behulpzaam te zij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77080" y="422100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sh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4105440" cy="561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32000" y="2782800"/>
            <a:ext cx="5295960" cy="407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05640" y="4724280"/>
            <a:ext cx="2538360" cy="185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19393200">
            <a:off x="-317160" y="856800"/>
            <a:ext cx="414324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232000" cy="1041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424560" y="3141720"/>
            <a:ext cx="196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f alleen maar even een zachte druk van een hand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88000" y="404640"/>
            <a:ext cx="4032000" cy="540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4515120" cy="316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164360" y="4005360"/>
            <a:ext cx="1517760" cy="166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-171360"/>
            <a:ext cx="1760400" cy="234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40560" y="2276640"/>
            <a:ext cx="15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 zovee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8:59:31Z</dcterms:created>
  <dc:creator>elza</dc:creator>
  <dc:description/>
  <dc:language>en-US</dc:language>
  <cp:lastModifiedBy>Greetje</cp:lastModifiedBy>
  <dcterms:modified xsi:type="dcterms:W3CDTF">2009-12-08T23:32:40Z</dcterms:modified>
  <cp:revision>3</cp:revision>
  <dc:subject>pps</dc:subject>
  <dc:title>een vriendelijk gebaar</dc:title>
</cp:coreProperties>
</file>