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42.jpeg" ContentType="image/jpeg"/>
  <Override PartName="/ppt/media/image20.gif" ContentType="image/gif"/>
  <Override PartName="/ppt/media/image18.gif" ContentType="image/gif"/>
  <Override PartName="/ppt/media/image17.jpeg" ContentType="image/jpeg"/>
  <Override PartName="/ppt/media/image12.gif" ContentType="image/gif"/>
  <Override PartName="/ppt/media/image14.gif" ContentType="image/gif"/>
  <Override PartName="/ppt/media/image16.jpeg" ContentType="image/jpeg"/>
  <Override PartName="/ppt/media/image9.gif" ContentType="image/gif"/>
  <Override PartName="/ppt/media/image13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5.gif" ContentType="image/gif"/>
  <Override PartName="/ppt/media/image29.jpeg" ContentType="image/jpeg"/>
  <Override PartName="/ppt/media/image37.gif" ContentType="image/gif"/>
  <Override PartName="/ppt/media/image32.jpeg" ContentType="image/jpeg"/>
  <Override PartName="/ppt/media/image26.jpeg" ContentType="image/jpeg"/>
  <Override PartName="/ppt/media/image33.jpeg" ContentType="image/jpeg"/>
  <Override PartName="/ppt/media/image5.jpeg" ContentType="image/jpeg"/>
  <Override PartName="/ppt/media/image15.gif" ContentType="image/gif"/>
  <Override PartName="/ppt/media/image34.jpeg" ContentType="image/jpeg"/>
  <Override PartName="/ppt/media/image44.gif" ContentType="image/gif"/>
  <Override PartName="/ppt/media/image24.jpeg" ContentType="image/jpeg"/>
  <Override PartName="/ppt/media/image30.gif" ContentType="image/gif"/>
  <Override PartName="/ppt/media/image40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jpeg" ContentType="image/jpeg"/>
  <Override PartName="/ppt/media/image31.gif" ContentType="image/gif"/>
  <Override PartName="/ppt/media/image11.jpeg" ContentType="image/jpeg"/>
  <Override PartName="/ppt/media/Wellen.wav" ContentType="audio/x-wav"/>
  <Override PartName="/ppt/media/image2.jpeg" ContentType="image/jpeg"/>
  <Override PartName="/ppt/media/image36.jpeg" ContentType="image/jpeg"/>
  <Override PartName="/ppt/media/image10.gif" ContentType="image/gif"/>
  <Override PartName="/ppt/media/image4.jpeg" ContentType="image/jpeg"/>
  <Override PartName="/ppt/media/image22.gif" ContentType="image/gif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05C-7310-4053-820E-A4708EE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8BD-A0B1-44D8-8738-90AC56A1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247-6168-4E6A-AEED-A9F627D5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56C-25A4-4517-A2F8-D2AEA53D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982-E229-44CE-A35B-2785852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E82-7337-4983-91CD-1D8A0910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527-3491-4107-AD88-24C73ED7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77A-A70D-41D0-BF26-15578D2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841-424B-428B-A11C-D29C9298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C23-A25C-4E21-9F27-3195866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ECC-5623-4EF5-971C-0405345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D2F-BB1F-4862-A69A-3557EAE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F13-D295-4BFF-9AED-042E9FE6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elle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333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989000"/>
            <a:ext cx="5400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BT  U 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ICH OOIT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FGEVRAAGD 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dissolve/>
    <p:sndAc>
      <p:stSnd>
        <p:snd r:embed="rId1" name="Well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'Morning has broken' von Micha Ullman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tellen de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ze niet kunnen slap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2144520" cy="2697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'Seekiste in SPO - Böhl' von Peter Rohde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als men zich tweem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alf dood schri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016000" cy="363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'Aprilwetter' von Johann Be.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s een volle hard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waarder dan een le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3240000" cy="196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'Lichtstärke 0,07' von Janko Cuden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96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een vlieg op het plafond land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aakt zij dan een loo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f een draai om haar 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'The Boss - larger reload-' von Richard Overtoom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geeft een antwoordapparaat no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en antwoord als je iets vraag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27760" y="1989000"/>
            <a:ext cx="2217600" cy="2479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'Sanft und lieblich anzuschauen,' von Babs Sch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4936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88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iemand die niet kan tellen een klave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vier vindt, heeft die dan ook gelu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Red Drop! (Reload)' von Sven Neuschaefer-Rube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je een afspra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bij een toekomstvoorspell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363760"/>
            <a:ext cx="3924360" cy="3016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je van zwemmen slank word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doen de walvissen dan verkeer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'bei den mandarins' von Herbert St."/>
          <p:cNvPicPr/>
          <p:nvPr/>
        </p:nvPicPr>
        <p:blipFill>
          <a:blip r:embed="rId1"/>
          <a:stretch/>
        </p:blipFill>
        <p:spPr>
          <a:xfrm>
            <a:off x="0" y="1341360"/>
            <a:ext cx="8964720" cy="551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23907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72360" y="4869000"/>
            <a:ext cx="2160360" cy="1568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Spring ich oder spring ich nicht ?' von Rainer W...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itten er in de vlieg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wemvesten in plaats van parachu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'Alcudia Hafen' von Bastian Wriedt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 is d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het niet waa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'Nochmal Digitalzoo' von Peter Becker"/>
          <p:cNvPicPr/>
          <p:nvPr/>
        </p:nvPicPr>
        <p:blipFill>
          <a:blip r:embed="rId1"/>
          <a:stretch/>
        </p:blipFill>
        <p:spPr>
          <a:xfrm>
            <a:off x="1187280" y="2133720"/>
            <a:ext cx="6264360" cy="4535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ven goed nadenken bij de volgende vr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Mohnblume' von Salvatore Amura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ik rechts rij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erwijl al mijn tegenliggers links rij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it de traagste kassier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tijd aan de snelkass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'noch'ne' von Vera W."/>
          <p:cNvPicPr/>
          <p:nvPr/>
        </p:nvPicPr>
        <p:blipFill>
          <a:blip r:embed="rId1"/>
          <a:stretch/>
        </p:blipFill>
        <p:spPr>
          <a:xfrm>
            <a:off x="0" y="1341360"/>
            <a:ext cx="9036000" cy="5516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'Gestern nach dem Regen' von Eva Lea Baby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werken zo plezierig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men ons dan betal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1825560" cy="2766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Kaktus öffne dich!' von Verena Fährman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is “afkor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o een lang woor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'Flamingo-Begrüßung' von Horst Dicker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de meeste ongelukken gebeuren in een straal van 5 km van de woning, waarom g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edereen dan geen 10 km verder won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':-D' von Juliane Mey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88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kan je merken d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nzichtbare inkt op 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'The Birdie Sisters in concert' von Torsten Bölti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konijnenpootjes geluk 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gebeurd er dan met dat konij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'Dülmener Wildpferde' von Andrea A. Schneider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elke sadist kwam er op het idee om een “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 het woord “lispelen” te breng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'Meine Erste Montage...' von Bernhard Frei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88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regelt men het dat herten aa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verkeersborden overstek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160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'Smile... :-))' von Heidi Wiesn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weet een thermoskan of een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rm of koud moet blij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'Rollig...' von Jana Weichelt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Arial"/>
              </a:rPr>
              <a:t>Waarom zit je achter je compu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Arial"/>
              </a:rPr>
              <a:t>terwijl je er eigenlijk voor z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04000" y="1844640"/>
            <a:ext cx="1927080" cy="2087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'An meine Buddies und alle die gerne meine Bilder betrachten...' von Ralf Kunstmann"/>
          <p:cNvPicPr/>
          <p:nvPr/>
        </p:nvPicPr>
        <p:blipFill>
          <a:blip r:embed="rId1"/>
          <a:stretch/>
        </p:blipFill>
        <p:spPr>
          <a:xfrm>
            <a:off x="1332000" y="189000"/>
            <a:ext cx="6553080" cy="640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1905120" y="5029200"/>
            <a:ext cx="2841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daa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'Brandung am Dead Man's Beach (reload)' von Ralf Prie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0"/>
            <a:ext cx="8354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eg je appartemen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erwijl ze toch allemaal aan elkaar zit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'[ bavarian sunset ]' von Johann Be.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ls je gedronken hebt mag je niet s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arom hebben cafe’s en bars dan parkeerplaats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422440" cy="1873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'Wenn Du jetzt nicht aufhoerst...' von Sada .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staat er op zur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en uiterste houdbaarheidsdat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'...der Fiskus...' von Silvio Bürger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voelt een vlinder in zijn b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nneer hij verliefd 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3860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138564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2592360" cy="221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'Through the Land of Wine' von Thomas Epti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doen de militai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 een burgeroorlog eigenlij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2560" y="486900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19640" y="5084640"/>
            <a:ext cx="1218960" cy="149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948360" y="508464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292720" y="4653000"/>
            <a:ext cx="974880" cy="18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195640" y="443700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'traumfänger' von Joanna Möhr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houden ze in een theefab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koffiepauz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14:29Z</dcterms:created>
  <dc:creator/>
  <dc:description/>
  <dc:language>en-US</dc:language>
  <cp:lastModifiedBy> </cp:lastModifiedBy>
  <dcterms:modified xsi:type="dcterms:W3CDTF">2010-05-10T17:57:11Z</dcterms:modified>
  <cp:revision>1</cp:revision>
  <dc:subject/>
  <dc:title>PowerPoint-presentatie</dc:title>
</cp:coreProperties>
</file>