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42.jpeg" ContentType="image/jpeg"/>
  <Override PartName="/ppt/media/image20.gif" ContentType="image/gif"/>
  <Override PartName="/ppt/media/image18.gif" ContentType="image/gif"/>
  <Override PartName="/ppt/media/image17.jpeg" ContentType="image/jpeg"/>
  <Override PartName="/ppt/media/image12.gif" ContentType="image/gif"/>
  <Override PartName="/ppt/media/image14.gif" ContentType="image/gif"/>
  <Override PartName="/ppt/media/image16.jpeg" ContentType="image/jpeg"/>
  <Override PartName="/ppt/media/image9.gif" ContentType="image/gif"/>
  <Override PartName="/ppt/media/image13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5.gif" ContentType="image/gif"/>
  <Override PartName="/ppt/media/image29.jpeg" ContentType="image/jpeg"/>
  <Override PartName="/ppt/media/image37.gif" ContentType="image/gif"/>
  <Override PartName="/ppt/media/image32.jpeg" ContentType="image/jpeg"/>
  <Override PartName="/ppt/media/image26.jpeg" ContentType="image/jpeg"/>
  <Override PartName="/ppt/media/image33.jpeg" ContentType="image/jpeg"/>
  <Override PartName="/ppt/media/image5.jpeg" ContentType="image/jpeg"/>
  <Override PartName="/ppt/media/image15.gif" ContentType="image/gif"/>
  <Override PartName="/ppt/media/image34.jpeg" ContentType="image/jpeg"/>
  <Override PartName="/ppt/media/image44.gif" ContentType="image/gif"/>
  <Override PartName="/ppt/media/image24.jpeg" ContentType="image/jpeg"/>
  <Override PartName="/ppt/media/image30.gif" ContentType="image/gif"/>
  <Override PartName="/ppt/media/image40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46.jpeg" ContentType="image/jpeg"/>
  <Override PartName="/ppt/media/image31.gif" ContentType="image/gif"/>
  <Override PartName="/ppt/media/image11.jpeg" ContentType="image/jpeg"/>
  <Override PartName="/ppt/media/Wellen.wav" ContentType="audio/x-wav"/>
  <Override PartName="/ppt/media/image2.jpeg" ContentType="image/jpeg"/>
  <Override PartName="/ppt/media/image36.jpeg" ContentType="image/jpeg"/>
  <Override PartName="/ppt/media/image10.gif" ContentType="image/gif"/>
  <Override PartName="/ppt/media/image4.jpeg" ContentType="image/jpeg"/>
  <Override PartName="/ppt/media/image22.gif" ContentType="image/gif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820-5643-4D44-863E-7217778D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0481-2E96-45B9-892F-00DFA164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D22-092C-49FF-93FF-33804EF7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164-CE59-498D-BD85-0868260A6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459-61DD-4C94-BFB4-927C1C32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0A2-7F2C-4AC6-B508-A0AB8A5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C178-78B6-48FD-8106-D9789657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A5B-55C0-4781-8C20-79FDDCA7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246-F8C0-465F-BC2C-00ADDFC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163-012E-4B2A-9AD9-ABE41E9A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4D7-967B-41FD-8D39-83B0C47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E09-AB20-4219-9486-535FF7C7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6223-7837-4579-ABB5-44E14E62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elle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333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989000"/>
            <a:ext cx="540072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BT  U 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ZICH OOIT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FGEVRAAGD ?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6000">
    <p:dissolve/>
    <p:sndAc>
      <p:stSnd>
        <p:snd r:embed="rId1" name="Well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'Morning has broken' von Micha Ullman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tellen de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ze niet kunnen slap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2144520" cy="26971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'Seekiste in SPO - Böhl' von Peter Rohde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als men zich tweem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alf dood schrik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03640" y="1413000"/>
            <a:ext cx="2016000" cy="3635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'Aprilwetter' von Johann Be.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s een volle hard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waarder dan een le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3240000" cy="1960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'Lichtstärke 0,07' von Janko Cuden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896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een vlieg op het plafond land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aakt zij dan een loop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f een draai om haar 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'The Boss - larger reload-' von Richard Overtoom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0"/>
            <a:ext cx="85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geeft een antwoordapparaat noo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en antwoord als je iets vraag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927760" y="1989000"/>
            <a:ext cx="2217600" cy="24796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'Sanft und lieblich anzuschauen,' von Babs Sch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54936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88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iemand die niet kan tellen een klaver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vier vindt, heeft die dan ook gelu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Red Drop! (Reload)' von Sven Neuschaefer-Rube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je een afspraak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bij een toekomstvoorspell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363760"/>
            <a:ext cx="3924360" cy="3016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je van zwemmen slank word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doen de walvissen dan verkeer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'bei den mandarins' von Herbert St."/>
          <p:cNvPicPr/>
          <p:nvPr/>
        </p:nvPicPr>
        <p:blipFill>
          <a:blip r:embed="rId1"/>
          <a:stretch/>
        </p:blipFill>
        <p:spPr>
          <a:xfrm>
            <a:off x="0" y="1341360"/>
            <a:ext cx="8964720" cy="551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4797360"/>
            <a:ext cx="239076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372360" y="4869000"/>
            <a:ext cx="2160360" cy="1568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Spring ich oder spring ich nicht ?' von Rainer W...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itten er in de vlieg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wemvesten in plaats van parachut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'Alcudia Hafen' von Bastian Wriedt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 is d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het niet waa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'Nochmal Digitalzoo' von Peter Becker"/>
          <p:cNvPicPr/>
          <p:nvPr/>
        </p:nvPicPr>
        <p:blipFill>
          <a:blip r:embed="rId1"/>
          <a:stretch/>
        </p:blipFill>
        <p:spPr>
          <a:xfrm>
            <a:off x="1187280" y="2133720"/>
            <a:ext cx="6264360" cy="45352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ven goed nadenken bij de volgende vra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Mohnblume' von Salvatore Amura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ik rechts rij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erwijl al mijn tegenliggers links rijd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it de traagste kassier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tijd aan de snelkass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'noch'ne' von Vera W."/>
          <p:cNvPicPr/>
          <p:nvPr/>
        </p:nvPicPr>
        <p:blipFill>
          <a:blip r:embed="rId1"/>
          <a:stretch/>
        </p:blipFill>
        <p:spPr>
          <a:xfrm>
            <a:off x="0" y="1341360"/>
            <a:ext cx="9036000" cy="5516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'Gestern nach dem Regen' von Eva Lea Baby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werken zo plezierig 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moet men ons dan betal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1825560" cy="2766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Kaktus öffne dich!' von Verena Fährman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is “afkorti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zo een lang woor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'Flamingo-Begrüßung' von Horst Dicker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de meeste ongelukken gebeuren in een straal van 5 km van de woning, waarom g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edereen dan geen 10 km verder won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':-D' von Juliane Mey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88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kan je merken d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nzichtbare inkt op 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'The Birdie Sisters in concert' von Torsten Böltin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Als konijnenpootjes geluk bre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gebeurd er dan met dat konij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'Dülmener Wildpferde' von Andrea A. Schneider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elke sadist kwam er op het idee om een “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 het woord “lispelen” te breng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'Meine Erste Montage...' von Bernhard Frei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0"/>
            <a:ext cx="88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regelt men het dat herten aan 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verkeersborden overstek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21603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'Smile... :-))' von Heidi Wiesner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oe weet een thermoskan of een d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rm of koud moet blijv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dissolve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'Rollig...' von Jana Weichelt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928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Arial"/>
              </a:rPr>
              <a:t>Waarom zit je achter je comput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0000"/>
                </a:solidFill>
                <a:latin typeface="Arial"/>
              </a:rPr>
              <a:t>terwijl je er eigenlijk voor z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04000" y="1844640"/>
            <a:ext cx="1927080" cy="2087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'An meine Buddies und alle die gerne meine Bilder betrachten...' von Ralf Kunstmann"/>
          <p:cNvPicPr/>
          <p:nvPr/>
        </p:nvPicPr>
        <p:blipFill>
          <a:blip r:embed="rId1"/>
          <a:stretch/>
        </p:blipFill>
        <p:spPr>
          <a:xfrm>
            <a:off x="1332000" y="189000"/>
            <a:ext cx="6553080" cy="640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0" name=""/>
          <p:cNvSpPr txBox="1"/>
          <p:nvPr/>
        </p:nvSpPr>
        <p:spPr>
          <a:xfrm>
            <a:off x="1905120" y="5029200"/>
            <a:ext cx="2841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daan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'Brandung am Dead Man's Beach (reload)' von Ralf Prien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0"/>
            <a:ext cx="8354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zeg je appartemen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erwijl ze toch allemaal aan elkaar zitt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'[ bavarian sunset ]' von Johann Be.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896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ls je gedronken hebt mag je niet st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arom hebben cafe’s en bars dan parkeerplaats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422440" cy="1873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'Wenn Du jetzt nicht aufhoerst...' von Sada .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staat er op zur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een uiterste houdbaarheidsdat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'...der Fiskus...' von Silvio Bürger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voelt een vlinder in zijn b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nneer hij verliefd 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38600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1385640" cy="1584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2592360" cy="2219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'Through the Land of Wine' von Thomas Epting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t doen de militai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 een burgeroorlog eigenlijk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82560" y="4869000"/>
            <a:ext cx="1584360" cy="156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419640" y="5084640"/>
            <a:ext cx="1218960" cy="1490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948360" y="508464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292720" y="4653000"/>
            <a:ext cx="974880" cy="18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2195640" y="4437000"/>
            <a:ext cx="933480" cy="2210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'traumfänger' von Joanna Möhr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aarom houden ze in een theefabr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koffiepauz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8:14:29Z</dcterms:created>
  <dc:creator/>
  <dc:description/>
  <dc:language>en-US</dc:language>
  <cp:lastModifiedBy> </cp:lastModifiedBy>
  <dcterms:modified xsi:type="dcterms:W3CDTF">2010-05-10T17:57:11Z</dcterms:modified>
  <cp:revision>1</cp:revision>
  <dc:subject/>
  <dc:title>PowerPoint-presentatie</dc:title>
</cp:coreProperties>
</file>