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legancia.wav" ContentType="audio/x-wav"/>
  <Override PartName="/ppt/media/image9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A4F-9E8E-48DF-85B3-3AE784DE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AB1-AD51-454E-8DF7-1DA945B8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B8D-3222-408E-B6BF-77CD18E2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F66-D71E-453D-9DDF-F21EEA4D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1C8-19B3-4CBC-8DC5-AB09B495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86E-5804-4A55-8629-43EAA9E2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341-3622-450D-88B8-47EC9E6E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811-11AE-4505-9EF8-79BF157E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41E-2198-4BA2-BB2E-1D934CD3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813-2662-42E0-BB42-A153EDB1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FC0-64A7-4865-993D-B380911C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8D0-8192-466E-8425-43640D8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773D-7CD2-4C28-86A6-AADCA3142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leganci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838080"/>
            <a:ext cx="64008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en vraagt zich soms af : waarom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0120" y="6172200"/>
            <a:ext cx="12189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ruk hier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92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228600"/>
            <a:ext cx="800100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Dikwijls stelt men zich de vraag: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Waarom sturen onze vrienden alsmaar  grappige mailtjes en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pps-en en dit zonder enig ber ichtje na te laten?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 txBox="1"/>
          <p:nvPr/>
        </p:nvSpPr>
        <p:spPr>
          <a:xfrm rot="21077400">
            <a:off x="5124240" y="4575240"/>
            <a:ext cx="3860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Misschien kan ik het je uitleggen.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205920" cy="722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029200" y="1371600"/>
            <a:ext cx="24480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anneer me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oms druk bezig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s en toch aa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emand denkt .....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562720" y="5029200"/>
            <a:ext cx="2295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an stuur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en iets gek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oo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677520" cy="693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524920" y="533520"/>
            <a:ext cx="362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Wanneer men iets te zeg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heeft en men kan het n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Times New Roman"/>
              </a:rPr>
              <a:t>onder woorden breng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2590920"/>
            <a:ext cx="550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3300"/>
                </a:solidFill>
                <a:latin typeface="Times New Roman"/>
              </a:rPr>
              <a:t>verkiest men eerder van grappige dingen door te stu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240" y="304920"/>
            <a:ext cx="89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66"/>
                </a:solidFill>
                <a:latin typeface="Times New Roman"/>
              </a:rPr>
              <a:t>Om te bewijzen dat men je niet vergeet en aan je denk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66"/>
                </a:solidFill>
                <a:latin typeface="Times New Roman"/>
              </a:rPr>
              <a:t>sturen vrienden die van je houden en je appreciëren natuur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75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3399"/>
                </a:solidFill>
                <a:latin typeface="Times New Roman"/>
              </a:rPr>
              <a:t>een grapj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981080" y="2362320"/>
            <a:ext cx="6134400" cy="24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wel VRIENDEN, de volgende keer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wanneer je een grapj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ontvangt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denk dan niet,alweer eentj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20160" y="5867280"/>
            <a:ext cx="553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7c80"/>
                </a:solidFill>
                <a:latin typeface="Times New Roman"/>
              </a:rPr>
              <a:t>Denk dan bij jezelf,men denkt toch aan mij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7c80"/>
                </a:solidFill>
                <a:latin typeface="Times New Roman"/>
              </a:rPr>
              <a:t>en men wil me doen glimla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5400" cy="695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6600" y="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ve het intern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0880"/>
            <a:ext cx="46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t is wel degelijk waar dat dit medium ons de gelegenheid geeft van contact te houden,zelfs 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et soms te druk is 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ets neer te pennen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449568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.en dat deze technologie ons ook toelaat de vriendscha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Times New Roman"/>
              </a:rPr>
              <a:t>te tonen ondanks de grote afst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243720" cy="7021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03280" y="33336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Nog een fijne da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52388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81680" y="6326280"/>
            <a:ext cx="1067040" cy="414360"/>
          </a:xfrm>
          <a:prstGeom prst="rect">
            <a:avLst/>
          </a:prstGeom>
          <a:solidFill>
            <a:srgbClr val="2d25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Je v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1:24:08Z</dcterms:created>
  <dc:creator/>
  <dc:description/>
  <dc:language>en-US</dc:language>
  <cp:lastModifiedBy> </cp:lastModifiedBy>
  <dcterms:modified xsi:type="dcterms:W3CDTF">2007-09-05T17:28:17Z</dcterms:modified>
  <cp:revision>6</cp:revision>
  <dc:subject/>
  <dc:title>Présentation PowerPoint</dc:title>
</cp:coreProperties>
</file>