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legancia.wav" ContentType="audio/x-wav"/>
  <Override PartName="/ppt/media/image9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99C-0E78-4B82-92D2-F3C2A074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2AF-5001-4A8C-A871-7F0007A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C25-BEE5-41C5-8C4F-AD772DFC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DD1-033A-4122-8B67-E964B9B7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405-A566-4B48-AB92-A6D3E04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D53-B0DD-4837-A080-D9B6813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EDD-4E08-491F-969E-F3C174B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0C0-D109-4C9D-A757-62F3CA84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855-2656-4C7B-BB08-CF62FA8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D8C-801E-4328-997F-2CBE0E9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014-C8B6-484D-9F9C-581A834B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598-07AE-4329-BC6D-77EE566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9CD-5F10-4646-A564-AD52FE6A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eganci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838080"/>
            <a:ext cx="64008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en vraagt zich soms af : waarom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0120" y="6172200"/>
            <a:ext cx="12189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ruk hier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92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22860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Dikwijls stelt men zich de vraag: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Waarom sturen onze vrienden alsmaar  grappige mailtjes en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pps-en en dit zonder enig ber ichtje na te laten?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 rot="21077400">
            <a:off x="5124240" y="4575240"/>
            <a:ext cx="3860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Misschien kan ik het je uitleggen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205920" cy="722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029200" y="1371600"/>
            <a:ext cx="24480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anneer me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oms druk bezig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s en toch aa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emand denkt .....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562720" y="5029200"/>
            <a:ext cx="229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n stuur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n iets gek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o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93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524920" y="53352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Wanneer men iets te ze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heeft en men kan het n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onder woorden breng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259092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imes New Roman"/>
              </a:rPr>
              <a:t>verkiest men eerder van grappige dingen door te stu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240" y="304920"/>
            <a:ext cx="89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66"/>
                </a:solidFill>
                <a:latin typeface="Times New Roman"/>
              </a:rPr>
              <a:t>Om te bewijzen dat men je niet vergeet en aan je denk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66"/>
                </a:solidFill>
                <a:latin typeface="Times New Roman"/>
              </a:rPr>
              <a:t>sturen vrienden die van je houden en je appreciëren natuur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75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3399"/>
                </a:solidFill>
                <a:latin typeface="Times New Roman"/>
              </a:rPr>
              <a:t>een grapj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981080" y="2362320"/>
            <a:ext cx="61344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wel VRIENDEN, de volgende keer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nneer je een grapj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ontvangt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enk dan niet,alweer eentj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20160" y="5867280"/>
            <a:ext cx="553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7c80"/>
                </a:solidFill>
                <a:latin typeface="Times New Roman"/>
              </a:rPr>
              <a:t>Denk dan bij jezelf,men denkt toch aan mi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7c80"/>
                </a:solidFill>
                <a:latin typeface="Times New Roman"/>
              </a:rPr>
              <a:t>en men wil me doen gliml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5400" cy="695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6600" y="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ve het intern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0880"/>
            <a:ext cx="46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t is wel degelijk waar dat dit medium ons de gelegenheid geeft van contact te houden,zelfs 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t soms te druk is 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ets neer te pennen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44956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.en dat deze technologie ons ook toelaat de vrien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te tonen ondanks de grote afst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43720" cy="70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333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Nog een fijne da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6326280"/>
            <a:ext cx="1067040" cy="414360"/>
          </a:xfrm>
          <a:prstGeom prst="rect">
            <a:avLst/>
          </a:prstGeom>
          <a:solidFill>
            <a:srgbClr val="2d25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Je v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1:24:08Z</dcterms:created>
  <dc:creator/>
  <dc:description/>
  <dc:language>en-US</dc:language>
  <cp:lastModifiedBy> </cp:lastModifiedBy>
  <dcterms:modified xsi:type="dcterms:W3CDTF">2007-09-05T17:28:17Z</dcterms:modified>
  <cp:revision>6</cp:revision>
  <dc:subject/>
  <dc:title>Présentation PowerPoint</dc:title>
</cp:coreProperties>
</file>