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11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0.jpeg" ContentType="image/jpeg"/>
  <Override PartName="/ppt/media/Pavarotti%20-%20Andrea%20Boccelli%20y%20Celine%20Dion%20-%20TIME%20TO%20SAY%20GOOD-BYE.wav" ContentType="audio/x-wav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689-6E58-4E49-B03E-3C1790FF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E00-CAA8-4182-BC4D-8548C1F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D0D-FD18-4B67-B933-D351737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6BD-8138-4424-9CBE-DD721B9E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48D-C7C5-4F4F-9ED6-AB2BD95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6D3-E5B6-4DA8-95AA-B571468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745-82F1-4462-B196-7613A75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0EE-72DF-4AC7-8290-A4B0FFBB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8F8-9658-494D-828C-78B04FC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830-4ED2-4052-BC5C-232E7EA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DC7-B0B9-4A42-B128-72B403A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B43-915D-4EFB-B3F7-3265132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ECAF-86C9-49E1-862F-AFF738A49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Pavarotti%20-%20Andrea%20Boccelli%20y%20Celine%20Dion%20-%20TIME%20TO%20SAY%20GOOD-BY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zmich [1024x768]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543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389320" y="-30240"/>
            <a:ext cx="3914640" cy="1103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" descr="800px-Flag_of_Italy.svg.png"/>
          <p:cNvPicPr/>
          <p:nvPr/>
        </p:nvPicPr>
        <p:blipFill>
          <a:blip r:embed="rId3"/>
          <a:stretch/>
        </p:blipFill>
        <p:spPr>
          <a:xfrm>
            <a:off x="642960" y="214200"/>
            <a:ext cx="1357200" cy="7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Image 6" descr="arton1063.jpg"/>
          <p:cNvPicPr/>
          <p:nvPr/>
        </p:nvPicPr>
        <p:blipFill>
          <a:blip r:embed="rId4"/>
          <a:stretch/>
        </p:blipFill>
        <p:spPr>
          <a:xfrm>
            <a:off x="7215120" y="142920"/>
            <a:ext cx="142884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Image 7" descr="164px-Coat_of_arms_of_Rome.svg.png"/>
          <p:cNvPicPr/>
          <p:nvPr/>
        </p:nvPicPr>
        <p:blipFill>
          <a:blip r:embed="rId5"/>
          <a:stretch/>
        </p:blipFill>
        <p:spPr>
          <a:xfrm>
            <a:off x="142920" y="5786280"/>
            <a:ext cx="928800" cy="9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Image 8" descr="Lazio-Bandiera [320x200].png"/>
          <p:cNvPicPr/>
          <p:nvPr/>
        </p:nvPicPr>
        <p:blipFill>
          <a:blip r:embed="rId6"/>
          <a:stretch/>
        </p:blipFill>
        <p:spPr>
          <a:xfrm>
            <a:off x="7358040" y="5857920"/>
            <a:ext cx="1476360" cy="8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Rectangle 9" descr=""/>
          <p:cNvPicPr/>
          <p:nvPr/>
        </p:nvPicPr>
        <p:blipFill>
          <a:blip r:embed="rId7"/>
          <a:stretch/>
        </p:blipFill>
        <p:spPr>
          <a:xfrm>
            <a:off x="1657440" y="5668920"/>
            <a:ext cx="5041800" cy="112860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10"/>
          <p:cNvSpPr/>
          <p:nvPr/>
        </p:nvSpPr>
        <p:spPr>
          <a:xfrm>
            <a:off x="8090640" y="49291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8" name="Pavarotti%20-%20Andrea%20Boccelli%20y%20Celine%20Dion%20-%20TIME%20TO%20SAY%20GOOD-BY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sc05026.117697216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FCO%20Rome%20-%20Trevi%20Fountain%20detail%2003%203008x200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scf041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24-museovaticano [1024x768]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127080" y="285840"/>
            <a:ext cx="208260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Musée du Vat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scf042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europedeb 17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fkxit03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taine-de-rome-visoterra-1875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le-castel-san-angelo-a-rome-visoterra-1866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506160" y="42876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stel San Ang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800px-Galeria-capitolino [1024x768]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2866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295920" y="28584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leria  Capitol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St_Peter's_Square,_Vatican_City_-_April_200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ZoneTexte 2"/>
          <p:cNvGrpSpPr/>
          <p:nvPr/>
        </p:nvGrpSpPr>
        <p:grpSpPr>
          <a:xfrm>
            <a:off x="109440" y="6424560"/>
            <a:ext cx="2524320" cy="506520"/>
            <a:chOff x="109440" y="6424560"/>
            <a:chExt cx="2524320" cy="506520"/>
          </a:xfrm>
        </p:grpSpPr>
        <p:pic>
          <p:nvPicPr>
            <p:cNvPr id="51" name="ZoneTexte 2" descr=""/>
            <p:cNvPicPr/>
            <p:nvPr/>
          </p:nvPicPr>
          <p:blipFill>
            <a:blip r:embed="rId2"/>
            <a:stretch/>
          </p:blipFill>
          <p:spPr>
            <a:xfrm>
              <a:off x="109440" y="6424560"/>
              <a:ext cx="25243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680" y="648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Cliquer pour avanc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letintoretjudithetholopow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Rome_Place_d'Espagne.JPG"/>
          <p:cNvPicPr/>
          <p:nvPr/>
        </p:nvPicPr>
        <p:blipFill>
          <a:blip r:embed="rId1"/>
          <a:stretch/>
        </p:blipFill>
        <p:spPr>
          <a:xfrm>
            <a:off x="1982880" y="0"/>
            <a:ext cx="5178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2081880" y="214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ce d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Roman Forum, Rome, Italy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rome-forum_romanum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rome-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ez-habitant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rome-253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Vatican-ChapelleSixtine-Plafond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285840" y="285840"/>
            <a:ext cx="2000160" cy="398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Rome_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Rome_11 [1024x768]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Rome Vatican 1 2004 05084631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Chapelle_sixtin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428760" y="2858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St_Ignatius_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555480" y="357120"/>
            <a:ext cx="1611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aint Igna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rome09_005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avondwandeling_in_rome_met_zicht_op_de_sint_pieter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-360360" y="-96840"/>
            <a:ext cx="150660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3"/>
          <a:stretch/>
        </p:blipFill>
        <p:spPr>
          <a:xfrm>
            <a:off x="3529080" y="-96840"/>
            <a:ext cx="134784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4"/>
          <a:stretch/>
        </p:blipFill>
        <p:spPr>
          <a:xfrm>
            <a:off x="7192800" y="-23760"/>
            <a:ext cx="168300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5"/>
          <p:cNvSpPr/>
          <p:nvPr/>
        </p:nvSpPr>
        <p:spPr>
          <a:xfrm>
            <a:off x="8019360" y="63579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4394E-006 C -0.00399 -0.01064 -0.01806 -0.02128 -0.02292 -0.02128 C -0.05399 -0.02128 -0.08594 0.14523 -0.08594 0.31175 C -0.08594 0.2278 -0.10191 0.14523 -0.11701 0.14523 C -0.13299 0.14523 -0.14809 0.22918 -0.14809 0.31175 C -0.14809 0.27035 -0.15608 0.2278 -0.16406 0.2278 C -0.17205 0.2278 -0.18003 0.26919 -0.18003 0.31175 C -0.18003 0.29047 -0.18403 0.27035 -0.18802 0.27035 C -0.19201 0.27035 -0.19601 0.29163 -0.19601 0.31175 C -0.19601 0.30111 -0.19809 0.29047 -0.2 0.29047 C -0.20104 0.29047 -0.20399 0.30111 -0.20399 0.31175 C -0.20399 0.30643 -0.20503 0.30111 -0.20608 0.30111 C -0.20608 0.29972 -0.20816 0.30643 -0.20816 0.31175 C -0.20816 0.30897 -0.20816 0.30643 -0.2092 0.30643 C -0.2092 0.30781 -0.21024 0.3092 -0.21024 0.31175 C -0.21024 0.31036 -0.21024 0.30897 -0.21024 0.30781 C -0.21128 0.30781 -0.21128 0.3092 -0.21128 0.31059 C -0.21233 0.31059 -0.21233 0.3092 -0.21233 0.30781 C -0.21337 0.30781 -0.21337 0.3092 -0.21337 0.31059 E">
                                      <p:cBhvr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talie-07-rome-st-pierre-vue-du-tibre.122147813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797480" y="2858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nt Pierre vue du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800px-Roma_Piazza_Venezia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2287440" y="4287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azza  Vene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32000" y="3571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217800" y="142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800px-Saint-Pierre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578160" y="428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int-P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-piazza_del_popolo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sc0289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0:34Z</dcterms:created>
  <dc:creator>Gary</dc:creator>
  <dc:description/>
  <dc:language>en-US</dc:language>
  <cp:lastModifiedBy>../</cp:lastModifiedBy>
  <dcterms:modified xsi:type="dcterms:W3CDTF">2009-11-18T17:18:57Z</dcterms:modified>
  <cp:revision>26</cp:revision>
  <dc:subject/>
  <dc:title>Diapositive 1</dc:title>
</cp:coreProperties>
</file>