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serenite_barcarolleAR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1B81-7C5F-4588-B7E4-43745AD9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76A8-CBE5-44DE-B77D-50EF4F6C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1AF5-D999-44A2-971A-67525520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F9CA-F6F2-4A07-AB1E-7E7AA636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85BD-4D47-4618-822F-FBB11FAF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E850-02B4-401A-81CC-5C6DBE44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DA53-7B0A-492A-9532-EFF07320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18D2-43D5-47E6-AFDC-DB439CC3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20C2-D4C4-4F5D-B7CE-21B624E3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C9F6-934F-4793-8BB4-38F084DF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ACB6-6FE2-4BAD-9934-0093F46A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AAAC-D830-4BDF-B21E-BDCA874B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9D42-5780-4970-A267-6A3BAA63837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erenite_barcarolleA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orloge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268360" y="4797360"/>
            <a:ext cx="503892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lackChancery"/>
              </a:rPr>
              <a:t>De 12 slagen van middernacht...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lackChancery"/>
              <a:ea typeface="BlackChancery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0" y="6553080"/>
            <a:ext cx="20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400" spc="-1" strike="noStrike">
                <a:solidFill>
                  <a:srgbClr val="ffffff"/>
                </a:solidFill>
                <a:latin typeface="BlackChancery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  <p:sndAc>
      <p:stSnd>
        <p:snd r:embed="rId2" name="serenite_barcarolleA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orloge2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3059280" y="349092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Dan bij de negende slag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403280" y="4797360"/>
            <a:ext cx="5689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Vre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     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Dat je hart vrij mag blijven van haat, en de behoefte mag behouden om te beminnen.</a:t>
            </a:r>
            <a:r>
              <a:rPr b="0" lang="fr-FR" sz="2000" spc="-1" strike="noStrike">
                <a:solidFill>
                  <a:srgbClr val="ffffff"/>
                </a:solidFill>
                <a:latin typeface="BlackChancer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orloge2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3059280" y="349092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Bij slag numer tien..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124000" y="4797360"/>
            <a:ext cx="4969080" cy="14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Erken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     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Dat je iedere dag de erkenning krijgt die je verdient</a:t>
            </a:r>
            <a:r>
              <a:rPr b="0" lang="fr-FR" sz="2000" spc="-1" strike="noStrike">
                <a:solidFill>
                  <a:srgbClr val="ffffff"/>
                </a:solidFill>
                <a:latin typeface="BlackChancery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orloge2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2916360" y="3500280"/>
            <a:ext cx="29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          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Slag nummer elf..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187280" y="4797360"/>
            <a:ext cx="734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Je verbeel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     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Om het leven rondom je heen, aangenaam te maken</a:t>
            </a:r>
            <a:r>
              <a:rPr b="0" lang="fr-FR" sz="2000" spc="-1" strike="noStrike">
                <a:solidFill>
                  <a:srgbClr val="ffffff"/>
                </a:solidFill>
                <a:latin typeface="BlackChancery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orloge2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2843280" y="3500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          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De twaalfde slag..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619280" y="4581360"/>
            <a:ext cx="5761080" cy="14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De meest belangrijke we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      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Dat iedere dag in het  nieuwe jaar,  mag beginnen,  in sereniteit en vrede 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orloge2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059280" y="3490920"/>
            <a:ext cx="352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i="1" lang="fr-FR" sz="2400" spc="-1" strike="noStrike">
                <a:solidFill>
                  <a:srgbClr val="ffffff"/>
                </a:solidFill>
                <a:latin typeface="BlackChancery"/>
              </a:rPr>
              <a:t>Gelukkig Nieuwjaar 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BlackChancery"/>
              </a:rPr>
              <a:t>En dat al je wensen uit mogen komen.</a:t>
            </a:r>
            <a:r>
              <a:rPr b="0" lang="fr-FR" sz="2400" spc="-1" strike="noStrike">
                <a:solidFill>
                  <a:srgbClr val="ffffff"/>
                </a:solidFill>
                <a:latin typeface="BlackChance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orloge2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3059280" y="349092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BlackChancery"/>
              </a:rPr>
              <a:t>Einde</a:t>
            </a:r>
            <a:r>
              <a:rPr b="0" lang="fr-FR" sz="2400" spc="-1" strike="noStrike">
                <a:solidFill>
                  <a:srgbClr val="ffffff"/>
                </a:solidFill>
                <a:latin typeface="BlackChance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orloge2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4427640" y="98100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Mijn wensen voor de 12 komende maanden !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132000" y="35002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Bij de eerste slag..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755640" y="4869000"/>
            <a:ext cx="7129440" cy="14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Wens  ik  je gezondhe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     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Want  zelfs met al het geld van de wereld kan je het niet kopen 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orloge2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2700360" y="35002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Bij de tweede slag ..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763640" y="4581360"/>
            <a:ext cx="5761080" cy="14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Lief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     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Dat je leven vervult mag worden met liefde, zonder oorlog  of  haat 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orloge2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059280" y="3645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De derde slag..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84360" y="5013360"/>
            <a:ext cx="75596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Wensen van Gelu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     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Dat je het geluk te mag hebben, niets te moeten ontberen.</a:t>
            </a:r>
            <a:r>
              <a:rPr b="0" lang="fr-FR" sz="2000" spc="-1" strike="noStrike">
                <a:solidFill>
                  <a:srgbClr val="ffffff"/>
                </a:solidFill>
                <a:latin typeface="BlackChancery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orloge2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987640" y="34909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Bij de vierde slag ..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979640" y="4724280"/>
            <a:ext cx="504036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Mooie drom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     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Dat al  je dromen uit mogen komen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orloge2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3059280" y="349092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     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Bij de vijfde slag ..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124000" y="4797360"/>
            <a:ext cx="4969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Mo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     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De moed, om dingen te kunnen aanvaarden, die men niet kan veranderen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orloge2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2916360" y="3500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Bij de zesde slag..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124000" y="4797360"/>
            <a:ext cx="4969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Ontmoe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     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Ontmoetingingen  in  liefde, tederheid, en  vriendschap , zodat je nooit in  eenzaamheid  verto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orloge2"/>
          <p:cNvPicPr/>
          <p:nvPr/>
        </p:nvPicPr>
        <p:blipFill>
          <a:blip r:embed="rId1"/>
          <a:stretch/>
        </p:blipFill>
        <p:spPr>
          <a:xfrm>
            <a:off x="0" y="-42876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3059280" y="349092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De zevende slag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900000" y="4797360"/>
            <a:ext cx="619308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Famil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     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Solide kontakten, in `n eensgezinde familie 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orloge2"/>
          <p:cNvPicPr/>
          <p:nvPr/>
        </p:nvPicPr>
        <p:blipFill>
          <a:blip r:embed="rId1"/>
          <a:stretch/>
        </p:blipFill>
        <p:spPr>
          <a:xfrm>
            <a:off x="0" y="-214200"/>
            <a:ext cx="9144000" cy="72864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3059280" y="3490920"/>
            <a:ext cx="30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Bij slag nummer acht..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124000" y="4797360"/>
            <a:ext cx="496908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    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Suc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     </a:t>
            </a:r>
            <a:r>
              <a:rPr b="0" i="1" lang="fr-FR" sz="2000" spc="-1" strike="noStrike">
                <a:solidFill>
                  <a:srgbClr val="ffffff"/>
                </a:solidFill>
                <a:latin typeface="BlackChancery"/>
              </a:rPr>
              <a:t>Succes , in alles wat je onderneemt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Bar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31T22:18:59Z</dcterms:created>
  <dc:creator>http://www.chezserenite.com</dc:creator>
  <dc:description/>
  <dc:language>en-US</dc:language>
  <cp:lastModifiedBy>William R Boyle</cp:lastModifiedBy>
  <dcterms:modified xsi:type="dcterms:W3CDTF">2010-12-29T23:48:30Z</dcterms:modified>
  <cp:revision>10</cp:revision>
  <dc:subject/>
  <dc:title>Les douze coups</dc:title>
</cp:coreProperties>
</file>