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9.jpeg" ContentType="image/jpeg"/>
  <Override PartName="/ppt/media/image5.png" ContentType="image/png"/>
  <Override PartName="/ppt/media/image11.jpeg" ContentType="image/jpeg"/>
  <Override PartName="/ppt/media/image3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0.jpeg" ContentType="image/jpeg"/>
  <Override PartName="/ppt/media/Pavarotti%20-%20Andrea%20Boccelli%20y%20Celine%20Dion%20-%20TIME%20TO%20SAY%20GOOD-BYE.wav" ContentType="audio/x-wav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6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BA3-4D42-48A4-93FD-B22E7712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033-8078-4648-B18D-949DD89F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35C-58E9-47AE-B55F-5E2E3BE2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67C-0557-4064-90BF-E8820D5C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349-B645-419A-A8C0-E1D549A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A8DD-3E7E-4293-8297-964E805B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F91-71F3-4C8B-AD51-076A7222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058-9791-4CA5-86CC-37C747F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203-3218-48DA-8943-8EF30F0D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2A9-0703-4906-B698-29D850FD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AC8-1594-4C38-8667-D47AAD0D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11A-7E04-433B-8CAC-9F92B443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627-827A-49CC-AAC0-9BCC90FE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audio" Target="../media/Pavarotti%20-%20Andrea%20Boccelli%20y%20Celine%20Dion%20-%20TIME%20TO%20SAY%20GOOD-BYE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1" descr="zmich [1024x768]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543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2"/>
          <a:stretch/>
        </p:blipFill>
        <p:spPr>
          <a:xfrm>
            <a:off x="2389320" y="-30240"/>
            <a:ext cx="3914640" cy="1103400"/>
          </a:xfrm>
          <a:prstGeom prst="rect">
            <a:avLst/>
          </a:prstGeom>
          <a:ln w="0">
            <a:noFill/>
          </a:ln>
        </p:spPr>
      </p:pic>
      <p:pic>
        <p:nvPicPr>
          <p:cNvPr id="43" name="Image 5" descr="800px-Flag_of_Italy.svg.png"/>
          <p:cNvPicPr/>
          <p:nvPr/>
        </p:nvPicPr>
        <p:blipFill>
          <a:blip r:embed="rId3"/>
          <a:stretch/>
        </p:blipFill>
        <p:spPr>
          <a:xfrm>
            <a:off x="642960" y="214200"/>
            <a:ext cx="1357200" cy="714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Image 6" descr="arton1063.jpg"/>
          <p:cNvPicPr/>
          <p:nvPr/>
        </p:nvPicPr>
        <p:blipFill>
          <a:blip r:embed="rId4"/>
          <a:stretch/>
        </p:blipFill>
        <p:spPr>
          <a:xfrm>
            <a:off x="7215120" y="142920"/>
            <a:ext cx="1428840" cy="78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5" name="Image 7" descr="164px-Coat_of_arms_of_Rome.svg.png"/>
          <p:cNvPicPr/>
          <p:nvPr/>
        </p:nvPicPr>
        <p:blipFill>
          <a:blip r:embed="rId5"/>
          <a:stretch/>
        </p:blipFill>
        <p:spPr>
          <a:xfrm>
            <a:off x="142920" y="5786280"/>
            <a:ext cx="928800" cy="9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6" name="Image 8" descr="Lazio-Bandiera [320x200].png"/>
          <p:cNvPicPr/>
          <p:nvPr/>
        </p:nvPicPr>
        <p:blipFill>
          <a:blip r:embed="rId6"/>
          <a:stretch/>
        </p:blipFill>
        <p:spPr>
          <a:xfrm>
            <a:off x="7358040" y="5857920"/>
            <a:ext cx="1476360" cy="8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Rectangle 9" descr=""/>
          <p:cNvPicPr/>
          <p:nvPr/>
        </p:nvPicPr>
        <p:blipFill>
          <a:blip r:embed="rId7"/>
          <a:stretch/>
        </p:blipFill>
        <p:spPr>
          <a:xfrm>
            <a:off x="1657440" y="5668920"/>
            <a:ext cx="5041800" cy="1128600"/>
          </a:xfrm>
          <a:prstGeom prst="rect">
            <a:avLst/>
          </a:prstGeom>
          <a:ln w="0">
            <a:noFill/>
          </a:ln>
        </p:spPr>
      </p:pic>
      <p:sp>
        <p:nvSpPr>
          <p:cNvPr id="48" name="ZoneTexte 10"/>
          <p:cNvSpPr/>
          <p:nvPr/>
        </p:nvSpPr>
        <p:spPr>
          <a:xfrm>
            <a:off x="8090640" y="492912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8" name="Pavarotti%20-%20Andrea%20Boccelli%20y%20Celine%20Dion%20-%20TIME%20TO%20SAY%20GOOD-BY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dsc05026.117697216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FCO%20Rome%20-%20Trevi%20Fountain%20detail%2003%203008x200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dscf041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1" descr="024-museovaticano [1024x768].jpg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127080" y="285840"/>
            <a:ext cx="2082600" cy="39888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Musée du Vat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dscf042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europedeb 17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fkxit034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1" descr="fontaine-de-rome-visoterra-1875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le-castel-san-angelo-a-rome-visoterra-1866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2"/>
          <p:cNvSpPr/>
          <p:nvPr/>
        </p:nvSpPr>
        <p:spPr>
          <a:xfrm>
            <a:off x="506160" y="42876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stel San Ang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800px-Galeria-capitolino [1024x768].jp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2866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295920" y="285840"/>
            <a:ext cx="24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aleria  Capitoli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1" descr="St_Peter's_Square,_Vatican_City_-_April_2007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ZoneTexte 2"/>
          <p:cNvGrpSpPr/>
          <p:nvPr/>
        </p:nvGrpSpPr>
        <p:grpSpPr>
          <a:xfrm>
            <a:off x="109440" y="6424560"/>
            <a:ext cx="2524320" cy="506520"/>
            <a:chOff x="109440" y="6424560"/>
            <a:chExt cx="2524320" cy="506520"/>
          </a:xfrm>
        </p:grpSpPr>
        <p:pic>
          <p:nvPicPr>
            <p:cNvPr id="51" name="ZoneTexte 2" descr=""/>
            <p:cNvPicPr/>
            <p:nvPr/>
          </p:nvPicPr>
          <p:blipFill>
            <a:blip r:embed="rId2"/>
            <a:stretch/>
          </p:blipFill>
          <p:spPr>
            <a:xfrm>
              <a:off x="109440" y="6424560"/>
              <a:ext cx="25243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220680" y="6488280"/>
              <a:ext cx="231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Cliquer pour avancer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letintoretjudithetholopow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Rome_Place_d'Espagne.JPG"/>
          <p:cNvPicPr/>
          <p:nvPr/>
        </p:nvPicPr>
        <p:blipFill>
          <a:blip r:embed="rId1"/>
          <a:stretch/>
        </p:blipFill>
        <p:spPr>
          <a:xfrm>
            <a:off x="1982880" y="0"/>
            <a:ext cx="51782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2081880" y="214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ce d’Espa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Roman Forum, Rome, Italy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rome-forum_romanum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1" descr="rome-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 1" descr="chez-habitant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e 1" descr="rome-253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1" descr="Vatican-ChapelleSixtine-Plafond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"/>
          <p:cNvSpPr/>
          <p:nvPr/>
        </p:nvSpPr>
        <p:spPr>
          <a:xfrm>
            <a:off x="285840" y="285840"/>
            <a:ext cx="2000160" cy="39888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age 1" descr="Rome_10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 1" descr="Rome_11 [1024x768]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Rome Vatican 1 2004 05084631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 1" descr="Chapelle_sixtin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428760" y="2858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hapelle Six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 1" descr="St_Ignatius_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2"/>
          <p:cNvSpPr/>
          <p:nvPr/>
        </p:nvSpPr>
        <p:spPr>
          <a:xfrm>
            <a:off x="555480" y="357120"/>
            <a:ext cx="1611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aint Igna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mage 1" descr="rome09_005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Image 1" descr="avondwandeling_in_rome_met_zicht_op_de_sint_pieter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2" descr=""/>
          <p:cNvPicPr/>
          <p:nvPr/>
        </p:nvPicPr>
        <p:blipFill>
          <a:blip r:embed="rId2"/>
          <a:stretch/>
        </p:blipFill>
        <p:spPr>
          <a:xfrm>
            <a:off x="-360360" y="-96840"/>
            <a:ext cx="150660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3" descr=""/>
          <p:cNvPicPr/>
          <p:nvPr/>
        </p:nvPicPr>
        <p:blipFill>
          <a:blip r:embed="rId3"/>
          <a:stretch/>
        </p:blipFill>
        <p:spPr>
          <a:xfrm>
            <a:off x="3529080" y="-96840"/>
            <a:ext cx="1347840" cy="141912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4" descr=""/>
          <p:cNvPicPr/>
          <p:nvPr/>
        </p:nvPicPr>
        <p:blipFill>
          <a:blip r:embed="rId4"/>
          <a:stretch/>
        </p:blipFill>
        <p:spPr>
          <a:xfrm>
            <a:off x="7192800" y="-23760"/>
            <a:ext cx="168300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5"/>
          <p:cNvSpPr/>
          <p:nvPr/>
        </p:nvSpPr>
        <p:spPr>
          <a:xfrm>
            <a:off x="8019360" y="635796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ne Extra Bold DB"/>
              </a:rPr>
              <a:t>G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02 E">
                                      <p:cBhvr>
                                        <p:cTn id="1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4394E-006 C -0.00399 -0.01064 -0.01806 -0.02128 -0.02292 -0.02128 C -0.05399 -0.02128 -0.08594 0.14523 -0.08594 0.31175 C -0.08594 0.2278 -0.10191 0.14523 -0.11701 0.14523 C -0.13299 0.14523 -0.14809 0.22918 -0.14809 0.31175 C -0.14809 0.27035 -0.15608 0.2278 -0.16406 0.2278 C -0.17205 0.2278 -0.18003 0.26919 -0.18003 0.31175 C -0.18003 0.29047 -0.18403 0.27035 -0.18802 0.27035 C -0.19201 0.27035 -0.19601 0.29163 -0.19601 0.31175 C -0.19601 0.30111 -0.19809 0.29047 -0.2 0.29047 C -0.20104 0.29047 -0.20399 0.30111 -0.20399 0.31175 C -0.20399 0.30643 -0.20503 0.30111 -0.20608 0.30111 C -0.20608 0.29972 -0.20816 0.30643 -0.20816 0.31175 C -0.20816 0.30897 -0.20816 0.30643 -0.2092 0.30643 C -0.2092 0.30781 -0.21024 0.3092 -0.21024 0.31175 C -0.21024 0.31036 -0.21024 0.30897 -0.21024 0.30781 C -0.21128 0.30781 -0.21128 0.3092 -0.21128 0.31059 C -0.21233 0.31059 -0.21233 0.3092 -0.21233 0.30781 C -0.21337 0.30781 -0.21337 0.3092 -0.21337 0.31059 E">
                                      <p:cBhvr>
                                        <p:cTn id="14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italie-07-rome-st-pierre-vue-du-tibre.122147813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2"/>
          <p:cNvSpPr/>
          <p:nvPr/>
        </p:nvSpPr>
        <p:spPr>
          <a:xfrm>
            <a:off x="1797480" y="28584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int Pierre vue du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800px-Roma_Piazza_Venezia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"/>
          <p:cNvSpPr/>
          <p:nvPr/>
        </p:nvSpPr>
        <p:spPr>
          <a:xfrm>
            <a:off x="2287440" y="42876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iazza  Venez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32000" y="35712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3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217800" y="142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T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1" descr="800px-Saint-Pierre-Rome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2"/>
          <p:cNvSpPr/>
          <p:nvPr/>
        </p:nvSpPr>
        <p:spPr>
          <a:xfrm>
            <a:off x="578160" y="4287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aint-Pie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Roma-piazza_del_popolo2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Dsc02898 [1024x768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4:20:34Z</dcterms:created>
  <dc:creator>Gary</dc:creator>
  <dc:description/>
  <dc:language>en-US</dc:language>
  <cp:lastModifiedBy>../</cp:lastModifiedBy>
  <dcterms:modified xsi:type="dcterms:W3CDTF">2009-11-18T17:18:57Z</dcterms:modified>
  <cp:revision>26</cp:revision>
  <dc:subject/>
  <dc:title>Diapositive 1</dc:title>
</cp:coreProperties>
</file>