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3.gif" ContentType="image/gif"/>
  <Override PartName="/ppt/media/image22.gif" ContentType="image/gif"/>
  <Override PartName="/ppt/media/image21.gif" ContentType="image/gif"/>
  <Override PartName="/ppt/media/image20.gif" ContentType="image/gif"/>
  <Override PartName="/ppt/media/image3.gif" ContentType="image/gif"/>
  <Override PartName="/ppt/media/image19.jpeg" ContentType="image/jpeg"/>
  <Override PartName="/ppt/media/LorettaLynn_WhiteChristmas.wav" ContentType="audio/x-wav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A21-9995-45A9-A7E8-04A5F36AB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7A8-60C4-4FC0-B301-EC6020C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218-F4BF-4DC6-BE3A-F04B1F6C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EDB-0919-484E-BA02-8AE1E66C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465-5E04-4C5C-BBA5-7FD38424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168-CA2A-466B-854E-7DFE6A0A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061-B0B2-4BC2-8BC4-DCF949DE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11E-D4D1-405A-B5D8-EB9A5C8E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DF0-8E5A-4E89-9EB2-4C43A61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D1F-18E7-4476-A3D6-BDC0F12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8BA-EB43-4611-8634-946466FB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53E-325C-4CE4-ABBB-65DFDEF8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10AA-761D-4227-9394-74A4DE45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audio" Target="../media/LorettaLynn_WhiteChristmas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19.jpeg"/><Relationship Id="rId16" Type="http://schemas.openxmlformats.org/officeDocument/2006/relationships/image" Target="../media/image19.jpeg"/><Relationship Id="rId17" Type="http://schemas.openxmlformats.org/officeDocument/2006/relationships/image" Target="../media/image19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006560" y="549360"/>
            <a:ext cx="7129440" cy="5759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1800360" cy="1190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 flipH="1">
            <a:off x="2411280" y="1125360"/>
            <a:ext cx="1656000" cy="11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0" y="471492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6588000" y="4670280"/>
            <a:ext cx="2448000" cy="214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588000" y="11592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34920" y="115920"/>
            <a:ext cx="24480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4210200" y="907920"/>
            <a:ext cx="723600" cy="15624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fade thruBlk="true"/>
    <p:sndAc>
      <p:stSnd>
        <p:snd r:embed="rId10" name="LorettaLynn_WhiteChristma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1306"/>
            </a:gs>
            <a:gs pos="50000">
              <a:srgbClr val="da2b0e"/>
            </a:gs>
            <a:gs pos="100000">
              <a:srgbClr val="641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482840"/>
            <a:ext cx="8713800" cy="47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Edwardian Script ITC"/>
              </a:rPr>
              <a:t>Aan al mijn vriend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Edwardian Script ITC"/>
              </a:rPr>
              <a:t>en  famili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Edwardian Script ITC"/>
              </a:rPr>
              <a:t>En iedereen die ik ke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88240" y="3429000"/>
            <a:ext cx="225576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36360" y="3429000"/>
            <a:ext cx="225576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-54000" y="920880"/>
            <a:ext cx="9198000" cy="131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195640" y="6237360"/>
            <a:ext cx="504720" cy="571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2050920" y="55944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12000" y="6095880"/>
            <a:ext cx="89532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6372360" y="5373720"/>
            <a:ext cx="600120" cy="790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2843280" y="5842080"/>
            <a:ext cx="733320" cy="971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0"/>
          <a:stretch/>
        </p:blipFill>
        <p:spPr>
          <a:xfrm>
            <a:off x="5003640" y="5373720"/>
            <a:ext cx="1114560" cy="103824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7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7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625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7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24000" y="6165720"/>
            <a:ext cx="5067360" cy="61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00" y="503280"/>
            <a:ext cx="6910560" cy="85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Voor hele bijzondere mense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deze kaart met fijne wens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en goede gezondheid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n bergen van gelu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Voorzien van veel gezelligheid 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en heel jaar aan een stu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038320" y="-27000"/>
            <a:ext cx="506736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097080" y="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15636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1440" y="342900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3097080" y="342900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6194520" y="3429000"/>
            <a:ext cx="29145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split dir="out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625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625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625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16000" y="476280"/>
            <a:ext cx="6912000" cy="70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Wij wensen jou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en hen die jou omr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Het allerbeste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voor het Nieuwe Ja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Geluk in grote en in kleine d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maar bovenal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Edwardian Script ITC"/>
              </a:rPr>
              <a:t>Liefde voor elkaar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24000" y="6093000"/>
            <a:ext cx="5067360" cy="618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38320" y="73080"/>
            <a:ext cx="5067360" cy="619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-3636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097080" y="4428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194520" y="4428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34920" y="338472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097080" y="342900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6227640" y="3429000"/>
            <a:ext cx="29149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25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625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875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875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625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875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067280" y="2708280"/>
            <a:ext cx="885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Garamond"/>
              </a:rPr>
              <a:t>&amp;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987640" y="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227640" y="0"/>
            <a:ext cx="291492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4920" y="342900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3313080" y="3429000"/>
            <a:ext cx="291456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6443640" y="3429000"/>
            <a:ext cx="2771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7812000" y="0"/>
            <a:ext cx="1285920" cy="1484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34920" y="-27000"/>
            <a:ext cx="1285920" cy="1484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294160" y="4173480"/>
            <a:ext cx="79056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5292720" y="2847960"/>
            <a:ext cx="792000" cy="682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7867800" y="5305320"/>
            <a:ext cx="1276200" cy="15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928800" y="692280"/>
            <a:ext cx="7315200" cy="487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1537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Garamond"/>
              </a:rPr>
              <a:t>Zalig Kerstfeest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6680" y="5081760"/>
            <a:ext cx="8238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Garamond"/>
              </a:rPr>
              <a:t>Gelukkig Nieuwjaar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Garamond"/>
              <a:ea typeface="Garamond"/>
            </a:endParaRPr>
          </a:p>
        </p:txBody>
      </p:sp>
    </p:spTree>
  </p:cSld>
  <p:transition spd="slow" advTm="35000">
    <p:circl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6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56 0.08556 C -0.18212 0.05943 -0.3908 0.0333 -0.44254 -0.01249 C -0.49445 -0.05828 -0.26788 -0.16027 -0.28472 -0.18941 C -0.30139 -0.21855 -0.50452 -0.2093 -0.5434 -0.18779 C -0.58212 -0.16652 -0.49636 -0.05828 -0.51788 -0.06129 C -0.53941 -0.06453 -0.58906 -0.19797 -0.67257 -0.2063 C -0.75625 -0.21485 -0.96389 -0.12743 -1.01979 -0.11194 C -1.07587 -0.09644 -1.04184 -0.105 -1.00747 -0.11356 E">
                                      <p:cBhvr>
                                        <p:cTn id="202" dur="1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20:22:11Z</dcterms:created>
  <dc:creator>marleentje</dc:creator>
  <dc:description>Gezellige Kerstdagen en een heel goed jaar einde</dc:description>
  <dc:language>en-US</dc:language>
  <cp:lastModifiedBy>BIG BAD JOHN</cp:lastModifiedBy>
  <dcterms:modified xsi:type="dcterms:W3CDTF">2005-12-17T19:23:35Z</dcterms:modified>
  <cp:revision>14</cp:revision>
  <dc:subject>Kerst voor al mijn vrienden en familie </dc:subject>
  <dc:title>Gezellige kerstdagen</dc:title>
</cp:coreProperties>
</file>