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3.gif" ContentType="image/gif"/>
  <Override PartName="/ppt/media/image22.gif" ContentType="image/gif"/>
  <Override PartName="/ppt/media/image21.gif" ContentType="image/gif"/>
  <Override PartName="/ppt/media/image20.gif" ContentType="image/gif"/>
  <Override PartName="/ppt/media/image3.gif" ContentType="image/gif"/>
  <Override PartName="/ppt/media/image19.jpeg" ContentType="image/jpeg"/>
  <Override PartName="/ppt/media/LorettaLynn_WhiteChristmas.wav" ContentType="audio/x-wav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0E1-28A1-4B18-A090-094D4338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76B-0FD2-4D4E-AFCC-C1F1E67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43F-D58B-4D07-B748-3D4B2E79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0CB-4182-4EA3-93C7-AA287AEF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BE7-B3C8-44D6-9865-98361DC7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D69-851E-4141-94BA-93F77965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6BC-5430-48B0-98FD-3B7E13B2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0E4-6FB3-4550-8E0F-022B1B07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336-82FD-4554-AE6C-6CDDA835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7A7-D30D-4BC2-9B74-7C0BF76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326-306A-40E9-BC52-AF73559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71A-5A2A-453A-A362-B6BBF4F6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F3A1-C7FC-4462-B02C-AEA5BDDD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audio" Target="../media/LorettaLynn_WhiteChristma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06560" y="549360"/>
            <a:ext cx="7129440" cy="575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1800360" cy="119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 flipH="1">
            <a:off x="2411280" y="1125360"/>
            <a:ext cx="1656000" cy="11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471492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588000" y="4670280"/>
            <a:ext cx="2448000" cy="214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588000" y="11592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34920" y="11592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4210200" y="907920"/>
            <a:ext cx="723600" cy="1562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 thruBlk="true"/>
    <p:sndAc>
      <p:stSnd>
        <p:snd r:embed="rId10" name="LorettaLynn_WhiteChristm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1306"/>
            </a:gs>
            <a:gs pos="50000">
              <a:srgbClr val="da2b0e"/>
            </a:gs>
            <a:gs pos="100000">
              <a:srgbClr val="641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482840"/>
            <a:ext cx="871380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Edwardian Script ITC"/>
              </a:rPr>
              <a:t>Aan al mijn vriend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Edwardian Script ITC"/>
              </a:rPr>
              <a:t>en  famili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Edwardian Script ITC"/>
              </a:rPr>
              <a:t>En iedereen die ik ke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88240" y="3429000"/>
            <a:ext cx="22557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36360" y="3429000"/>
            <a:ext cx="22557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54000" y="920880"/>
            <a:ext cx="9198000" cy="131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195640" y="6237360"/>
            <a:ext cx="50472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050920" y="55944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12000" y="6095880"/>
            <a:ext cx="8953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6372360" y="5373720"/>
            <a:ext cx="600120" cy="79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2843280" y="5842080"/>
            <a:ext cx="733320" cy="97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5003640" y="5373720"/>
            <a:ext cx="1114560" cy="103824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7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7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625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6165720"/>
            <a:ext cx="5067360" cy="61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503280"/>
            <a:ext cx="6910560" cy="85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Voor hele bijzondere mense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deze kaart met fijne wens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en goede gezondhei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n bergen van gelu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Voorzien van veel gezelligheid 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en heel jaar aan een stu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038320" y="-27000"/>
            <a:ext cx="506736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97080" y="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15636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440" y="342900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097080" y="342900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194520" y="342900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625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25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625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476280"/>
            <a:ext cx="6912000" cy="70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Wij wensen j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n hen die jou omr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Het allerbest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voor het Nieuwe Ja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Geluk in grote en in kleine d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maar bovenal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Liefde voor elkaar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24000" y="6093000"/>
            <a:ext cx="5067360" cy="618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38320" y="73080"/>
            <a:ext cx="506736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097080" y="4428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194520" y="4428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4920" y="338472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097080" y="342900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227640" y="3429000"/>
            <a:ext cx="29149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25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625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875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875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625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875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067280" y="2708280"/>
            <a:ext cx="885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Garamond"/>
              </a:rPr>
              <a:t>&amp;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98764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227640" y="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4920" y="342900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313080" y="342900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443640" y="342900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812000" y="0"/>
            <a:ext cx="1285920" cy="148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34920" y="-27000"/>
            <a:ext cx="1285920" cy="1484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294160" y="4173480"/>
            <a:ext cx="7905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5292720" y="284796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7867800" y="5305320"/>
            <a:ext cx="1276200" cy="15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28800" y="692280"/>
            <a:ext cx="7315200" cy="487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1537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Garamond"/>
              </a:rPr>
              <a:t>Zalig Kerstfees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6680" y="5081760"/>
            <a:ext cx="8238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Garamond"/>
              </a:rPr>
              <a:t>Gelukkig Nieuwjaar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</p:spTree>
  </p:cSld>
  <p:transition spd="slow" advTm="35000">
    <p:circl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0.08556 C -0.18212 0.05943 -0.3908 0.0333 -0.44254 -0.01249 C -0.49445 -0.05828 -0.26788 -0.16027 -0.28472 -0.18941 C -0.30139 -0.21855 -0.50452 -0.2093 -0.5434 -0.18779 C -0.58212 -0.16652 -0.49636 -0.05828 -0.51788 -0.06129 C -0.53941 -0.06453 -0.58906 -0.19797 -0.67257 -0.2063 C -0.75625 -0.21485 -0.96389 -0.12743 -1.01979 -0.11194 C -1.07587 -0.09644 -1.04184 -0.105 -1.00747 -0.11356 E">
                                      <p:cBhvr>
                                        <p:cTn id="202" dur="1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20:22:11Z</dcterms:created>
  <dc:creator>marleentje</dc:creator>
  <dc:description>Gezellige Kerstdagen en een heel goed jaar einde</dc:description>
  <dc:language>en-US</dc:language>
  <cp:lastModifiedBy>BIG BAD JOHN</cp:lastModifiedBy>
  <dcterms:modified xsi:type="dcterms:W3CDTF">2005-12-17T19:23:35Z</dcterms:modified>
  <cp:revision>14</cp:revision>
  <dc:subject>Kerst voor al mijn vrienden en familie </dc:subject>
  <dc:title>Gezellige kerstdagen</dc:title>
</cp:coreProperties>
</file>