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3.33%20skihut-%20renzdance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29.jpeg" ContentType="image/jpeg"/>
  <Override PartName="/ppt/media/3.07%20bertkaempfert%20-%20aswingingsafari(bekend).wav" ContentType="audio/x-wav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045-36E4-4276-9B45-D0A5A666757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1C39-BDE3-4A1D-B4A1-FD0E8E9DB7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4CE7-337B-41FB-B91C-6CD3C6CC05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930-1341-4357-8099-6B9AB26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33E-3A37-4A65-B996-F8665D2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CDE-D560-4AE2-BBD7-4CC4A9ED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B27-0EA5-4A70-AE80-724FB524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420-F7DC-4492-8110-82A38FF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51C-9253-4B62-96ED-013F96CB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8F7-3B63-4CDC-93A3-0AA11B7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58A-C211-4655-92F0-90D14AEF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31A-AD9B-40C4-A38A-85D5DD9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AEE-CDB2-4D5B-A60A-7578689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A13-519A-4C49-9800-4BDE2E85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8D4-2426-4FCF-B446-5F3AFE0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7AB-C418-438A-9109-305645B3B77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3.07%20bertkaempfert%20-%20aswingingsafari(bekend)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3.33%20skihut-%20renzdanc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Public\Pictures\Afbeeldingen\nostalgie\kinderwagen.jpg"/>
          <p:cNvPicPr/>
          <p:nvPr/>
        </p:nvPicPr>
        <p:blipFill>
          <a:blip r:embed="rId1"/>
          <a:stretch/>
        </p:blipFill>
        <p:spPr>
          <a:xfrm>
            <a:off x="1042920" y="549360"/>
            <a:ext cx="6840720" cy="5157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1"/>
          <p:cNvSpPr/>
          <p:nvPr/>
        </p:nvSpPr>
        <p:spPr>
          <a:xfrm>
            <a:off x="142920" y="5780160"/>
            <a:ext cx="871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Na de Tweede Wereldoorlog moest het land weer worden opgebouw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mensen die ongeschonden dan wel geschonden uit de oorlog gekomen war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begonnen de toekomst weer met optimisme tegemoet te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it uitte zich onder andere in een geboortegolf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hthoek 2" descr=""/>
          <p:cNvPicPr/>
          <p:nvPr/>
        </p:nvPicPr>
        <p:blipFill>
          <a:blip r:embed="rId2"/>
          <a:stretch/>
        </p:blipFill>
        <p:spPr>
          <a:xfrm>
            <a:off x="2567160" y="712800"/>
            <a:ext cx="410184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fade/>
    <p:sndAc>
      <p:stSnd>
        <p:snd r:embed="rId3" name="3.07%20bertkaempfert%20-%20aswingingsafari(bekend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Public\Pictures\Afbeeldingen\z vroeger\geendroger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923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2"/>
          <p:cNvSpPr/>
          <p:nvPr/>
        </p:nvSpPr>
        <p:spPr>
          <a:xfrm>
            <a:off x="2992680" y="616572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sdrogers waren onbeken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Public\Pictures\Afbeeldingen\z vroeger\teleffoon.jpg"/>
          <p:cNvPicPr/>
          <p:nvPr/>
        </p:nvPicPr>
        <p:blipFill>
          <a:blip r:embed="rId1"/>
          <a:stretch/>
        </p:blipFill>
        <p:spPr>
          <a:xfrm>
            <a:off x="1279440" y="957240"/>
            <a:ext cx="6583320" cy="4943520"/>
          </a:xfrm>
          <a:prstGeom prst="rect">
            <a:avLst/>
          </a:prstGeom>
          <a:ln w="0">
            <a:noFill/>
          </a:ln>
        </p:spPr>
      </p:pic>
      <p:sp>
        <p:nvSpPr>
          <p:cNvPr id="70" name="Tekstvak 3"/>
          <p:cNvSpPr/>
          <p:nvPr/>
        </p:nvSpPr>
        <p:spPr>
          <a:xfrm>
            <a:off x="1846440" y="6093000"/>
            <a:ext cx="54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Toch hadden de mensen nog tijd over voor een praatje, maar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telefoon was nog geen gemeengoed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hthoek 1"/>
          <p:cNvSpPr/>
          <p:nvPr/>
        </p:nvSpPr>
        <p:spPr>
          <a:xfrm>
            <a:off x="250920" y="609300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motorisering kwam op gang. Een auto is nog voor weinigen weggeleg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aar de bromfiets en de scooter worden populaire vervoermidde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Public\Pictures\Afbeeldingen\nostalgie\auto.jpg"/>
          <p:cNvPicPr/>
          <p:nvPr/>
        </p:nvPicPr>
        <p:blipFill>
          <a:blip r:embed="rId1"/>
          <a:stretch/>
        </p:blipFill>
        <p:spPr>
          <a:xfrm>
            <a:off x="1042920" y="692280"/>
            <a:ext cx="6988320" cy="523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Public\Pictures\Afbeeldingen\z vroeger\brommer.jpg"/>
          <p:cNvPicPr/>
          <p:nvPr/>
        </p:nvPicPr>
        <p:blipFill>
          <a:blip r:embed="rId2"/>
          <a:stretch/>
        </p:blipFill>
        <p:spPr>
          <a:xfrm>
            <a:off x="5148360" y="3860640"/>
            <a:ext cx="2851200" cy="206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Public\Pictures\Afbeeldingen\z vroeger\brommert.jpg"/>
          <p:cNvPicPr/>
          <p:nvPr/>
        </p:nvPicPr>
        <p:blipFill>
          <a:blip r:embed="rId3"/>
          <a:stretch/>
        </p:blipFill>
        <p:spPr>
          <a:xfrm>
            <a:off x="1036800" y="3859200"/>
            <a:ext cx="2970000" cy="2038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hthoek 1"/>
          <p:cNvSpPr/>
          <p:nvPr/>
        </p:nvSpPr>
        <p:spPr>
          <a:xfrm>
            <a:off x="250920" y="5661000"/>
            <a:ext cx="857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Het bezit van een radiotoestel is algemeen ge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r vinden experimentele stereo-uitzendingen plaa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Voor de ontvangst moest men twee toestellen diagonaal tegenover elkaar plaats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assaal luistert Nederland naar series als De familie Doorsnee en Paul Vlaand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Public\Pictures\Afbeeldingen\ouderadio.jpg"/>
          <p:cNvPicPr/>
          <p:nvPr/>
        </p:nvPicPr>
        <p:blipFill>
          <a:blip r:embed="rId1"/>
          <a:stretch/>
        </p:blipFill>
        <p:spPr>
          <a:xfrm>
            <a:off x="1214280" y="642960"/>
            <a:ext cx="6532560" cy="48988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hthoek 1"/>
          <p:cNvSpPr/>
          <p:nvPr/>
        </p:nvSpPr>
        <p:spPr>
          <a:xfrm>
            <a:off x="179280" y="5445000"/>
            <a:ext cx="878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eerste televisie uitzendingen gaan van start m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en tv-toestel is nog maar voor weinigen weggeleg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ie een toestel bezit kan rekenen op veel vi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Gelukkig zijn er maar drie dagen in de week uitzend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aar dan wel zonder reclam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Public\Pictures\Afbeeldingen\z vroeger\geentv.jpg"/>
          <p:cNvPicPr/>
          <p:nvPr/>
        </p:nvPicPr>
        <p:blipFill>
          <a:blip r:embed="rId1"/>
          <a:srcRect l="590" t="792" r="590" b="792"/>
          <a:stretch/>
        </p:blipFill>
        <p:spPr>
          <a:xfrm>
            <a:off x="1324080" y="609480"/>
            <a:ext cx="6352920" cy="4714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  <p:sndAc>
      <p:stSnd>
        <p:snd r:embed="rId2" name="3.33%20skihut-%20renzdanc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hthoek 1"/>
          <p:cNvSpPr/>
          <p:nvPr/>
        </p:nvSpPr>
        <p:spPr>
          <a:xfrm>
            <a:off x="179280" y="6093000"/>
            <a:ext cx="878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en nieuwe warmtebron doet haar intrede in de huiskamer: de oliestoo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oliehaard zou schoner zijn dan de kolenkachel, maar niet iedereen vindt deze warmte behaaglij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Public\Pictures\Afbeeldingen\z vroeger\kolenboer02.jpg"/>
          <p:cNvPicPr/>
          <p:nvPr/>
        </p:nvPicPr>
        <p:blipFill>
          <a:blip r:embed="rId1"/>
          <a:stretch/>
        </p:blipFill>
        <p:spPr>
          <a:xfrm>
            <a:off x="1285920" y="928800"/>
            <a:ext cx="6500880" cy="4943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Public\Pictures\Afbeeldingen\nostalgie\petroleumkar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Tekstvak 2"/>
          <p:cNvSpPr/>
          <p:nvPr/>
        </p:nvSpPr>
        <p:spPr>
          <a:xfrm>
            <a:off x="1984680" y="6308640"/>
            <a:ext cx="50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Maar ook de petroleumboer had het eeuwige leven nie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Public\Pictures\Afbeeldingen\z vroeger\schoolklas.jpg"/>
          <p:cNvPicPr/>
          <p:nvPr/>
        </p:nvPicPr>
        <p:blipFill>
          <a:blip r:embed="rId1"/>
          <a:stretch/>
        </p:blipFill>
        <p:spPr>
          <a:xfrm>
            <a:off x="1397160" y="1092240"/>
            <a:ext cx="6349680" cy="4673520"/>
          </a:xfrm>
          <a:prstGeom prst="rect">
            <a:avLst/>
          </a:prstGeom>
          <a:ln w="0">
            <a:noFill/>
          </a:ln>
        </p:spPr>
      </p:pic>
      <p:sp>
        <p:nvSpPr>
          <p:cNvPr id="84" name="Tekstvak 2"/>
          <p:cNvSpPr/>
          <p:nvPr/>
        </p:nvSpPr>
        <p:spPr>
          <a:xfrm>
            <a:off x="2061000" y="609300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Op school heerste orde en tucht en er werd nog geleer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Public\Pictures\Afbeeldingen\z vroeger\maaltijdopschool1948.jpg"/>
          <p:cNvPicPr/>
          <p:nvPr/>
        </p:nvPicPr>
        <p:blipFill>
          <a:blip r:embed="rId1"/>
          <a:stretch/>
        </p:blipFill>
        <p:spPr>
          <a:xfrm>
            <a:off x="1071720" y="714240"/>
            <a:ext cx="7072200" cy="5294520"/>
          </a:xfrm>
          <a:prstGeom prst="rect">
            <a:avLst/>
          </a:prstGeom>
          <a:ln w="0">
            <a:noFill/>
          </a:ln>
        </p:spPr>
      </p:pic>
      <p:sp>
        <p:nvSpPr>
          <p:cNvPr id="86" name="Tekstvak 2"/>
          <p:cNvSpPr/>
          <p:nvPr/>
        </p:nvSpPr>
        <p:spPr>
          <a:xfrm>
            <a:off x="1622880" y="6308640"/>
            <a:ext cx="57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Nee, dit is geen voedselbank; dit zijn scholiertjes die overblijv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Public\Pictures\Afbeeldingen\jaren 50\oudesteeg.jpg"/>
          <p:cNvPicPr/>
          <p:nvPr/>
        </p:nvPicPr>
        <p:blipFill>
          <a:blip r:embed="rId1"/>
          <a:stretch/>
        </p:blipFill>
        <p:spPr>
          <a:xfrm>
            <a:off x="1019160" y="928800"/>
            <a:ext cx="6904080" cy="48574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2"/>
          <p:cNvSpPr/>
          <p:nvPr/>
        </p:nvSpPr>
        <p:spPr>
          <a:xfrm>
            <a:off x="1773360" y="6021360"/>
            <a:ext cx="506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Loslopende honden waren vogelvrij en moesten opp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om niet écht als hond in de pan terecht te kom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hthoek 5"/>
          <p:cNvSpPr/>
          <p:nvPr/>
        </p:nvSpPr>
        <p:spPr>
          <a:xfrm>
            <a:off x="108000" y="602136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wederopbouw vraagt veel van het vol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gemiddelde arbeider verdient amper het zout in pap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Public\Pictures\Afbeeldingen\z vroeger\geeneurogeenpinpas.jpg"/>
          <p:cNvPicPr/>
          <p:nvPr/>
        </p:nvPicPr>
        <p:blipFill>
          <a:blip r:embed="rId1"/>
          <a:stretch/>
        </p:blipFill>
        <p:spPr>
          <a:xfrm>
            <a:off x="1143000" y="571680"/>
            <a:ext cx="6702480" cy="5190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Public\Pictures\Afbeeldingen\jaren 50\bakkerswedstrijd.jpg"/>
          <p:cNvPicPr/>
          <p:nvPr/>
        </p:nvPicPr>
        <p:blipFill>
          <a:blip r:embed="rId1"/>
          <a:stretch/>
        </p:blipFill>
        <p:spPr>
          <a:xfrm>
            <a:off x="1257480" y="1000080"/>
            <a:ext cx="6629400" cy="48578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2"/>
          <p:cNvSpPr/>
          <p:nvPr/>
        </p:nvSpPr>
        <p:spPr>
          <a:xfrm>
            <a:off x="2774520" y="6165720"/>
            <a:ext cx="35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bakker kwam elke dag aan de deur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Public\Pictures\Afbeeldingen\nostalgie\ambachten\Afbeelding5.jpg"/>
          <p:cNvPicPr/>
          <p:nvPr/>
        </p:nvPicPr>
        <p:blipFill>
          <a:blip r:embed="rId1"/>
          <a:stretch/>
        </p:blipFill>
        <p:spPr>
          <a:xfrm>
            <a:off x="1028880" y="671400"/>
            <a:ext cx="7081560" cy="53006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2"/>
          <p:cNvSpPr/>
          <p:nvPr/>
        </p:nvSpPr>
        <p:spPr>
          <a:xfrm>
            <a:off x="2485440" y="6308640"/>
            <a:ext cx="36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...hoewel, wie appelen vaart, enzovoor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Public\Pictures\Afbeeldingen\jaren 50\groentenwagen.jpg"/>
          <p:cNvPicPr/>
          <p:nvPr/>
        </p:nvPicPr>
        <p:blipFill>
          <a:blip r:embed="rId1"/>
          <a:stretch/>
        </p:blipFill>
        <p:spPr>
          <a:xfrm>
            <a:off x="1211400" y="1000080"/>
            <a:ext cx="6789600" cy="4905360"/>
          </a:xfrm>
          <a:prstGeom prst="rect">
            <a:avLst/>
          </a:prstGeom>
          <a:ln w="0">
            <a:noFill/>
          </a:ln>
        </p:spPr>
      </p:pic>
      <p:sp>
        <p:nvSpPr>
          <p:cNvPr id="94" name="Tekstvak 2"/>
          <p:cNvSpPr/>
          <p:nvPr/>
        </p:nvSpPr>
        <p:spPr>
          <a:xfrm>
            <a:off x="2274120" y="6237360"/>
            <a:ext cx="44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groenteboer kwam langs met paard en wag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Public\Pictures\Afbeeldingen\nostalgie\bakkersfiets.jpg"/>
          <p:cNvPicPr/>
          <p:nvPr/>
        </p:nvPicPr>
        <p:blipFill>
          <a:blip r:embed="rId1"/>
          <a:stretch/>
        </p:blipFill>
        <p:spPr>
          <a:xfrm>
            <a:off x="896760" y="798480"/>
            <a:ext cx="7323480" cy="5234040"/>
          </a:xfrm>
          <a:prstGeom prst="rect">
            <a:avLst/>
          </a:prstGeom>
          <a:ln w="0">
            <a:noFill/>
          </a:ln>
        </p:spPr>
      </p:pic>
      <p:sp>
        <p:nvSpPr>
          <p:cNvPr id="96" name="Tekstvak 2"/>
          <p:cNvSpPr/>
          <p:nvPr/>
        </p:nvSpPr>
        <p:spPr>
          <a:xfrm>
            <a:off x="982440" y="6308640"/>
            <a:ext cx="71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slager niet, die had daar de slagersknecht voor, op de nóg meer bekende fiet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Public\Pictures\Afbeeldingen\jaren 50\veemarkt1959.jpg"/>
          <p:cNvPicPr/>
          <p:nvPr/>
        </p:nvPicPr>
        <p:blipFill>
          <a:blip r:embed="rId1"/>
          <a:stretch/>
        </p:blipFill>
        <p:spPr>
          <a:xfrm>
            <a:off x="1071720" y="857160"/>
            <a:ext cx="711648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kstvak 2"/>
          <p:cNvSpPr/>
          <p:nvPr/>
        </p:nvSpPr>
        <p:spPr>
          <a:xfrm>
            <a:off x="2347200" y="6237360"/>
            <a:ext cx="45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slager slachtte zelf en kocht daarom ook zelf 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Public\Pictures\Afbeeldingen\jaren 50\koeienslager.jpg"/>
          <p:cNvPicPr/>
          <p:nvPr/>
        </p:nvPicPr>
        <p:blipFill>
          <a:blip r:embed="rId1"/>
          <a:stretch/>
        </p:blipFill>
        <p:spPr>
          <a:xfrm>
            <a:off x="785880" y="714240"/>
            <a:ext cx="7659720" cy="542952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2340000" y="638172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en had daarom genoeg andere bezighed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Public\Pictures\Afbeeldingen\z vroeger\welpiccoloman.jpg"/>
          <p:cNvPicPr/>
          <p:nvPr/>
        </p:nvPicPr>
        <p:blipFill>
          <a:blip r:embed="rId1"/>
          <a:srcRect l="462" t="689" r="462" b="689"/>
          <a:stretch/>
        </p:blipFill>
        <p:spPr>
          <a:xfrm>
            <a:off x="712800" y="852480"/>
            <a:ext cx="7718400" cy="5151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2"/>
          <p:cNvSpPr/>
          <p:nvPr/>
        </p:nvSpPr>
        <p:spPr>
          <a:xfrm>
            <a:off x="1912680" y="6308640"/>
            <a:ext cx="508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Een ijscoman was niet weg te denken uit het straatbeel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Public\Pictures\Afbeeldingen\jaren 50\ermi1950.jpg"/>
          <p:cNvPicPr/>
          <p:nvPr/>
        </p:nvPicPr>
        <p:blipFill>
          <a:blip r:embed="rId1"/>
          <a:stretch/>
        </p:blipFill>
        <p:spPr>
          <a:xfrm>
            <a:off x="1143000" y="928800"/>
            <a:ext cx="7000920" cy="4943520"/>
          </a:xfrm>
          <a:prstGeom prst="rect">
            <a:avLst/>
          </a:prstGeom>
          <a:ln w="0">
            <a:noFill/>
          </a:ln>
        </p:spPr>
      </p:pic>
      <p:sp>
        <p:nvSpPr>
          <p:cNvPr id="104" name="Tekstvak 2"/>
          <p:cNvSpPr/>
          <p:nvPr/>
        </p:nvSpPr>
        <p:spPr>
          <a:xfrm>
            <a:off x="1908000" y="616572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Klantjes genoeg; ondanks dat hij een sigaret in z’n mond ha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Public\Pictures\Afbeeldingen\jaren 50\speelt_w.jpg"/>
          <p:cNvPicPr/>
          <p:nvPr/>
        </p:nvPicPr>
        <p:blipFill>
          <a:blip r:embed="rId1"/>
          <a:stretch/>
        </p:blipFill>
        <p:spPr>
          <a:xfrm>
            <a:off x="816120" y="714240"/>
            <a:ext cx="7315200" cy="5286600"/>
          </a:xfrm>
          <a:prstGeom prst="rect">
            <a:avLst/>
          </a:prstGeom>
          <a:ln w="0">
            <a:noFill/>
          </a:ln>
        </p:spPr>
      </p:pic>
      <p:sp>
        <p:nvSpPr>
          <p:cNvPr id="106" name="Tekstvak 2"/>
          <p:cNvSpPr/>
          <p:nvPr/>
        </p:nvSpPr>
        <p:spPr>
          <a:xfrm>
            <a:off x="2129400" y="6165720"/>
            <a:ext cx="485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speeltuin was soms in combinatie met een theetu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zodat de ouders gelijk op hun kroost konden pass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Public\Pictures\Afbeeldingen\jaren 50\bussen1949.jpg"/>
          <p:cNvPicPr/>
          <p:nvPr/>
        </p:nvPicPr>
        <p:blipFill>
          <a:blip r:embed="rId1"/>
          <a:stretch/>
        </p:blipFill>
        <p:spPr>
          <a:xfrm>
            <a:off x="928800" y="785880"/>
            <a:ext cx="7358040" cy="5406840"/>
          </a:xfrm>
          <a:prstGeom prst="rect">
            <a:avLst/>
          </a:prstGeom>
          <a:ln w="0">
            <a:noFill/>
          </a:ln>
        </p:spPr>
      </p:pic>
      <p:sp>
        <p:nvSpPr>
          <p:cNvPr id="108" name="Tekstvak 2"/>
          <p:cNvSpPr/>
          <p:nvPr/>
        </p:nvSpPr>
        <p:spPr>
          <a:xfrm>
            <a:off x="1850760" y="638172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bussen reden op tijd en de chauffeur was daar de baa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hthoek 1"/>
          <p:cNvSpPr/>
          <p:nvPr/>
        </p:nvSpPr>
        <p:spPr>
          <a:xfrm>
            <a:off x="324000" y="609300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woningnood leidt tot inwoning op grote scha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In 1958 worden door de bestedingsbeperking de overheidsuitgaven beperk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Public\Pictures\Afbeeldingen\z vroeger\oudekrotten1960.jpg"/>
          <p:cNvPicPr/>
          <p:nvPr/>
        </p:nvPicPr>
        <p:blipFill>
          <a:blip r:embed="rId1"/>
          <a:stretch/>
        </p:blipFill>
        <p:spPr>
          <a:xfrm>
            <a:off x="857160" y="642960"/>
            <a:ext cx="7508880" cy="5367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Public\Pictures\Afbeeldingen\jaren 50\bakker1950.jpg"/>
          <p:cNvPicPr/>
          <p:nvPr/>
        </p:nvPicPr>
        <p:blipFill>
          <a:blip r:embed="rId1"/>
          <a:stretch/>
        </p:blipFill>
        <p:spPr>
          <a:xfrm>
            <a:off x="1000080" y="92880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2"/>
          <p:cNvSpPr/>
          <p:nvPr/>
        </p:nvSpPr>
        <p:spPr>
          <a:xfrm>
            <a:off x="1624680" y="6381720"/>
            <a:ext cx="58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Klanten en klantjes werden in de winkel nog persoonlijk geholp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Public\Pictures\Afbeeldingen\jaren 50\politiewagen1951.jpg"/>
          <p:cNvPicPr/>
          <p:nvPr/>
        </p:nvPicPr>
        <p:blipFill>
          <a:blip r:embed="rId1"/>
          <a:stretch/>
        </p:blipFill>
        <p:spPr>
          <a:xfrm>
            <a:off x="1071720" y="785880"/>
            <a:ext cx="7019640" cy="5357880"/>
          </a:xfrm>
          <a:prstGeom prst="rect">
            <a:avLst/>
          </a:prstGeom>
          <a:ln w="0">
            <a:noFill/>
          </a:ln>
        </p:spPr>
      </p:pic>
      <p:sp>
        <p:nvSpPr>
          <p:cNvPr id="112" name="Tekstvak 2"/>
          <p:cNvSpPr/>
          <p:nvPr/>
        </p:nvSpPr>
        <p:spPr>
          <a:xfrm>
            <a:off x="2630160" y="6308640"/>
            <a:ext cx="37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politie had nog geen zwaailicht nodig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Public\Pictures\Afbeeldingen\jaren 50\strand1949.jpg"/>
          <p:cNvPicPr/>
          <p:nvPr/>
        </p:nvPicPr>
        <p:blipFill>
          <a:blip r:embed="rId1"/>
          <a:stretch/>
        </p:blipFill>
        <p:spPr>
          <a:xfrm>
            <a:off x="928800" y="714240"/>
            <a:ext cx="7326360" cy="5357880"/>
          </a:xfrm>
          <a:prstGeom prst="rect">
            <a:avLst/>
          </a:prstGeom>
          <a:ln w="0">
            <a:noFill/>
          </a:ln>
        </p:spPr>
      </p:pic>
      <p:sp>
        <p:nvSpPr>
          <p:cNvPr id="114" name="Tekstvak 2"/>
          <p:cNvSpPr/>
          <p:nvPr/>
        </p:nvSpPr>
        <p:spPr>
          <a:xfrm>
            <a:off x="336240" y="6237360"/>
            <a:ext cx="84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Op het strand vermaakte men zich nog met de elementaire materialen die men voorhanden had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Public\Pictures\Afbeeldingen\jaren 50\schaatsenzw_sing.jpg"/>
          <p:cNvPicPr/>
          <p:nvPr/>
        </p:nvPicPr>
        <p:blipFill>
          <a:blip r:embed="rId1"/>
          <a:stretch/>
        </p:blipFill>
        <p:spPr>
          <a:xfrm>
            <a:off x="857160" y="785880"/>
            <a:ext cx="7440840" cy="535788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2"/>
          <p:cNvSpPr/>
          <p:nvPr/>
        </p:nvSpPr>
        <p:spPr>
          <a:xfrm>
            <a:off x="618840" y="6308640"/>
            <a:ext cx="80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winters waren vaak streng genoeg om te kunnen schaatsen, compleet met koek en zopi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Public\Pictures\Afbeeldingen\jaren 50\brendweerdoeza.jpg"/>
          <p:cNvPicPr/>
          <p:nvPr/>
        </p:nvPicPr>
        <p:blipFill>
          <a:blip r:embed="rId1"/>
          <a:stretch/>
        </p:blipFill>
        <p:spPr>
          <a:xfrm>
            <a:off x="755640" y="907920"/>
            <a:ext cx="7446960" cy="500076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2"/>
          <p:cNvSpPr/>
          <p:nvPr/>
        </p:nvSpPr>
        <p:spPr>
          <a:xfrm>
            <a:off x="766800" y="6165720"/>
            <a:ext cx="73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brandweer deed waarvoor ze waren, en dus haalde men zelf de kat uit de boom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Public\Pictures\Afbeeldingen\nostalgie\missen.jpg"/>
          <p:cNvPicPr/>
          <p:nvPr/>
        </p:nvPicPr>
        <p:blipFill>
          <a:blip r:embed="rId1"/>
          <a:srcRect l="497" t="600" r="497" b="600"/>
          <a:stretch/>
        </p:blipFill>
        <p:spPr>
          <a:xfrm>
            <a:off x="1619280" y="620640"/>
            <a:ext cx="5902200" cy="4886280"/>
          </a:xfrm>
          <a:prstGeom prst="rect">
            <a:avLst/>
          </a:prstGeom>
          <a:ln w="0">
            <a:noFill/>
          </a:ln>
        </p:spPr>
      </p:pic>
      <p:sp>
        <p:nvSpPr>
          <p:cNvPr id="120" name="Tekstvak 2"/>
          <p:cNvSpPr/>
          <p:nvPr/>
        </p:nvSpPr>
        <p:spPr>
          <a:xfrm>
            <a:off x="611280" y="573408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Ook in die jaren werden er “Miss-verkiezingen” gehoud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Nu zouden we zeggen “daar is wat mis mee”, maar toen werd tegen elke cm bloot gezegd; “daar is niets mis me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schooltuin '58 Hilleraadweg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alibri"/>
              </a:rPr>
              <a:t>óók de periode v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Rechthoek 2" descr=""/>
          <p:cNvPicPr/>
          <p:nvPr/>
        </p:nvPicPr>
        <p:blipFill>
          <a:blip r:embed="rId2"/>
          <a:stretch/>
        </p:blipFill>
        <p:spPr>
          <a:xfrm>
            <a:off x="2779560" y="1133640"/>
            <a:ext cx="3670560" cy="1073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11280" y="19162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alibri"/>
              </a:rPr>
              <a:t>vlogen voorbij en is het maar goed dat het een en ander bewaard is gebleven voor het nageslach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348000" y="393372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Calibri"/>
              </a:rPr>
              <a:t>GERARD     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hthoek 1"/>
          <p:cNvSpPr/>
          <p:nvPr/>
        </p:nvSpPr>
        <p:spPr>
          <a:xfrm>
            <a:off x="179280" y="6093000"/>
            <a:ext cx="87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Nederland was overbevolkt met 12 miljoen mensen (toen al),  en dus subsidieerde de regering iedereen die wilde emigreren naar Canada, Australië of Zuid-Afri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Public\Pictures\Afbeeldingen\z vroeger\Avondvierdaagse%20jaren%2050%20nr%202.jpg"/>
          <p:cNvPicPr/>
          <p:nvPr/>
        </p:nvPicPr>
        <p:blipFill>
          <a:blip r:embed="rId1"/>
          <a:stretch/>
        </p:blipFill>
        <p:spPr>
          <a:xfrm>
            <a:off x="714240" y="857160"/>
            <a:ext cx="7615440" cy="5072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hthoek 1"/>
          <p:cNvSpPr/>
          <p:nvPr/>
        </p:nvSpPr>
        <p:spPr>
          <a:xfrm>
            <a:off x="108000" y="5788080"/>
            <a:ext cx="86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t betreft het binnenland, stond deze periode in het teken van Willem Dre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ie met zijn vier kabinetten een stempel zette op de samenlev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sociale wetgeving van "vadertje Drees" maakte veel l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n verschafte vooral de ouderen veel meer vrijheid en onafhankelijkhe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Public\Pictures\Afbeeldingen\untitled.jpg"/>
          <p:cNvPicPr/>
          <p:nvPr/>
        </p:nvPicPr>
        <p:blipFill>
          <a:blip r:embed="rId1"/>
          <a:stretch/>
        </p:blipFill>
        <p:spPr>
          <a:xfrm>
            <a:off x="1500120" y="785880"/>
            <a:ext cx="6215040" cy="49100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hthoek 1"/>
          <p:cNvSpPr/>
          <p:nvPr/>
        </p:nvSpPr>
        <p:spPr>
          <a:xfrm>
            <a:off x="179280" y="5805360"/>
            <a:ext cx="871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et de moed der wanhoop stortte men zich op hard werken en zuinig zij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et de mentaliteit van die jaren lukte dat, en aan het einde van de jaren ‘5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s Nederland hard op weg een rijk land te word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Public\Pictures\Afbeeldingen\nostalgie\boerenleven\slide0004_image009.jpg"/>
          <p:cNvPicPr/>
          <p:nvPr/>
        </p:nvPicPr>
        <p:blipFill>
          <a:blip r:embed="rId1"/>
          <a:stretch/>
        </p:blipFill>
        <p:spPr>
          <a:xfrm>
            <a:off x="1214280" y="1143000"/>
            <a:ext cx="6721560" cy="44560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Public\Pictures\Afbeeldingen\z vroeger\geenwateruitdekraan.jpg"/>
          <p:cNvPicPr/>
          <p:nvPr/>
        </p:nvPicPr>
        <p:blipFill>
          <a:blip r:embed="rId1"/>
          <a:stretch/>
        </p:blipFill>
        <p:spPr>
          <a:xfrm>
            <a:off x="1285920" y="857160"/>
            <a:ext cx="6572160" cy="513900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2056320" y="6308640"/>
            <a:ext cx="504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ter uit de kraan was nog niet overal vanzelfspreken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Public\Pictures\Afbeeldingen\z vroeger\geenbadkamer.jpg"/>
          <p:cNvPicPr/>
          <p:nvPr/>
        </p:nvPicPr>
        <p:blipFill>
          <a:blip r:embed="rId1"/>
          <a:stretch/>
        </p:blipFill>
        <p:spPr>
          <a:xfrm>
            <a:off x="1071720" y="928800"/>
            <a:ext cx="6953040" cy="4714920"/>
          </a:xfrm>
          <a:prstGeom prst="rect">
            <a:avLst/>
          </a:prstGeom>
          <a:ln w="0">
            <a:noFill/>
          </a:ln>
        </p:spPr>
      </p:pic>
      <p:sp>
        <p:nvSpPr>
          <p:cNvPr id="64" name="Tekstvak 2"/>
          <p:cNvSpPr/>
          <p:nvPr/>
        </p:nvSpPr>
        <p:spPr>
          <a:xfrm>
            <a:off x="2773800" y="61657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badkamer was buiten in de wastei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kstvak 2"/>
          <p:cNvSpPr/>
          <p:nvPr/>
        </p:nvSpPr>
        <p:spPr>
          <a:xfrm>
            <a:off x="1698120" y="6381720"/>
            <a:ext cx="57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‘volautomatische’ wascombinatie werkte nog op spierkrach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Public\Pictures\Afbeeldingen\z vroeger\bijkeuken%20met%20wasmachine_jpg_big.jpg"/>
          <p:cNvPicPr/>
          <p:nvPr/>
        </p:nvPicPr>
        <p:blipFill>
          <a:blip r:embed="rId1"/>
          <a:stretch/>
        </p:blipFill>
        <p:spPr>
          <a:xfrm>
            <a:off x="857160" y="357120"/>
            <a:ext cx="7516800" cy="602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4:31:26Z</dcterms:created>
  <dc:creator>Paul Bruijns</dc:creator>
  <dc:description/>
  <dc:language>en-US</dc:language>
  <cp:lastModifiedBy>Paul Bruijns</cp:lastModifiedBy>
  <dcterms:modified xsi:type="dcterms:W3CDTF">2011-04-14T14:32:57Z</dcterms:modified>
  <cp:revision>1</cp:revision>
  <dc:subject/>
  <dc:title>Dia 1</dc:title>
</cp:coreProperties>
</file>