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048-52F6-4333-89EB-C687A6EE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E25-4A63-4B4D-835B-6B5BD317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0F0-C657-4357-BF2D-3C20131C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6A5-D7CE-49B9-A3EA-28278FAD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1A6-DD5F-4B04-A96D-765A5A4A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CC0-3AB8-45A3-B24A-63977C74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056-3741-4714-B098-11CF9E7E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99D-5342-44F7-9E5B-D4A1E309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DE2-2AB7-4031-BC3B-94E1A94D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4DD-CAF1-4C55-AA5F-F828B9E8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6E0-FC46-43BE-B56E-50922FD1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C48-24E6-4FBF-B410-5D3DB68B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ED94-E1C5-40E1-B9BB-8B0415EF28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9760" y="2057400"/>
            <a:ext cx="670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ben je rijker als 75% van de wer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3366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eten op tafel hebt,  kleren in je kast, een dak boven je hoofd, en een plaats om te slapen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000000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Heb een fantatische dag en stuur dit bericht door naar anderen om ze te laten beseffen hoe gelukkig ze zijn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3124080"/>
            <a:ext cx="64767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</a:rPr>
              <a:t>PRETTIG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Comic Sans MS"/>
              </a:rPr>
              <a:t>KERSTFEEST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omic Sans MS"/>
              </a:rPr>
              <a:t>En gelukkig nieuwja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5480" y="5029200"/>
            <a:ext cx="560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behoor je tot de 8%  van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rijkste mensen op de wer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590920"/>
            <a:ext cx="57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geld op de bank hebt, geld in je portemonee, en ook nog een beetje kunt sparen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43400" y="1600200"/>
            <a:ext cx="450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heb je meer geluk dan die miljoen anderen die deze week niet zullen overlev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5720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deze ochtend gezond je bed uit komt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2480" y="5562720"/>
            <a:ext cx="828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ben je 500 miljoen mensen voor geblev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380880"/>
            <a:ext cx="624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nog nooit het gevaar van de oorlog hebt meegemaakt,  de eenzaamheid van opsluiting, de intense pijn van marteling, of de vreselijke kwelling van honger niet kent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71800" y="289548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heb je absoluut meer geluk dan drie miljard anderen in de wereld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99072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een geloof kunt hebben zonder angst voor vervolging, marteling of doodstraf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95480" y="1523880"/>
            <a:ext cx="37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Realiseer je dan dat dit een zeldzaamheid is!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2860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ouders nog in leven zijn, en als ze bovendien ook nog zijn getrouwd ..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251460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heb je karakter, want de meeste mensen kunnen het wel maar doen het niet!!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228600"/>
            <a:ext cx="533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met opgeheven hoofd en een grote glimlach op je gezicht door het leven kunt stapp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47920" y="32767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Dan heb je de gave om iemand een helpende hand te kunnen bied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457200"/>
            <a:ext cx="594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iemands hand kunt vasthouden, iemand kan omhelzen of iemand een schouderklopje kunt geven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ffffff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30492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Als je dit bericht kunt lezen, realiseer je dan dat er iemand is die aan je denkt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19810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En dat er meer als tw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miljard mensen op de wer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</a:rPr>
              <a:t>zijn die helemaal niet kunnen  lez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6400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A3 </a:t>
            </a:r>
            <a:r>
              <a:rPr b="1" lang="es-ES_tradnl" sz="900" spc="-1" strike="noStrike">
                <a:solidFill>
                  <a:srgbClr val="000000"/>
                </a:solidFill>
                <a:latin typeface="Courier New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6:32:35Z</dcterms:created>
  <dc:creator>Peggy Pan</dc:creator>
  <dc:description/>
  <dc:language>en-US</dc:language>
  <cp:lastModifiedBy>J.Harsveld</cp:lastModifiedBy>
  <dcterms:modified xsi:type="dcterms:W3CDTF">2003-12-20T20:58:06Z</dcterms:modified>
  <cp:revision>17</cp:revision>
  <dc:subject/>
  <dc:title>没有幻灯片标题</dc:title>
</cp:coreProperties>
</file>