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214-74A0-4C9F-8F96-C91DF21E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A85-5C3C-45E3-92D0-DF3E6746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354-B9FA-4193-83C7-A2304926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32C-7073-43EE-BED0-A27F573A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C66-473F-40C5-874E-738F0116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E0C-15CC-4F7F-BEBF-8458DDE6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BC0-20FE-4EF2-AD33-E5C8140D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6EB-5F3E-4697-9B4F-A2AB4B4D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95E-5993-4FEA-A269-6E905734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6BC-A0D7-4202-9372-7799F698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79F-02B4-4485-B7C5-F3F0B71C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02F-2AAA-4C96-B4C1-482F2972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B689-146E-4A8F-9EA5-33B009E093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9760" y="2057400"/>
            <a:ext cx="670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ben je rijker als 75% van de wer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366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eten op tafel hebt,  kleren in je kast, een dak boven je hoofd, en een plaats om te slapen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000000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Heb een fantatische dag en stuur dit bericht door naar anderen om ze te laten beseffen hoe gelukkig ze zijn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3124080"/>
            <a:ext cx="64767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</a:rPr>
              <a:t>PRETTIG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Comic Sans MS"/>
              </a:rPr>
              <a:t>KERSTFEES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</a:rPr>
              <a:t>En gelukkig nieuwja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5480" y="5029200"/>
            <a:ext cx="560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behoor je tot de 8%  van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rijkste mensen op de wer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59092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geld op de bank hebt, geld in je portemonee, en ook nog een beetje kunt sparen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43400" y="1600200"/>
            <a:ext cx="450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heb je meer geluk dan die miljoen anderen die deze week niet zullen overlev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572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deze ochtend gezond je bed uit komt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2480" y="5562720"/>
            <a:ext cx="828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ben je 500 miljoen mensen voor geblev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80880"/>
            <a:ext cx="624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nog nooit het gevaar van de oorlog hebt meegemaakt,  de eenzaamheid van opsluiting, de intense pijn van marteling, of de vreselijke kwelling van honger niet kent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71800" y="289548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heb je absoluut meer geluk dan drie miljard anderen in de wereld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9072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een geloof kunt hebben zonder angst voor vervolging, marteling of doodstraf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95480" y="1523880"/>
            <a:ext cx="37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Realiseer je dan dat dit een zeldzaamheid is!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ouders nog in leven zijn, en als ze bovendien ook nog zijn getrouwd ..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251460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heb je karakter, want de meeste mensen kunnen het wel maar doen het niet!!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228600"/>
            <a:ext cx="533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met opgeheven hoofd en een grote glimlach op je gezicht door het leven kunt stapp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47920" y="32767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heb je de gave om iemand een helpende hand te kunnen bied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57200"/>
            <a:ext cx="59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iemands hand kunt vasthouden, iemand kan omhelzen of iemand een schouderklopje kunt geven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304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dit bericht kunt lezen, realiseer je dan dat er iemand is die aan je denkt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9810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En dat er meer als tw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miljard mensen op de wer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zijn die helemaal niet kunnen  lez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000000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J.Harsveld</cp:lastModifiedBy>
  <dcterms:modified xsi:type="dcterms:W3CDTF">2003-12-20T20:58:06Z</dcterms:modified>
  <cp:revision>17</cp:revision>
  <dc:subject/>
  <dc:title>没有幻灯片标题</dc:title>
</cp:coreProperties>
</file>