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22.png" ContentType="image/png"/>
  <Override PartName="/ppt/media/image17.gif" ContentType="image/gif"/>
  <Override PartName="/ppt/media/image50.jpeg" ContentType="image/jpeg"/>
  <Override PartName="/ppt/media/image16.jpeg" ContentType="image/jpeg"/>
  <Override PartName="/ppt/media/image14.png" ContentType="image/png"/>
  <Override PartName="/ppt/media/image13.jpeg" ContentType="image/jpeg"/>
  <Override PartName="/ppt/media/image27.gif" ContentType="image/gif"/>
  <Override PartName="/ppt/media/image1.jpeg" ContentType="image/jpe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sound%20vogelgeluid.wav" ContentType="audio/x-wav"/>
  <Override PartName="/ppt/media/image15.png" ContentType="image/png"/>
  <Override PartName="/ppt/media/image3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41.jpeg" ContentType="image/jpeg"/>
  <Override PartName="/ppt/media/image43.png" ContentType="image/png"/>
  <Override PartName="/ppt/media/image38.jpeg" ContentType="image/jpeg"/>
  <Override PartName="/ppt/media/image33.png" ContentType="image/png"/>
  <Override PartName="/ppt/media/image8.png" ContentType="image/png"/>
  <Override PartName="/ppt/media/image28.gif" ContentType="image/gif"/>
  <Override PartName="/ppt/media/image44.jpeg" ContentType="image/jpeg"/>
  <Override PartName="/ppt/media/image45.png" ContentType="image/png"/>
  <Override PartName="/ppt/media/image46.jpeg" ContentType="image/jpeg"/>
  <Override PartName="/ppt/media/image48.gif" ContentType="image/gif"/>
  <Override PartName="/ppt/media/image53.png" ContentType="image/png"/>
  <Override PartName="/ppt/media/image51.png" ContentType="image/png"/>
  <Override PartName="/ppt/media/image31.jpeg" ContentType="image/jpeg"/>
  <Override PartName="/ppt/media/image42.jpeg" ContentType="image/jpeg"/>
  <Override PartName="/ppt/media/image25.png" ContentType="image/png"/>
  <Override PartName="/ppt/media/image30.jpeg" ContentType="image/jpeg"/>
  <Override PartName="/ppt/media/image29.png" ContentType="image/png"/>
  <Override PartName="/ppt/media/image9.png" ContentType="image/png"/>
  <Override PartName="/ppt/media/image39.png" ContentType="image/png"/>
  <Override PartName="/ppt/media/image52.jpeg" ContentType="image/jpeg"/>
  <Override PartName="/ppt/media/image37.gif" ContentType="image/gif"/>
  <Override PartName="/ppt/media/image7.gif" ContentType="image/gif"/>
  <Override PartName="/ppt/media/image26.jpeg" ContentType="image/jpeg"/>
  <Override PartName="/ppt/media/image4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CCE2-FE2A-4350-9DD4-0BFF67DC53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A102-EE83-4D06-9DED-3899C5270C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8BB-541E-42FC-A806-D270F7CA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72F-DC49-42D9-870A-B40A1F27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6BA-1640-4F52-AA67-F8F59C28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74D-8D53-4F50-BB03-E5420BD4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751-5AEA-4CFB-918B-584CA232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2CA-96FA-4D3C-8DC2-ACA37C5B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0D4-138C-4DE3-ABB3-C1C37487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273-87E4-4418-A5B3-E9304E1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A87-CE67-40E4-820B-A6C0CE51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BD8-2318-4FC4-B8B2-C2A3CA5A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371-2C25-409C-80FE-4CE1173E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011-160C-4428-AAB5-A8E846EA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61E2-AF7B-48F5-9CAB-1408C9C2D1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%20vogelgelui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hyperlink" Target="http://smiles.rc-wereld.com/smile.90714.html" TargetMode="External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hyperlink" Target="http://smiles.rc-wereld.com/smile.103880.html" TargetMode="External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37.gi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9.png"/><Relationship Id="rId3" Type="http://schemas.openxmlformats.org/officeDocument/2006/relationships/image" Target="../media/image28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9.png"/><Relationship Id="rId3" Type="http://schemas.openxmlformats.org/officeDocument/2006/relationships/image" Target="../media/image43.png"/><Relationship Id="rId4" Type="http://schemas.openxmlformats.org/officeDocument/2006/relationships/image" Target="../media/image37.gif"/><Relationship Id="rId5" Type="http://schemas.openxmlformats.org/officeDocument/2006/relationships/audio" Target="../media/sound%20vogelgeluid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18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40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7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hyperlink" Target="http://smiles.rc-wereld.com/smile.90714.html" TargetMode="External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9000"/>
            <a:ext cx="64008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lowers_motif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 rot="19434600">
            <a:off x="11085480" y="6447960"/>
            <a:ext cx="552744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000000"/>
                </a:solidFill>
                <a:latin typeface="Palace Script MT"/>
              </a:rPr>
              <a:t>Je levensreis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Motion origin="layout" path="M -0.31528 0.0044 C -0.33438 0.01343 -0.43941 0.00625 -0.4474 0.00602 C -0.48177 0.00023 -0.51441 0.0037 -0.54983 0.0044 C -0.59862 0.00394 -0.6474 0.00417 -0.69618 0.00278 C -0.70608 0.00255 -0.71632 -0.00301 -0.72605 -0.00509 C -0.74202 -0.00833 -0.75782 -0.0125 -0.77362 -0.0162 C -0.78924 -0.02639 -0.77084 -0.01528 -0.7915 -0.02407 C -0.80052 -0.02778 -0.80573 -0.03241 -0.81528 -0.03519 C -0.829 -0.04468 -0.84427 -0.05231 -0.85938 -0.05741 C -0.8698 -0.06597 -0.86042 -0.05972 -0.8724 -0.06389 C -0.88143 -0.06713 -0.88959 -0.07292 -0.89862 -0.07639 C -0.90591 -0.08287 -0.91771 -0.0912 -0.92605 -0.09398 C -0.93039 -0.09792 -0.93976 -0.10278 -0.94271 -0.10671 C -0.9474 -0.11296 -0.95261 -0.1162 -0.95816 -0.12083 C -0.96389 -0.13264 -0.97066 -0.14444 -0.97483 -0.15741 C -0.97605 -0.16111 -0.97726 -0.16481 -0.9783 -0.16852 C -0.97917 -0.17153 -0.98073 -0.17801 -0.98073 -0.17801 C -0.98455 -0.21852 -0.98351 -0.25417 -0.96997 -0.28912 C -0.9665 -0.29815 -0.96459 -0.30903 -0.95938 -0.3162 C -0.95625 -0.32801 -0.96094 -0.31343 -0.95452 -0.32431 C -0.95365 -0.32546 -0.954 -0.32755 -0.9533 -0.32894 C -0.95035 -0.33611 -0.95018 -0.33495 -0.94497 -0.33843 C -0.94132 -0.34583 -0.93594 -0.35231 -0.92952 -0.35417 C -0.92657 -0.35718 -0.92431 -0.36111 -0.92118 -0.36389 C -0.9191 -0.36574 -0.91632 -0.36574 -0.91407 -0.3669 C -0.90625 -0.37083 -0.89966 -0.37569 -0.8915 -0.37801 C -0.84584 -0.41458 -0.78698 -0.41042 -0.73664 -0.41134 C -0.69098 -0.41204 -0.64549 -0.4125 -0.59983 -0.41296 C -0.57118 -0.41389 -0.54132 -0.41667 -0.51285 -0.41782 C -0.47309 -0.41921 -0.39375 -0.42083 -0.39375 -0.42083 C -0.37917 -0.42593 -0.36476 -0.43056 -0.34983 -0.43356 C -0.33664 -0.44051 -0.32466 -0.44421 -0.31042 -0.4463 C -0.30226 -0.44907 -0.29462 -0.4537 -0.28664 -0.45579 C -0.27952 -0.45972 -0.27535 -0.46597 -0.26771 -0.46852 C -0.26181 -0.48009 -0.26511 -0.47569 -0.25816 -0.48287 C -0.25139 -0.50463 -0.26025 -0.47917 -0.25209 -0.4956 C -0.24948 -0.50069 -0.24896 -0.50764 -0.24618 -0.51296 C -0.24427 -0.52315 -0.24167 -0.53264 -0.24028 -0.54306 C -0.24063 -0.56319 -0.2408 -0.58333 -0.2415 -0.60347 C -0.24219 -0.62199 -0.24705 -0.64097 -0.24983 -0.65903 C -0.25122 -0.66782 -0.25591 -0.67477 -0.25816 -0.68287 C -0.26181 -0.69583 -0.2632 -0.70787 -0.26875 -0.71944 C -0.27049 -0.72801 -0.27396 -0.73981 -0.27952 -0.74468 C -0.28195 -0.75741 -0.279 -0.74537 -0.28664 -0.76227 C -0.28855 -0.76644 -0.28959 -0.77222 -0.2915 -0.77639 C -0.29497 -0.78403 -0.30539 -0.79769 -0.31164 -0.80185 C -0.32171 -0.80856 -0.33525 -0.80949 -0.34618 -0.81134 C -0.36927 -0.81505 -0.39046 -0.8169 -0.41407 -0.81782 C -0.42882 -0.81991 -0.44358 -0.81921 -0.45816 -0.82245 C -0.53768 -0.82153 -0.6158 -0.81829 -0.69497 -0.81458 C -0.73976 -0.80856 -0.78264 -0.80903 -0.8283 -0.80833 C -0.89827 -0.81088 -0.85296 -0.80972 -0.96407 -0.80972 E">
                                      <p:cBhvr>
                                        <p:cTn id="6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6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7000"/>
            </a:blip>
            <a:srcRect/>
            <a:stretch/>
          </a:blipFill>
          <a:ln w="19080">
            <a:solidFill>
              <a:srgbClr val="b9f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Birds_art-001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260280"/>
            <a:ext cx="4103640" cy="6264360"/>
          </a:xfrm>
          <a:prstGeom prst="rect">
            <a:avLst/>
          </a:prstGeom>
          <a:ln w="76320">
            <a:solidFill>
              <a:srgbClr val="b9ffb9"/>
            </a:solidFill>
            <a:miter/>
          </a:ln>
        </p:spPr>
      </p:pic>
      <p:pic>
        <p:nvPicPr>
          <p:cNvPr id="94" name="Picture 13" descr="9eb5df06400a3916edb9a47d3512f0ae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885080" y="6922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bloem23"/>
          <p:cNvPicPr/>
          <p:nvPr/>
        </p:nvPicPr>
        <p:blipFill>
          <a:blip r:embed="rId5"/>
          <a:stretch/>
        </p:blipFill>
        <p:spPr>
          <a:xfrm>
            <a:off x="4824360" y="3573360"/>
            <a:ext cx="4572000" cy="3213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5867280" y="1700280"/>
            <a:ext cx="252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de3418"/>
                </a:solidFill>
                <a:latin typeface="Century"/>
              </a:rPr>
              <a:t>Zodat de l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de3418"/>
                </a:solidFill>
                <a:latin typeface="Century"/>
              </a:rPr>
              <a:t>die je to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de3418"/>
                </a:solidFill>
                <a:latin typeface="Century"/>
              </a:rPr>
              <a:t>veel makkelij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de3418"/>
                </a:solidFill>
                <a:latin typeface="Century"/>
              </a:rPr>
              <a:t>is te dr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Birds_art-0012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93b7ff"/>
            </a:solidFill>
            <a:miter/>
          </a:ln>
        </p:spPr>
      </p:pic>
      <p:sp>
        <p:nvSpPr>
          <p:cNvPr id="98" name="AutoShape 7"/>
          <p:cNvSpPr/>
          <p:nvPr/>
        </p:nvSpPr>
        <p:spPr>
          <a:xfrm>
            <a:off x="5148360" y="54936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7000"/>
            </a:blip>
            <a:srcRect/>
            <a:stretch/>
          </a:blipFill>
          <a:ln w="19080">
            <a:solidFill>
              <a:srgbClr val="93b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523480" y="1197000"/>
            <a:ext cx="2870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Het leven kan all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achterwaarts begre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worden, maar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moet voo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Century"/>
              </a:rPr>
              <a:t>worden</a:t>
            </a: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 geleef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zw31"/>
          <p:cNvPicPr/>
          <p:nvPr/>
        </p:nvPicPr>
        <p:blipFill>
          <a:blip r:embed="rId3"/>
          <a:stretch/>
        </p:blipFill>
        <p:spPr>
          <a:xfrm>
            <a:off x="4572000" y="1773360"/>
            <a:ext cx="4572000" cy="48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Birds_art-0002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00817e"/>
            </a:solidFill>
            <a:miter/>
          </a:ln>
        </p:spPr>
      </p:pic>
      <p:sp>
        <p:nvSpPr>
          <p:cNvPr id="103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8000"/>
            </a:blip>
            <a:srcRect/>
            <a:stretch/>
          </a:blipFill>
          <a:ln w="1908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796000" y="2060640"/>
            <a:ext cx="252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Niet het zoeken van de w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is de kun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haar te leren verd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daar gaat het 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ypz36"/>
          <p:cNvPicPr/>
          <p:nvPr/>
        </p:nvPicPr>
        <p:blipFill>
          <a:blip r:embed="rId3"/>
          <a:stretch/>
        </p:blipFill>
        <p:spPr>
          <a:xfrm>
            <a:off x="5724360" y="4437000"/>
            <a:ext cx="30956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f545e5f533a29816f8cd4a2ff1ad1725">
            <a:hlinkClick r:id="rId4"/>
          </p:cNvPr>
          <p:cNvPicPr/>
          <p:nvPr/>
        </p:nvPicPr>
        <p:blipFill>
          <a:blip r:embed="rId5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Birds_art-0003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00817e"/>
            </a:solidFill>
            <a:miter/>
          </a:ln>
        </p:spPr>
      </p:pic>
      <p:sp>
        <p:nvSpPr>
          <p:cNvPr id="109" name="AutoShape 10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54000"/>
            </a:blip>
            <a:srcRect/>
            <a:stretch/>
          </a:blipFill>
          <a:ln w="1908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740200" y="2205000"/>
            <a:ext cx="267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7d7a"/>
                </a:solidFill>
                <a:latin typeface="Century"/>
              </a:rPr>
              <a:t>Een kleine d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7d7a"/>
                </a:solidFill>
                <a:latin typeface="Century"/>
              </a:rPr>
              <a:t>heeft meer gew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7d7a"/>
                </a:solidFill>
                <a:latin typeface="Century"/>
              </a:rPr>
              <a:t>dan duiz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7d7a"/>
                </a:solidFill>
                <a:latin typeface="Century"/>
              </a:rPr>
              <a:t>grote wo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f545e5f533a29816f8cd4a2ff1ad1725"/>
          <p:cNvPicPr/>
          <p:nvPr/>
        </p:nvPicPr>
        <p:blipFill>
          <a:blip r:embed="rId3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Edna\Desktop\New Folder\swan1.gif"/>
          <p:cNvPicPr/>
          <p:nvPr/>
        </p:nvPicPr>
        <p:blipFill>
          <a:blip r:embed="rId4"/>
          <a:stretch/>
        </p:blipFill>
        <p:spPr>
          <a:xfrm>
            <a:off x="6443640" y="4508640"/>
            <a:ext cx="1400040" cy="9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Birds_art-0004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824100"/>
            </a:solidFill>
            <a:miter/>
          </a:ln>
        </p:spPr>
      </p:pic>
      <p:sp>
        <p:nvSpPr>
          <p:cNvPr id="115" name="AutoShape 10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82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796000" y="1844640"/>
            <a:ext cx="2550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De ideale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komt noo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De ideale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is vandaa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als wij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dat van mak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Klik op de afbeelding om de link te volgen"/>
          <p:cNvPicPr/>
          <p:nvPr/>
        </p:nvPicPr>
        <p:blipFill>
          <a:blip r:embed="rId3"/>
          <a:stretch/>
        </p:blipFill>
        <p:spPr>
          <a:xfrm>
            <a:off x="5796000" y="4292640"/>
            <a:ext cx="2685960" cy="234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Birds_art-0005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525000"/>
            </a:solidFill>
            <a:miter/>
          </a:ln>
        </p:spPr>
      </p:pic>
      <p:sp>
        <p:nvSpPr>
          <p:cNvPr id="121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52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785560" y="1596960"/>
            <a:ext cx="264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Iemand die al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alles zwart op w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wil he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heeft een kleurl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besta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Misted_Teal_Swans_RM"/>
          <p:cNvPicPr/>
          <p:nvPr/>
        </p:nvPicPr>
        <p:blipFill>
          <a:blip r:embed="rId3"/>
          <a:stretch/>
        </p:blipFill>
        <p:spPr>
          <a:xfrm>
            <a:off x="5148360" y="3573360"/>
            <a:ext cx="38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Birds_art-0010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464400"/>
            </a:solidFill>
            <a:miter/>
          </a:ln>
        </p:spPr>
      </p:pic>
      <p:sp>
        <p:nvSpPr>
          <p:cNvPr id="127" name="AutoShape 8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4000"/>
            </a:blip>
            <a:srcRect/>
            <a:stretch/>
          </a:blipFill>
          <a:ln w="19080">
            <a:solidFill>
              <a:srgbClr val="46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730840" y="1628640"/>
            <a:ext cx="2728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Niets maa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sneller ou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d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voordurende ged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dat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oud word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bloem23"/>
          <p:cNvPicPr/>
          <p:nvPr/>
        </p:nvPicPr>
        <p:blipFill>
          <a:blip r:embed="rId3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Birds_art-0018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464400"/>
            </a:solidFill>
            <a:miter/>
          </a:ln>
        </p:spPr>
      </p:pic>
      <p:sp>
        <p:nvSpPr>
          <p:cNvPr id="132" name="AutoShape 8"/>
          <p:cNvSpPr/>
          <p:nvPr/>
        </p:nvSpPr>
        <p:spPr>
          <a:xfrm>
            <a:off x="4859280" y="765000"/>
            <a:ext cx="4176720" cy="554364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46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940360" y="1844640"/>
            <a:ext cx="23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Wie met m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omgaat 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met pionn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ziet spoedig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zijn schaakb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leeg 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18.gif"/>
          <p:cNvPicPr/>
          <p:nvPr/>
        </p:nvPicPr>
        <p:blipFill>
          <a:blip r:embed="rId3"/>
          <a:stretch/>
        </p:blipFill>
        <p:spPr>
          <a:xfrm>
            <a:off x="6854760" y="3933720"/>
            <a:ext cx="15350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308360" y="55512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6"/>
          <p:cNvSpPr/>
          <p:nvPr/>
        </p:nvSpPr>
        <p:spPr>
          <a:xfrm>
            <a:off x="5148360" y="549360"/>
            <a:ext cx="3744720" cy="58323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7000"/>
            </a:blip>
            <a:srcRect/>
            <a:stretch/>
          </a:blipFill>
          <a:ln w="19080">
            <a:solidFill>
              <a:srgbClr val="52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Birds_art-0009"/>
          <p:cNvPicPr/>
          <p:nvPr/>
        </p:nvPicPr>
        <p:blipFill>
          <a:blip r:embed="rId2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525000"/>
            </a:solidFill>
            <a:miter/>
          </a:ln>
        </p:spPr>
      </p:pic>
      <p:sp>
        <p:nvSpPr>
          <p:cNvPr id="138" name="Text Box 8"/>
          <p:cNvSpPr/>
          <p:nvPr/>
        </p:nvSpPr>
        <p:spPr>
          <a:xfrm>
            <a:off x="5796000" y="126828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Er zijn mo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waarop j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moed mo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kunnen op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voor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grote spro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een kloof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je niet overst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met twee kle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sprongetj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Klik op de afbeelding om de link te volgen"/>
          <p:cNvPicPr/>
          <p:nvPr/>
        </p:nvPicPr>
        <p:blipFill>
          <a:blip r:embed="rId3"/>
          <a:stretch/>
        </p:blipFill>
        <p:spPr>
          <a:xfrm>
            <a:off x="7772400" y="4581360"/>
            <a:ext cx="1371600" cy="227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f545e5f533a29816f8cd4a2ff1ad1725"/>
          <p:cNvPicPr/>
          <p:nvPr/>
        </p:nvPicPr>
        <p:blipFill>
          <a:blip r:embed="rId4"/>
          <a:stretch/>
        </p:blipFill>
        <p:spPr>
          <a:xfrm rot="1557000">
            <a:off x="7380000" y="259920"/>
            <a:ext cx="1218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Birds_art-0007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688000"/>
          </a:xfrm>
          <a:prstGeom prst="rect">
            <a:avLst/>
          </a:prstGeom>
          <a:ln w="76320">
            <a:solidFill>
              <a:srgbClr val="a45200"/>
            </a:solidFill>
            <a:miter/>
          </a:ln>
        </p:spPr>
      </p:pic>
      <p:sp>
        <p:nvSpPr>
          <p:cNvPr id="142" name="AutoShape 6"/>
          <p:cNvSpPr/>
          <p:nvPr/>
        </p:nvSpPr>
        <p:spPr>
          <a:xfrm>
            <a:off x="4932360" y="620640"/>
            <a:ext cx="3960720" cy="547236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a4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651640" y="1557360"/>
            <a:ext cx="2581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Laat ons een o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zijn waar men n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enthousia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over het le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ook over het l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dat héél v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moeite k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Users\Edna\Desktop\New Folder\swan1.gif"/>
          <p:cNvPicPr/>
          <p:nvPr/>
        </p:nvPicPr>
        <p:blipFill>
          <a:blip r:embed="rId3"/>
          <a:stretch/>
        </p:blipFill>
        <p:spPr>
          <a:xfrm>
            <a:off x="5580000" y="4245120"/>
            <a:ext cx="2737080" cy="180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vog-33"/>
          <p:cNvPicPr/>
          <p:nvPr/>
        </p:nvPicPr>
        <p:blipFill>
          <a:blip r:embed="rId4"/>
          <a:stretch/>
        </p:blipFill>
        <p:spPr>
          <a:xfrm>
            <a:off x="7380360" y="117360"/>
            <a:ext cx="906480" cy="1008000"/>
          </a:xfrm>
          <a:prstGeom prst="rect">
            <a:avLst/>
          </a:prstGeom>
          <a:ln w="0">
            <a:noFill/>
          </a:ln>
        </p:spPr>
      </p:pic>
      <p:sp>
        <p:nvSpPr>
          <p:cNvPr id="146" name="Rechthoek 9"/>
          <p:cNvSpPr/>
          <p:nvPr/>
        </p:nvSpPr>
        <p:spPr>
          <a:xfrm>
            <a:off x="1042920" y="5516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a0000"/>
                </a:solidFill>
                <a:latin typeface="Arial"/>
              </a:rPr>
              <a:t>Groeten B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5000"/>
            </a:blip>
            <a:srcRect/>
            <a:stretch/>
          </a:blipFill>
          <a:ln w="19080">
            <a:solidFill>
              <a:srgbClr val="ffb9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867280" y="1916280"/>
            <a:ext cx="24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3418"/>
                </a:solidFill>
                <a:latin typeface="Century"/>
              </a:rPr>
              <a:t>Als men 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3418"/>
                </a:solidFill>
                <a:latin typeface="Century"/>
              </a:rPr>
              <a:t>levensreis begi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3418"/>
                </a:solidFill>
                <a:latin typeface="Century"/>
              </a:rPr>
              <a:t>krijgt ieder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3418"/>
                </a:solidFill>
                <a:latin typeface="Century"/>
              </a:rPr>
              <a:t>eigen kar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Birds_art-0027"/>
          <p:cNvPicPr/>
          <p:nvPr/>
        </p:nvPicPr>
        <p:blipFill>
          <a:blip r:embed="rId2"/>
          <a:stretch/>
        </p:blipFill>
        <p:spPr>
          <a:xfrm>
            <a:off x="250920" y="620640"/>
            <a:ext cx="4249800" cy="5616720"/>
          </a:xfrm>
          <a:prstGeom prst="rect">
            <a:avLst/>
          </a:prstGeom>
          <a:ln w="76320">
            <a:solidFill>
              <a:srgbClr val="ffb9d0"/>
            </a:solidFill>
            <a:miter/>
          </a:ln>
        </p:spPr>
      </p:pic>
      <p:pic>
        <p:nvPicPr>
          <p:cNvPr id="55" name="Picture 14" descr="zw16"/>
          <p:cNvPicPr/>
          <p:nvPr/>
        </p:nvPicPr>
        <p:blipFill>
          <a:blip r:embed="rId3"/>
          <a:stretch/>
        </p:blipFill>
        <p:spPr>
          <a:xfrm>
            <a:off x="4572000" y="3960720"/>
            <a:ext cx="457200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45000"/>
            </a:blip>
            <a:srcRect/>
            <a:stretch/>
          </a:blipFill>
          <a:ln w="1908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443640" y="1989000"/>
            <a:ext cx="14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67d82"/>
                </a:solidFill>
                <a:latin typeface="Century"/>
              </a:rPr>
              <a:t>In het begin v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67d82"/>
                </a:solidFill>
                <a:latin typeface="Century"/>
              </a:rPr>
              <a:t>dat nog wel m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Birds_art-0026"/>
          <p:cNvPicPr/>
          <p:nvPr/>
        </p:nvPicPr>
        <p:blipFill>
          <a:blip r:embed="rId2"/>
          <a:stretch/>
        </p:blipFill>
        <p:spPr>
          <a:xfrm>
            <a:off x="250920" y="549360"/>
            <a:ext cx="4321080" cy="568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59" name="Picture 11" descr="Vogels%20zingend"/>
          <p:cNvPicPr/>
          <p:nvPr/>
        </p:nvPicPr>
        <p:blipFill>
          <a:blip r:embed="rId3"/>
          <a:stretch/>
        </p:blipFill>
        <p:spPr>
          <a:xfrm flipH="1">
            <a:off x="7896240" y="0"/>
            <a:ext cx="124776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zw14"/>
          <p:cNvPicPr/>
          <p:nvPr/>
        </p:nvPicPr>
        <p:blipFill>
          <a:blip r:embed="rId4"/>
          <a:stretch/>
        </p:blipFill>
        <p:spPr>
          <a:xfrm>
            <a:off x="4716360" y="3789360"/>
            <a:ext cx="442764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7000"/>
            </a:blip>
            <a:srcRect/>
            <a:stretch/>
          </a:blip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zw29"/>
          <p:cNvPicPr/>
          <p:nvPr/>
        </p:nvPicPr>
        <p:blipFill>
          <a:blip r:embed="rId2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796000" y="190188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Doch kom je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allerlei plekk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onderw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wordt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steeds zwaa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Birds_art-0024"/>
          <p:cNvPicPr/>
          <p:nvPr/>
        </p:nvPicPr>
        <p:blipFill>
          <a:blip r:embed="rId3"/>
          <a:stretch/>
        </p:blipFill>
        <p:spPr>
          <a:xfrm>
            <a:off x="324000" y="549360"/>
            <a:ext cx="4176720" cy="5759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5000"/>
            </a:blip>
            <a:srcRect/>
            <a:stretch/>
          </a:blipFill>
          <a:ln w="19080">
            <a:solidFill>
              <a:srgbClr val="ffd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796000" y="1844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Als er meer v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wordt bijgegooi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moet je toch ve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met je l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Birds_art-0023"/>
          <p:cNvPicPr/>
          <p:nvPr/>
        </p:nvPicPr>
        <p:blipFill>
          <a:blip r:embed="rId2"/>
          <a:stretch/>
        </p:blipFill>
        <p:spPr>
          <a:xfrm>
            <a:off x="468360" y="333360"/>
            <a:ext cx="4103640" cy="6191280"/>
          </a:xfrm>
          <a:prstGeom prst="rect">
            <a:avLst/>
          </a:prstGeom>
          <a:ln w="76320">
            <a:solidFill>
              <a:srgbClr val="ffdcb9"/>
            </a:solidFill>
            <a:miter/>
          </a:ln>
        </p:spPr>
      </p:pic>
      <p:pic>
        <p:nvPicPr>
          <p:cNvPr id="69" name="Picture 10" descr="Vogels%20zingend"/>
          <p:cNvPicPr/>
          <p:nvPr/>
        </p:nvPicPr>
        <p:blipFill>
          <a:blip r:embed="rId3"/>
          <a:stretch/>
        </p:blipFill>
        <p:spPr>
          <a:xfrm flipH="1">
            <a:off x="7896240" y="0"/>
            <a:ext cx="12477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Dog"/>
          <p:cNvPicPr/>
          <p:nvPr/>
        </p:nvPicPr>
        <p:blipFill>
          <a:blip r:embed="rId4"/>
          <a:stretch/>
        </p:blipFill>
        <p:spPr>
          <a:xfrm>
            <a:off x="4716360" y="3618000"/>
            <a:ext cx="4427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48000"/>
            </a:blip>
            <a:srcRect/>
            <a:stretch/>
          </a:blipFill>
          <a:ln w="19080">
            <a:solidFill>
              <a:srgbClr val="ffc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021000" y="1989000"/>
            <a:ext cx="22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Al denk je va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ik red het noo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Birds_art-0022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ffc757"/>
            </a:solidFill>
            <a:miter/>
          </a:ln>
        </p:spPr>
      </p:pic>
      <p:pic>
        <p:nvPicPr>
          <p:cNvPr id="75" name="Picture 10" descr="9eb5df06400a3916edb9a47d3512f0ae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885080" y="6922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bloem23"/>
          <p:cNvPicPr/>
          <p:nvPr/>
        </p:nvPicPr>
        <p:blipFill>
          <a:blip r:embed="rId5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4000"/>
            </a:blip>
            <a:srcRect/>
            <a:stretch/>
          </a:blipFill>
          <a:ln w="19080">
            <a:solidFill>
              <a:srgbClr val="d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796000" y="2492280"/>
            <a:ext cx="26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ie levensreis z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je ook le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je krijgt het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alleen ged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Birds_art-0021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de002a"/>
            </a:solidFill>
            <a:miter/>
          </a:ln>
        </p:spPr>
      </p:pic>
      <p:pic>
        <p:nvPicPr>
          <p:cNvPr id="80" name="Picture 14" descr="zw17"/>
          <p:cNvPicPr/>
          <p:nvPr/>
        </p:nvPicPr>
        <p:blipFill>
          <a:blip r:embed="rId3"/>
          <a:stretch/>
        </p:blipFill>
        <p:spPr>
          <a:xfrm>
            <a:off x="4788000" y="4076640"/>
            <a:ext cx="43560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4000"/>
            </a:blip>
            <a:srcRect/>
            <a:stretch/>
          </a:blipFill>
          <a:ln w="19080">
            <a:solidFill>
              <a:srgbClr val="d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012000" y="1916280"/>
            <a:ext cx="223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an zijn er m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ie je help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en je ter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zullen st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Birds_art-0017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de002a"/>
            </a:solidFill>
            <a:miter/>
          </a:ln>
        </p:spPr>
      </p:pic>
      <p:pic>
        <p:nvPicPr>
          <p:cNvPr id="85" name="Picture 14" descr="zw1"/>
          <p:cNvPicPr/>
          <p:nvPr/>
        </p:nvPicPr>
        <p:blipFill>
          <a:blip r:embed="rId3"/>
          <a:stretch/>
        </p:blipFill>
        <p:spPr>
          <a:xfrm>
            <a:off x="4788000" y="3716280"/>
            <a:ext cx="435600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8000"/>
            </a:blip>
            <a:srcRect/>
            <a:stretch/>
          </a:blipFill>
          <a:ln w="19080">
            <a:solidFill>
              <a:srgbClr val="ffe0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796000" y="1916280"/>
            <a:ext cx="266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Vervolg je 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dus vol vertrouw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je ontvangt hu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zonder te v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Birds_art-001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9640" y="549360"/>
            <a:ext cx="4032360" cy="5759280"/>
          </a:xfrm>
          <a:prstGeom prst="rect">
            <a:avLst/>
          </a:prstGeom>
          <a:ln w="76320">
            <a:solidFill>
              <a:srgbClr val="ffe0a3"/>
            </a:solidFill>
            <a:miter/>
          </a:ln>
        </p:spPr>
      </p:pic>
      <p:pic>
        <p:nvPicPr>
          <p:cNvPr id="90" name="Picture 9" descr="vog-33"/>
          <p:cNvPicPr/>
          <p:nvPr/>
        </p:nvPicPr>
        <p:blipFill>
          <a:blip r:embed="rId3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Klik op de afbeelding om de link te volgen"/>
          <p:cNvPicPr/>
          <p:nvPr/>
        </p:nvPicPr>
        <p:blipFill>
          <a:blip r:embed="rId4"/>
          <a:stretch/>
        </p:blipFill>
        <p:spPr>
          <a:xfrm>
            <a:off x="5724360" y="3573360"/>
            <a:ext cx="268632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4:43:37Z</dcterms:created>
  <dc:creator>Gerda Leenders</dc:creator>
  <dc:description/>
  <dc:language>en-US</dc:language>
  <cp:lastModifiedBy>Miny ten Hove</cp:lastModifiedBy>
  <dcterms:modified xsi:type="dcterms:W3CDTF">2011-03-28T17:35:47Z</dcterms:modified>
  <cp:revision>18</cp:revision>
  <dc:subject/>
  <dc:title>Je levensreis</dc:title>
</cp:coreProperties>
</file>