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6.jpeg" ContentType="image/jpeg"/>
  <Override PartName="/ppt/media/Mouskouri_Nana-lamour_en_heritage.wav" ContentType="audio/x-wav"/>
  <Override PartName="/ppt/media/image13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40AF-122C-4A32-B3E4-BF63D2F84584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F91E-9A71-41B8-B5B1-CB81141C71DA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C584-5FA5-4D82-B0D4-1DA0029C7B63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EE5A-C1FB-400C-ACC8-FB961AB4AE63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7E45-83A7-4BD6-89D4-480A6F285918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6B4B-891D-4695-9E59-7F7A44EDF134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1132-03BB-4A3C-BA8D-69E1947402E9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012A-0420-4531-AD4A-6234187216E2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A176-C07C-4556-B2E6-F8B4872BEB95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BD6B-BC56-4EE2-93D6-6E5D65A682C9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5153-EE1D-4841-9AAE-06A6B6F581EC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5AC8-9F8B-4FE4-B320-F3867C26BF74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B314-D183-44C7-BCD0-899E3081D7F6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27C0-F22A-47AB-8DF8-B2A4C7EF53FB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D870-083D-4A17-90EC-54CDBA5F2534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8B1C-52CA-42D3-B289-A61ACFB8998A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0EAF-09AC-4F81-93A0-639F969BA7F6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7894-669D-4843-9446-040546BA9DA1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056F-88E0-41AD-8D04-17E26B5002A8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5F5E-D223-4D36-A1AE-29A335603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9700-FA13-4ECC-9895-D4A7B905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F941-A6C5-41EA-A860-4E2F07400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DA79-7598-4D9F-865A-70EBD7603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C1C0-1DCA-4A90-AC09-E56D62A2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9715-EEB5-40C8-AF3A-C482F4F1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1428-41EC-4ED9-9C11-B769F8DB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7F8C-30BE-4DAE-BB4A-AD1854B2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1FB3-1113-4AD7-AC86-8CC8978B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54DE-7513-437C-B248-7537A235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3F0F-E482-44E2-87AC-57C420A5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D181-6730-477E-A3AF-C1476713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C110-5CC0-4098-8FD9-9D08BCE223CC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ouskouri_Nana-lamour_en_heritag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58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bqtrose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54000">
            <a:solidFill>
              <a:srgbClr val="bd1555"/>
            </a:solidFill>
            <a:miter/>
          </a:ln>
        </p:spPr>
      </p:pic>
      <p:sp>
        <p:nvSpPr>
          <p:cNvPr id="49" name="Text Box 3"/>
          <p:cNvSpPr/>
          <p:nvPr/>
        </p:nvSpPr>
        <p:spPr>
          <a:xfrm>
            <a:off x="1214280" y="642960"/>
            <a:ext cx="686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Er zijn momenten in het le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dat men de anderen mis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fade/>
    <p:sndAc>
      <p:stSnd>
        <p:snd r:embed="rId2" name="Mouskouri_Nana-lamour_en_heritag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fleurbleue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104760">
            <a:solidFill>
              <a:srgbClr val="ffffff"/>
            </a:solidFill>
            <a:miter/>
          </a:ln>
        </p:spPr>
      </p:pic>
      <p:sp>
        <p:nvSpPr>
          <p:cNvPr id="71" name="Text Box 3"/>
          <p:cNvSpPr/>
          <p:nvPr/>
        </p:nvSpPr>
        <p:spPr>
          <a:xfrm>
            <a:off x="5572080" y="3786120"/>
            <a:ext cx="2857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Tracht pijn uit h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verleden achter 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te laten en… kijk uit naar wat de toekomst nog brengen ka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14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mauvblanc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73" name="Text Box 3"/>
          <p:cNvSpPr/>
          <p:nvPr/>
        </p:nvSpPr>
        <p:spPr>
          <a:xfrm>
            <a:off x="696960" y="843120"/>
            <a:ext cx="387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Een glimlach is als een stukje « hemel »…en gratis…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tournsol2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5715000"/>
          </a:xfrm>
          <a:prstGeom prst="rect">
            <a:avLst/>
          </a:prstGeom>
          <a:ln w="114480">
            <a:solidFill>
              <a:srgbClr val="000000"/>
            </a:solidFill>
            <a:miter/>
          </a:ln>
        </p:spPr>
      </p:pic>
      <p:sp>
        <p:nvSpPr>
          <p:cNvPr id="75" name="Rectangle 7"/>
          <p:cNvSpPr/>
          <p:nvPr/>
        </p:nvSpPr>
        <p:spPr>
          <a:xfrm>
            <a:off x="1500120" y="5214960"/>
            <a:ext cx="592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Bezorg deze bloemetjes aan al jevrienden die je dierbaar zij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8e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tabletulipe"/>
          <p:cNvPicPr/>
          <p:nvPr/>
        </p:nvPicPr>
        <p:blipFill>
          <a:blip r:embed="rId1"/>
          <a:stretch/>
        </p:blipFill>
        <p:spPr>
          <a:xfrm>
            <a:off x="723960" y="533520"/>
            <a:ext cx="7696080" cy="5790960"/>
          </a:xfrm>
          <a:prstGeom prst="rect">
            <a:avLst/>
          </a:prstGeom>
          <a:ln w="60480">
            <a:solidFill>
              <a:srgbClr val="ffffff"/>
            </a:solidFill>
            <a:miter/>
          </a:ln>
        </p:spPr>
      </p:pic>
      <p:sp>
        <p:nvSpPr>
          <p:cNvPr id="77" name="Rectangle 4"/>
          <p:cNvSpPr/>
          <p:nvPr/>
        </p:nvSpPr>
        <p:spPr>
          <a:xfrm>
            <a:off x="714240" y="714240"/>
            <a:ext cx="242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Aan mensen die iets voor je betekenen…en van je houde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ab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violette"/>
          <p:cNvPicPr/>
          <p:nvPr/>
        </p:nvPicPr>
        <p:blipFill>
          <a:blip r:embed="rId1"/>
          <a:stretch/>
        </p:blipFill>
        <p:spPr>
          <a:xfrm>
            <a:off x="762120" y="533520"/>
            <a:ext cx="7696080" cy="5790960"/>
          </a:xfrm>
          <a:prstGeom prst="rect">
            <a:avLst/>
          </a:prstGeom>
          <a:ln w="69840">
            <a:solidFill>
              <a:srgbClr val="a14f99"/>
            </a:solidFill>
            <a:miter/>
          </a:ln>
        </p:spPr>
      </p:pic>
      <p:sp>
        <p:nvSpPr>
          <p:cNvPr id="79" name="Rectangle 4"/>
          <p:cNvSpPr/>
          <p:nvPr/>
        </p:nvSpPr>
        <p:spPr>
          <a:xfrm>
            <a:off x="1598760" y="5572080"/>
            <a:ext cx="61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Aan mensen die je een schouder aanbieden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rosemerveille"/>
          <p:cNvPicPr/>
          <p:nvPr/>
        </p:nvPicPr>
        <p:blipFill>
          <a:blip r:embed="rId1"/>
          <a:stretch/>
        </p:blipFill>
        <p:spPr>
          <a:xfrm>
            <a:off x="785880" y="71424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287280" y="38088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Aan mensen die je steunden wanneer het nodig was…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bd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rosepeche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5867280"/>
          </a:xfrm>
          <a:prstGeom prst="rect">
            <a:avLst/>
          </a:prstGeom>
          <a:ln w="69840">
            <a:solidFill>
              <a:srgbClr val="000000"/>
            </a:solidFill>
            <a:miter/>
          </a:ln>
        </p:spPr>
      </p:pic>
      <p:sp>
        <p:nvSpPr>
          <p:cNvPr id="83" name="Rectangle 4"/>
          <p:cNvSpPr/>
          <p:nvPr/>
        </p:nvSpPr>
        <p:spPr>
          <a:xfrm>
            <a:off x="1304640" y="534960"/>
            <a:ext cx="66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Aan al deze lieve mensen wil jij immers zeggen…</a:t>
            </a: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bleuseul"/>
          <p:cNvPicPr/>
          <p:nvPr/>
        </p:nvPicPr>
        <p:blipFill>
          <a:blip r:embed="rId1"/>
          <a:stretch/>
        </p:blipFill>
        <p:spPr>
          <a:xfrm>
            <a:off x="571680" y="428760"/>
            <a:ext cx="4929120" cy="591156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  <p:sp>
        <p:nvSpPr>
          <p:cNvPr id="85" name="Text Box 5"/>
          <p:cNvSpPr/>
          <p:nvPr/>
        </p:nvSpPr>
        <p:spPr>
          <a:xfrm>
            <a:off x="6286680" y="4000680"/>
            <a:ext cx="241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Dat je hun vriendschap op prijs stelt …dat je zonder hen niet  verder ka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bouqmarguerit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5639040"/>
          </a:xfrm>
          <a:prstGeom prst="rect">
            <a:avLst/>
          </a:prstGeom>
          <a:ln w="108000">
            <a:solidFill>
              <a:srgbClr val="ffffff"/>
            </a:solidFill>
            <a:miter/>
          </a:ln>
        </p:spPr>
      </p:pic>
      <p:sp>
        <p:nvSpPr>
          <p:cNvPr id="87" name="Rectangle 6"/>
          <p:cNvSpPr/>
          <p:nvPr/>
        </p:nvSpPr>
        <p:spPr>
          <a:xfrm>
            <a:off x="1600200" y="533412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Want dankzij hen kan je vooruit in ‘t leven ook wanneer het je eens moeilijk gaat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DSC_6013b"/>
          <p:cNvPicPr/>
          <p:nvPr/>
        </p:nvPicPr>
        <p:blipFill>
          <a:blip r:embed="rId1"/>
          <a:stretch/>
        </p:blipFill>
        <p:spPr>
          <a:xfrm>
            <a:off x="642960" y="571680"/>
            <a:ext cx="7858080" cy="5533920"/>
          </a:xfrm>
          <a:prstGeom prst="rect">
            <a:avLst/>
          </a:prstGeom>
          <a:ln w="127080">
            <a:solidFill>
              <a:srgbClr val="ffffff"/>
            </a:solidFill>
            <a:miter/>
          </a:ln>
        </p:spPr>
      </p:pic>
      <p:sp>
        <p:nvSpPr>
          <p:cNvPr id="89" name="Rechthoek 5"/>
          <p:cNvSpPr/>
          <p:nvPr/>
        </p:nvSpPr>
        <p:spPr>
          <a:xfrm>
            <a:off x="1839240" y="6286680"/>
            <a:ext cx="57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Comic Sans MS"/>
              </a:rPr>
              <a:t>Bedankt allemaal … Veel liefs en groetjes van mi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nenuph"/>
          <p:cNvPicPr/>
          <p:nvPr/>
        </p:nvPicPr>
        <p:blipFill>
          <a:blip r:embed="rId2"/>
          <a:stretch/>
        </p:blipFill>
        <p:spPr>
          <a:xfrm>
            <a:off x="533520" y="571680"/>
            <a:ext cx="8076960" cy="5715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1" name="Text Box 4"/>
          <p:cNvSpPr/>
          <p:nvPr/>
        </p:nvSpPr>
        <p:spPr>
          <a:xfrm>
            <a:off x="914400" y="7621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Droom van de mooie dingen die het leven je te bieden heef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9f5b"/>
            </a:gs>
            <a:gs pos="100000">
              <a:srgbClr val="624a2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margueritepluie"/>
          <p:cNvPicPr/>
          <p:nvPr/>
        </p:nvPicPr>
        <p:blipFill>
          <a:blip r:embed="rId1"/>
          <a:stretch/>
        </p:blipFill>
        <p:spPr>
          <a:xfrm>
            <a:off x="609480" y="533520"/>
            <a:ext cx="8001000" cy="5873760"/>
          </a:xfrm>
          <a:prstGeom prst="rect">
            <a:avLst/>
          </a:prstGeom>
          <a:ln w="92160">
            <a:solidFill>
              <a:srgbClr val="ffffff"/>
            </a:solidFill>
            <a:miter/>
          </a:ln>
        </p:spPr>
      </p:pic>
      <p:sp>
        <p:nvSpPr>
          <p:cNvPr id="53" name="Text Box 3"/>
          <p:cNvSpPr/>
          <p:nvPr/>
        </p:nvSpPr>
        <p:spPr>
          <a:xfrm>
            <a:off x="1055880" y="763560"/>
            <a:ext cx="56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 je ook op je levensweg mag vinde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hjfleurorange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639040"/>
          </a:xfrm>
          <a:prstGeom prst="rect">
            <a:avLst/>
          </a:prstGeom>
          <a:ln w="63360">
            <a:solidFill>
              <a:srgbClr val="babdde"/>
            </a:solidFill>
            <a:miter/>
          </a:ln>
        </p:spPr>
      </p:pic>
      <p:sp>
        <p:nvSpPr>
          <p:cNvPr id="55" name="Text Box 6"/>
          <p:cNvSpPr/>
          <p:nvPr/>
        </p:nvSpPr>
        <p:spPr>
          <a:xfrm>
            <a:off x="990720" y="51055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Times New Roman"/>
              </a:rPr>
              <a:t>Genoeg geluk om rustig te blijven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rosedamasG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639040"/>
          </a:xfrm>
          <a:prstGeom prst="rect">
            <a:avLst/>
          </a:prstGeom>
          <a:ln w="76320">
            <a:solidFill>
              <a:srgbClr val="333300"/>
            </a:solidFill>
            <a:miter/>
          </a:ln>
        </p:spPr>
      </p:pic>
      <p:sp>
        <p:nvSpPr>
          <p:cNvPr id="57" name="Text Box 6"/>
          <p:cNvSpPr/>
          <p:nvPr/>
        </p:nvSpPr>
        <p:spPr>
          <a:xfrm>
            <a:off x="1371600" y="10666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1143000" y="9288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Times New Roman"/>
              </a:rPr>
              <a:t>Genoeg kansen om jezelf te ontdekke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luietulipes"/>
          <p:cNvPicPr/>
          <p:nvPr/>
        </p:nvPicPr>
        <p:blipFill>
          <a:blip r:embed="rId2"/>
          <a:stretch/>
        </p:blipFill>
        <p:spPr>
          <a:xfrm>
            <a:off x="685800" y="609480"/>
            <a:ext cx="7772400" cy="5639040"/>
          </a:xfrm>
          <a:prstGeom prst="rect">
            <a:avLst/>
          </a:prstGeom>
          <a:ln w="101520">
            <a:solidFill>
              <a:srgbClr val="fff4bf"/>
            </a:solidFill>
            <a:miter/>
          </a:ln>
        </p:spPr>
      </p:pic>
      <p:sp>
        <p:nvSpPr>
          <p:cNvPr id="60" name="Text Box 3"/>
          <p:cNvSpPr/>
          <p:nvPr/>
        </p:nvSpPr>
        <p:spPr>
          <a:xfrm>
            <a:off x="971640" y="18900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cc66"/>
                </a:solidFill>
                <a:latin typeface="Bradley Hand ITC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285920" y="55008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Times New Roman"/>
              </a:rPr>
              <a:t>Genoeg leed om dit te kunnen blijven drage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1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irisjaune2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410080"/>
          </a:xfrm>
          <a:prstGeom prst="rect">
            <a:avLst/>
          </a:prstGeom>
          <a:ln w="152280">
            <a:solidFill>
              <a:srgbClr val="6a7e04"/>
            </a:solidFill>
            <a:miter/>
          </a:ln>
        </p:spPr>
      </p:pic>
      <p:sp>
        <p:nvSpPr>
          <p:cNvPr id="63" name="Text Box 5"/>
          <p:cNvSpPr/>
          <p:nvPr/>
        </p:nvSpPr>
        <p:spPr>
          <a:xfrm>
            <a:off x="4189320" y="193680"/>
            <a:ext cx="57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2b5e3f"/>
                </a:solidFill>
                <a:latin typeface="Bradley Hand ITC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1371600" y="9907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Times New Roman"/>
              </a:rPr>
              <a:t>Genoeg hoop om toch gelukkig te zijn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grosmargorange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5715000"/>
          </a:xfrm>
          <a:prstGeom prst="rect">
            <a:avLst/>
          </a:prstGeom>
          <a:ln w="73080">
            <a:solidFill>
              <a:srgbClr val="ff801b"/>
            </a:solidFill>
            <a:miter/>
          </a:ln>
        </p:spPr>
      </p:pic>
      <p:sp>
        <p:nvSpPr>
          <p:cNvPr id="66" name="Rectangle 7"/>
          <p:cNvSpPr/>
          <p:nvPr/>
        </p:nvSpPr>
        <p:spPr>
          <a:xfrm>
            <a:off x="785880" y="4643280"/>
            <a:ext cx="61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Gelukkige mensen hoeven daarom niet altijd alles te hebben…geluk zit in de kleine dingen van elke dag…de zon… de vogels …in de lucht …de bloemen die ontluiken 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ab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dahliarose"/>
          <p:cNvPicPr/>
          <p:nvPr/>
        </p:nvPicPr>
        <p:blipFill>
          <a:blip r:embed="rId1"/>
          <a:stretch/>
        </p:blipFill>
        <p:spPr>
          <a:xfrm>
            <a:off x="723960" y="571680"/>
            <a:ext cx="7696080" cy="5715000"/>
          </a:xfrm>
          <a:prstGeom prst="rect">
            <a:avLst/>
          </a:prstGeom>
          <a:ln w="82440">
            <a:solidFill>
              <a:srgbClr val="e08aa7"/>
            </a:solidFill>
            <a:miter/>
          </a:ln>
        </p:spPr>
      </p:pic>
      <p:sp>
        <p:nvSpPr>
          <p:cNvPr id="68" name="Text Box 5"/>
          <p:cNvSpPr/>
          <p:nvPr/>
        </p:nvSpPr>
        <p:spPr>
          <a:xfrm>
            <a:off x="2195640" y="333360"/>
            <a:ext cx="21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857160" y="5000760"/>
            <a:ext cx="52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Times New Roman"/>
              </a:rPr>
              <a:t>Eenieder wordt geconfronteerd met goede en minder goede dingen…het is de kunst hiermee om te gaa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9:11:40Z</dcterms:created>
  <dc:creator/>
  <dc:description/>
  <dc:language>en-US</dc:language>
  <cp:lastModifiedBy>Maggy</cp:lastModifiedBy>
  <dcterms:modified xsi:type="dcterms:W3CDTF">2009-02-08T11:26:09Z</dcterms:modified>
  <cp:revision>55</cp:revision>
  <dc:subject/>
  <dc:title>MERCI</dc:title>
</cp:coreProperties>
</file>