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6.jpeg" ContentType="image/jpeg"/>
  <Override PartName="/ppt/media/Mouskouri_Nana-lamour_en_heritage.wav" ContentType="audio/x-wav"/>
  <Override PartName="/ppt/media/image13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031A-F039-4A1B-8E27-216DC4F06171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9506-131C-4A37-B78E-2EAE6CAAFBA4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992E-789F-4D96-B3F6-23B5781CFC7F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4D2C-E02E-4231-9F8F-B5B07B54E2A3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B572-ABE6-406D-9080-0732C0AEA391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2103-05DE-417B-9DDD-00FF96FADDF7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2794-D045-441D-8EA2-2FF6559F6F76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37CB-2462-4957-BF67-E96D8C5E9EB8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416D-4CA7-4A60-9E59-D04ACED80FD9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14C2-3A9F-4EB2-A29D-D4205FA034A7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7D36-0376-439C-8CED-3CC34239A097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164C-78D9-4D39-8990-340FA178E02C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68EB-7730-4084-96DE-6F1048FDBDD1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389D-76B1-4966-88C8-AD403C0F85E6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F807-F091-453D-ACA1-4A60511A06D8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47C9-1066-489B-B4E2-5CB86380EE8A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47D5-ACC8-43EB-B72D-B6CA7B961871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7720-BF96-4E9C-843A-C8C900EBFA04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A762-1B4D-431D-9E4F-B26B831CAD78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3CB3-2D1E-4CB0-BA0A-035E9B7D8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0613-3D90-424F-B4F6-59C5C875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A6B2-A062-4A67-BB12-F8E9A34C8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0AA2-257D-47FF-A94B-A37F8625E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CE4A-F328-4F98-B99F-AF6B05E4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724D-F839-4B48-ACAF-2C8A4D61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D6D8-784A-4E04-95DA-531E39E4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FA83-FB03-4301-A7A9-62A54D87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E6DA-32A3-4DD6-B33F-DB06458A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45B2-1002-47F7-B289-053DC047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F9B7-13AB-4C34-8CBC-164BFE7B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7E74-ACF8-490E-B7D6-A7ADB9C0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2777-0AF6-40EC-867D-6843ABDD31A0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ouskouri_Nana-lamour_en_heritag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58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bqtrose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54000">
            <a:solidFill>
              <a:srgbClr val="bd1555"/>
            </a:solidFill>
            <a:miter/>
          </a:ln>
        </p:spPr>
      </p:pic>
      <p:sp>
        <p:nvSpPr>
          <p:cNvPr id="49" name="Text Box 3"/>
          <p:cNvSpPr/>
          <p:nvPr/>
        </p:nvSpPr>
        <p:spPr>
          <a:xfrm>
            <a:off x="1214280" y="642960"/>
            <a:ext cx="686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Er zijn momenten in het le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dat men de anderen mis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fade/>
    <p:sndAc>
      <p:stSnd>
        <p:snd r:embed="rId2" name="Mouskouri_Nana-lamour_en_heritag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fleurbleue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104760">
            <a:solidFill>
              <a:srgbClr val="ffffff"/>
            </a:solidFill>
            <a:miter/>
          </a:ln>
        </p:spPr>
      </p:pic>
      <p:sp>
        <p:nvSpPr>
          <p:cNvPr id="71" name="Text Box 3"/>
          <p:cNvSpPr/>
          <p:nvPr/>
        </p:nvSpPr>
        <p:spPr>
          <a:xfrm>
            <a:off x="5572080" y="3786120"/>
            <a:ext cx="2857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Tracht pijn uit h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verleden achter 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te laten en… kijk uit naar wat de toekomst nog brengen ka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14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mauvblanc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73" name="Text Box 3"/>
          <p:cNvSpPr/>
          <p:nvPr/>
        </p:nvSpPr>
        <p:spPr>
          <a:xfrm>
            <a:off x="696960" y="843120"/>
            <a:ext cx="387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Een glimlach is als een stukje « hemel »…en gratis…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tournsol2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571500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  <p:sp>
        <p:nvSpPr>
          <p:cNvPr id="75" name="Rectangle 7"/>
          <p:cNvSpPr/>
          <p:nvPr/>
        </p:nvSpPr>
        <p:spPr>
          <a:xfrm>
            <a:off x="1500120" y="5214960"/>
            <a:ext cx="592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Bezorg deze bloemetjes aan al jevrienden die je dierbaar zij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tabletulipe"/>
          <p:cNvPicPr/>
          <p:nvPr/>
        </p:nvPicPr>
        <p:blipFill>
          <a:blip r:embed="rId1"/>
          <a:stretch/>
        </p:blipFill>
        <p:spPr>
          <a:xfrm>
            <a:off x="723960" y="533520"/>
            <a:ext cx="7696080" cy="5790960"/>
          </a:xfrm>
          <a:prstGeom prst="rect">
            <a:avLst/>
          </a:prstGeom>
          <a:ln w="60480">
            <a:solidFill>
              <a:srgbClr val="ffffff"/>
            </a:solidFill>
            <a:miter/>
          </a:ln>
        </p:spPr>
      </p:pic>
      <p:sp>
        <p:nvSpPr>
          <p:cNvPr id="77" name="Rectangle 4"/>
          <p:cNvSpPr/>
          <p:nvPr/>
        </p:nvSpPr>
        <p:spPr>
          <a:xfrm>
            <a:off x="714240" y="714240"/>
            <a:ext cx="242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Aan mensen die iets voor je betekenen…en van je houde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ab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violette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790960"/>
          </a:xfrm>
          <a:prstGeom prst="rect">
            <a:avLst/>
          </a:prstGeom>
          <a:ln w="69840">
            <a:solidFill>
              <a:srgbClr val="a14f99"/>
            </a:solidFill>
            <a:miter/>
          </a:ln>
        </p:spPr>
      </p:pic>
      <p:sp>
        <p:nvSpPr>
          <p:cNvPr id="79" name="Rectangle 4"/>
          <p:cNvSpPr/>
          <p:nvPr/>
        </p:nvSpPr>
        <p:spPr>
          <a:xfrm>
            <a:off x="1598760" y="5572080"/>
            <a:ext cx="61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Aan mensen die je een schouder aanbieden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rosemerveille"/>
          <p:cNvPicPr/>
          <p:nvPr/>
        </p:nvPicPr>
        <p:blipFill>
          <a:blip r:embed="rId1"/>
          <a:stretch/>
        </p:blipFill>
        <p:spPr>
          <a:xfrm>
            <a:off x="785880" y="71424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287280" y="38088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Aan mensen die je steunden wanneer het nodig was…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bd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rosepeche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5867280"/>
          </a:xfrm>
          <a:prstGeom prst="rect">
            <a:avLst/>
          </a:prstGeom>
          <a:ln w="69840">
            <a:solidFill>
              <a:srgbClr val="000000"/>
            </a:solidFill>
            <a:miter/>
          </a:ln>
        </p:spPr>
      </p:pic>
      <p:sp>
        <p:nvSpPr>
          <p:cNvPr id="83" name="Rectangle 4"/>
          <p:cNvSpPr/>
          <p:nvPr/>
        </p:nvSpPr>
        <p:spPr>
          <a:xfrm>
            <a:off x="1304640" y="534960"/>
            <a:ext cx="66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Aan al deze lieve mensen wil jij immers zeggen…</a:t>
            </a: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bleuseul"/>
          <p:cNvPicPr/>
          <p:nvPr/>
        </p:nvPicPr>
        <p:blipFill>
          <a:blip r:embed="rId1"/>
          <a:stretch/>
        </p:blipFill>
        <p:spPr>
          <a:xfrm>
            <a:off x="571680" y="428760"/>
            <a:ext cx="4929120" cy="591156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  <p:sp>
        <p:nvSpPr>
          <p:cNvPr id="85" name="Text Box 5"/>
          <p:cNvSpPr/>
          <p:nvPr/>
        </p:nvSpPr>
        <p:spPr>
          <a:xfrm>
            <a:off x="6286680" y="4000680"/>
            <a:ext cx="241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Dat je hun vriendschap op prijs stelt …dat je zonder hen niet  verder ka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bouqmarguerit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639040"/>
          </a:xfrm>
          <a:prstGeom prst="rect">
            <a:avLst/>
          </a:prstGeom>
          <a:ln w="108000">
            <a:solidFill>
              <a:srgbClr val="ffffff"/>
            </a:solidFill>
            <a:miter/>
          </a:ln>
        </p:spPr>
      </p:pic>
      <p:sp>
        <p:nvSpPr>
          <p:cNvPr id="87" name="Rectangle 6"/>
          <p:cNvSpPr/>
          <p:nvPr/>
        </p:nvSpPr>
        <p:spPr>
          <a:xfrm>
            <a:off x="1600200" y="533412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Want dankzij hen kan je vooruit in ‘t leven ook wanneer het je eens moeilijk gaat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DSC_6013b"/>
          <p:cNvPicPr/>
          <p:nvPr/>
        </p:nvPicPr>
        <p:blipFill>
          <a:blip r:embed="rId1"/>
          <a:stretch/>
        </p:blipFill>
        <p:spPr>
          <a:xfrm>
            <a:off x="642960" y="571680"/>
            <a:ext cx="7858080" cy="553392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  <p:sp>
        <p:nvSpPr>
          <p:cNvPr id="89" name="Rechthoek 5"/>
          <p:cNvSpPr/>
          <p:nvPr/>
        </p:nvSpPr>
        <p:spPr>
          <a:xfrm>
            <a:off x="1839240" y="6286680"/>
            <a:ext cx="57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Comic Sans MS"/>
              </a:rPr>
              <a:t>Bedankt allemaal … Veel liefs en groetjes van mi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nenuph"/>
          <p:cNvPicPr/>
          <p:nvPr/>
        </p:nvPicPr>
        <p:blipFill>
          <a:blip r:embed="rId2"/>
          <a:stretch/>
        </p:blipFill>
        <p:spPr>
          <a:xfrm>
            <a:off x="533520" y="571680"/>
            <a:ext cx="8076960" cy="5715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1" name="Text Box 4"/>
          <p:cNvSpPr/>
          <p:nvPr/>
        </p:nvSpPr>
        <p:spPr>
          <a:xfrm>
            <a:off x="914400" y="7621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Droom van de mooie dingen die het leven je te bieden heef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9f5b"/>
            </a:gs>
            <a:gs pos="100000">
              <a:srgbClr val="624a2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margueritepluie"/>
          <p:cNvPicPr/>
          <p:nvPr/>
        </p:nvPicPr>
        <p:blipFill>
          <a:blip r:embed="rId1"/>
          <a:stretch/>
        </p:blipFill>
        <p:spPr>
          <a:xfrm>
            <a:off x="609480" y="533520"/>
            <a:ext cx="8001000" cy="5873760"/>
          </a:xfrm>
          <a:prstGeom prst="rect">
            <a:avLst/>
          </a:prstGeom>
          <a:ln w="92160">
            <a:solidFill>
              <a:srgbClr val="ffffff"/>
            </a:solidFill>
            <a:miter/>
          </a:ln>
        </p:spPr>
      </p:pic>
      <p:sp>
        <p:nvSpPr>
          <p:cNvPr id="53" name="Text Box 3"/>
          <p:cNvSpPr/>
          <p:nvPr/>
        </p:nvSpPr>
        <p:spPr>
          <a:xfrm>
            <a:off x="1055880" y="763560"/>
            <a:ext cx="56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 je ook op je levensweg mag vinde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hjfleurorange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639040"/>
          </a:xfrm>
          <a:prstGeom prst="rect">
            <a:avLst/>
          </a:prstGeom>
          <a:ln w="63360">
            <a:solidFill>
              <a:srgbClr val="babdde"/>
            </a:solidFill>
            <a:miter/>
          </a:ln>
        </p:spPr>
      </p:pic>
      <p:sp>
        <p:nvSpPr>
          <p:cNvPr id="55" name="Text Box 6"/>
          <p:cNvSpPr/>
          <p:nvPr/>
        </p:nvSpPr>
        <p:spPr>
          <a:xfrm>
            <a:off x="990720" y="51055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Times New Roman"/>
              </a:rPr>
              <a:t>Genoeg geluk om rustig te blijven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rosedamasG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639040"/>
          </a:xfrm>
          <a:prstGeom prst="rect">
            <a:avLst/>
          </a:prstGeom>
          <a:ln w="76320">
            <a:solidFill>
              <a:srgbClr val="333300"/>
            </a:solidFill>
            <a:miter/>
          </a:ln>
        </p:spPr>
      </p:pic>
      <p:sp>
        <p:nvSpPr>
          <p:cNvPr id="57" name="Text Box 6"/>
          <p:cNvSpPr/>
          <p:nvPr/>
        </p:nvSpPr>
        <p:spPr>
          <a:xfrm>
            <a:off x="1371600" y="10666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1143000" y="9288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Times New Roman"/>
              </a:rPr>
              <a:t>Genoeg kansen om jezelf te ontdekke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luietulipes"/>
          <p:cNvPicPr/>
          <p:nvPr/>
        </p:nvPicPr>
        <p:blipFill>
          <a:blip r:embed="rId2"/>
          <a:stretch/>
        </p:blipFill>
        <p:spPr>
          <a:xfrm>
            <a:off x="685800" y="609480"/>
            <a:ext cx="7772400" cy="5639040"/>
          </a:xfrm>
          <a:prstGeom prst="rect">
            <a:avLst/>
          </a:prstGeom>
          <a:ln w="101520">
            <a:solidFill>
              <a:srgbClr val="fff4bf"/>
            </a:solidFill>
            <a:miter/>
          </a:ln>
        </p:spPr>
      </p:pic>
      <p:sp>
        <p:nvSpPr>
          <p:cNvPr id="60" name="Text Box 3"/>
          <p:cNvSpPr/>
          <p:nvPr/>
        </p:nvSpPr>
        <p:spPr>
          <a:xfrm>
            <a:off x="971640" y="18900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cc66"/>
                </a:solidFill>
                <a:latin typeface="Bradley Hand ITC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285920" y="55008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Times New Roman"/>
              </a:rPr>
              <a:t>Genoeg leed om dit te kunnen blijven drage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irisjaune2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410080"/>
          </a:xfrm>
          <a:prstGeom prst="rect">
            <a:avLst/>
          </a:prstGeom>
          <a:ln w="152280">
            <a:solidFill>
              <a:srgbClr val="6a7e04"/>
            </a:solidFill>
            <a:miter/>
          </a:ln>
        </p:spPr>
      </p:pic>
      <p:sp>
        <p:nvSpPr>
          <p:cNvPr id="63" name="Text Box 5"/>
          <p:cNvSpPr/>
          <p:nvPr/>
        </p:nvSpPr>
        <p:spPr>
          <a:xfrm>
            <a:off x="4189320" y="193680"/>
            <a:ext cx="57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b5e3f"/>
                </a:solidFill>
                <a:latin typeface="Bradley Hand ITC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1371600" y="9907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Times New Roman"/>
              </a:rPr>
              <a:t>Genoeg hoop om toch gelukkig te zijn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grosmargorange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5715000"/>
          </a:xfrm>
          <a:prstGeom prst="rect">
            <a:avLst/>
          </a:prstGeom>
          <a:ln w="73080">
            <a:solidFill>
              <a:srgbClr val="ff801b"/>
            </a:solidFill>
            <a:miter/>
          </a:ln>
        </p:spPr>
      </p:pic>
      <p:sp>
        <p:nvSpPr>
          <p:cNvPr id="66" name="Rectangle 7"/>
          <p:cNvSpPr/>
          <p:nvPr/>
        </p:nvSpPr>
        <p:spPr>
          <a:xfrm>
            <a:off x="785880" y="4643280"/>
            <a:ext cx="61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Gelukkige mensen hoeven daarom niet altijd alles te hebben…geluk zit in de kleine dingen van elke dag…de zon… de vogels …in de lucht …de bloemen die ontluiken 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a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dahliarose"/>
          <p:cNvPicPr/>
          <p:nvPr/>
        </p:nvPicPr>
        <p:blipFill>
          <a:blip r:embed="rId1"/>
          <a:stretch/>
        </p:blipFill>
        <p:spPr>
          <a:xfrm>
            <a:off x="723960" y="571680"/>
            <a:ext cx="7696080" cy="5715000"/>
          </a:xfrm>
          <a:prstGeom prst="rect">
            <a:avLst/>
          </a:prstGeom>
          <a:ln w="82440">
            <a:solidFill>
              <a:srgbClr val="e08aa7"/>
            </a:solidFill>
            <a:miter/>
          </a:ln>
        </p:spPr>
      </p:pic>
      <p:sp>
        <p:nvSpPr>
          <p:cNvPr id="68" name="Text Box 5"/>
          <p:cNvSpPr/>
          <p:nvPr/>
        </p:nvSpPr>
        <p:spPr>
          <a:xfrm>
            <a:off x="2195640" y="333360"/>
            <a:ext cx="21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857160" y="5000760"/>
            <a:ext cx="52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Eenieder wordt geconfronteerd met goede en minder goede dingen…het is de kunst hiermee om te gaa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9:11:40Z</dcterms:created>
  <dc:creator/>
  <dc:description/>
  <dc:language>en-US</dc:language>
  <cp:lastModifiedBy>Maggy</cp:lastModifiedBy>
  <dcterms:modified xsi:type="dcterms:W3CDTF">2009-02-08T11:26:09Z</dcterms:modified>
  <cp:revision>55</cp:revision>
  <dc:subject/>
  <dc:title>MERCI</dc:title>
</cp:coreProperties>
</file>