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476-CD9E-44D2-BC6C-2B19824E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48E-D84B-404D-BDDD-FF15AF3C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8E2-4E02-4083-8B47-0FA69F4F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EA8-58DF-4C17-8B07-12531774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02B1-1695-44A4-AABB-748F3A45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9FAC-D2E6-43E0-B52A-989FF50C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006F-4013-4D02-85F8-5649EEC6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E04B-9488-422C-9F6F-DDD39375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05DD-A05D-41C8-8685-DBF1FEE2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C8F4-7D12-480A-877F-6EDA66A9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4FD2-AC60-44CB-BD66-2DD44F5F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1E8-6634-4B61-B6F8-A1F5AAA5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2F26-1438-4A43-8305-C6527F85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6976-5B7D-48EA-982C-A3533D7B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E5F9-3400-42BC-BCAD-5060E495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3CBE-DE30-4241-8D28-1B3E3586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1CED-9E4D-4EAB-A39D-AF539DDE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B8A-4232-42CE-93F6-6F00C159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B73-E4FC-42E6-A022-1280256E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DFC-2469-441E-A0C1-3BC79FFA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986-EF83-4AA6-9301-E7AFF779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BBA-BA15-4AD2-89DF-4C5098E5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78C-E726-4702-B180-F136B7FE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5BD-A229-4CDD-8540-C4AC8B49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2496-7ADC-4DDA-AD89-5FBE500E288C}" type="slidenum"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F30E-BA7A-4A47-A877-3E67F90A74F2}" type="slidenum"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708360" y="1989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3300"/>
                </a:solidFill>
                <a:latin typeface="AvantGarde Bk BT"/>
              </a:rPr>
              <a:t>VAN </a:t>
            </a:r>
            <a:r>
              <a:rPr b="1" lang="pt-BR" sz="3200" spc="-1" strike="noStrike">
                <a:solidFill>
                  <a:srgbClr val="cc9900"/>
                </a:solidFill>
                <a:latin typeface="AvantGarde Bk BT"/>
              </a:rPr>
              <a:t>GOGH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1628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8e2"/>
                </a:solidFill>
                <a:latin typeface="AvantGarde Bk BT"/>
              </a:rPr>
              <a:t>V  I N  C  E  N  T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a38d77"/>
          </a:solidFill>
          <a:ln w="9360">
            <a:solidFill>
              <a:srgbClr val="a38d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2492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Times New Roman"/>
              </a:rPr>
              <a:t>(1853-1890)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3068640"/>
            <a:ext cx="7993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joy the paintings with the music and lyrics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the greatest impact and the most enjoyment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ease just let the slides advanc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utomatically in sync with the music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’ll definitely want your speakers turned on for this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76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Times New Roman"/>
              </a:rPr>
              <a:t>Music: Vincent (Starry, Starry Night)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Times New Roman"/>
              </a:rPr>
              <a:t>Composed &amp; Performed by Don Mclean    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4120" y="5322960"/>
            <a:ext cx="793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w, press the space bar or mouse click to begin, then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t back and let the show run itself.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8000" y="47628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Times New Roman"/>
              </a:rPr>
              <a:t>perhaps they'll listen now.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12000" y="4149720"/>
            <a:ext cx="2916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dbc03"/>
                </a:solidFill>
                <a:latin typeface="Times New Roman"/>
              </a:rPr>
              <a:t>Starry, starry night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6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284720" y="627696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dbc03"/>
                </a:solidFill>
                <a:latin typeface="Times New Roman"/>
              </a:rPr>
              <a:t>flaming flowers that brightly blaze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6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80536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ca302"/>
                </a:solidFill>
                <a:latin typeface="Times New Roman"/>
              </a:rPr>
              <a:t>swirling</a:t>
            </a:r>
            <a:r>
              <a:rPr b="1" lang="pt-BR" sz="2400" spc="-1" strike="noStrike">
                <a:solidFill>
                  <a:srgbClr val="fdbc03"/>
                </a:solidFill>
                <a:latin typeface="Times New Roman"/>
              </a:rPr>
              <a:t> clouds in violet haz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2160" y="6165720"/>
            <a:ext cx="52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dbc03"/>
                </a:solidFill>
                <a:latin typeface="Times New Roman"/>
              </a:rPr>
              <a:t>reflect in Vincent's eyes of China blue.</a:t>
            </a:r>
            <a:r>
              <a:rPr b="1" lang="pt-BR" sz="2400" spc="-1" strike="noStrike">
                <a:solidFill>
                  <a:srgbClr val="99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9000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00000" y="6237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Colors changing hue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6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0" y="228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2602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50021"/>
                </a:solidFill>
                <a:latin typeface="Times New Roman"/>
              </a:rPr>
              <a:t>morning fields of amber grain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6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670720"/>
            <a:ext cx="64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7ca5a"/>
                </a:solidFill>
                <a:latin typeface="Times New Roman"/>
              </a:rPr>
              <a:t>weathered faces lined in pain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4920" y="616572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7ca5a"/>
                </a:solidFill>
                <a:latin typeface="Times New Roman"/>
              </a:rPr>
              <a:t>are soothed beneath the artist's loving hand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9000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95640" y="3333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c2400"/>
                </a:solidFill>
                <a:latin typeface="Times New Roman"/>
              </a:rPr>
              <a:t>Now I understand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6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47640" y="649116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0464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3300"/>
                </a:solidFill>
                <a:latin typeface="Times New Roman"/>
              </a:rPr>
              <a:t>what you tried to say to me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52560" y="78588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3300"/>
                </a:solidFill>
                <a:latin typeface="Times New Roman"/>
              </a:rPr>
              <a:t>how you suffered for your sanity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32360" y="119700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3300"/>
                </a:solidFill>
                <a:latin typeface="Times New Roman"/>
              </a:rPr>
              <a:t>how you tried to set them free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4000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0464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3300"/>
                </a:solidFill>
                <a:latin typeface="Times New Roman"/>
              </a:rPr>
              <a:t>They would not listen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3300"/>
                </a:solidFill>
                <a:latin typeface="Times New Roman"/>
              </a:rPr>
              <a:t>They did not know how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3640" y="1341360"/>
            <a:ext cx="36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3300"/>
                </a:solidFill>
                <a:latin typeface="Times New Roman"/>
              </a:rPr>
              <a:t>Perhaps they'll listen now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300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1708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544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tarry, starry night,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720" y="5950080"/>
            <a:ext cx="49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Times New Roman"/>
              </a:rPr>
              <a:t>paint your palette blue and grey.</a:t>
            </a:r>
            <a:r>
              <a:rPr b="0" lang="pt-BR" sz="2400" spc="-1" strike="noStrike">
                <a:solidFill>
                  <a:srgbClr val="9933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4000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00360" y="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For they could not love you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6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958d8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75200" cy="6958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45280" y="184464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694a5"/>
                </a:solidFill>
                <a:latin typeface="Times New Roman"/>
              </a:rPr>
              <a:t>but still your love was true,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2421000"/>
            <a:ext cx="29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694a5"/>
                </a:solidFill>
                <a:latin typeface="Times New Roman"/>
              </a:rPr>
              <a:t>and when no hope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694a5"/>
                </a:solidFill>
                <a:latin typeface="Times New Roman"/>
              </a:rPr>
              <a:t>was left in sight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694a5"/>
                </a:solidFill>
                <a:latin typeface="Times New Roman"/>
              </a:rPr>
              <a:t>on that starry, starry night,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4000"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032360" y="213372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64400"/>
                </a:solidFill>
                <a:latin typeface="Times New Roman"/>
              </a:rPr>
              <a:t>You took your life as lovers often do;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49640" y="2728800"/>
            <a:ext cx="470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64400"/>
                </a:solidFill>
                <a:latin typeface="Times New Roman"/>
              </a:rPr>
              <a:t>But I could have told you, Vincent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his world was never meant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or one as beautiful as you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23000"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12000" y="627696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Starry, starry night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6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067280" y="6276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portraits hung in empty halls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6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9280" y="26028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3300"/>
                </a:solidFill>
                <a:latin typeface="Times New Roman"/>
              </a:rPr>
              <a:t>frameless heads on nameless walls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4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5280" y="54450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29002"/>
                </a:solidFill>
                <a:latin typeface="Times New Roman"/>
              </a:rPr>
              <a:t>with eyes that watch the world and can't forget.         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0200" y="6021360"/>
            <a:ext cx="47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29002"/>
                </a:solidFill>
                <a:latin typeface="Times New Roman"/>
              </a:rPr>
              <a:t>Like the strangers that you've met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1000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284720" y="981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50021"/>
                </a:solidFill>
                <a:latin typeface="Times New Roman"/>
              </a:rPr>
              <a:t>the ragged men in ragged clothes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7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47640" y="64008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911920"/>
            <a:ext cx="74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Times New Roman"/>
              </a:rPr>
              <a:t>the silver thorn of bloody rose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Times New Roman"/>
              </a:rPr>
              <a:t>lie crushed and broken on the virgin snow.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0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47640" y="22860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64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Now I think I know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1480" y="4149720"/>
            <a:ext cx="37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what you tried to say to me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1480" y="4653000"/>
            <a:ext cx="45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how you suffered for your sanity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7000"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76360" y="4869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ook out on a summer's day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advTm="3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3520" y="66294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4581360"/>
            <a:ext cx="69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Times New Roman"/>
              </a:rPr>
              <a:t>how you tried to set them free.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8480" y="5157720"/>
            <a:ext cx="456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Times New Roman"/>
              </a:rPr>
              <a:t>They would not listen.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Times New Roman"/>
              </a:rPr>
              <a:t>They're not list’ning still.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1000"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32000" y="119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Times New Roman"/>
              </a:rPr>
              <a:t>Perhaps, 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5800" y="1197000"/>
            <a:ext cx="24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Times New Roman"/>
              </a:rPr>
              <a:t>they never will.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2000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3049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cc"/>
                </a:solidFill>
                <a:latin typeface="AvantGarde Md BT"/>
              </a:rPr>
              <a:t>V  I  N  C  E  N  T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33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vantGarde Bk BT"/>
              </a:rPr>
              <a:t>VAN</a:t>
            </a:r>
            <a:r>
              <a:rPr b="1" lang="en-US" sz="2000" spc="-1" strike="noStrike">
                <a:solidFill>
                  <a:srgbClr val="cc9900"/>
                </a:solidFill>
                <a:latin typeface="AvantGarde Bk BT"/>
              </a:rPr>
              <a:t>GOGH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589720"/>
            <a:ext cx="67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I hope you enjoyed the show.  Feel free to share it with others.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0000"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26028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with eyes that know the darkness in my soul.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78880" y="1125360"/>
            <a:ext cx="336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hadows on the hills,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1000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0792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sketch the trees and the daffodils,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5040" y="1628640"/>
            <a:ext cx="66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atch the breeze and the winter chill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1000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26028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c2400"/>
                </a:solidFill>
                <a:latin typeface="Times New Roman"/>
              </a:rPr>
              <a:t>in colors on the snowy linen land.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67600" y="1197000"/>
            <a:ext cx="292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c2400"/>
                </a:solidFill>
                <a:latin typeface="Times New Roman"/>
              </a:rPr>
              <a:t>Now I understand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4000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427640" y="429264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19e7c"/>
                </a:solidFill>
                <a:latin typeface="Times New Roman"/>
              </a:rPr>
              <a:t>what you tried to say to me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27640" y="603576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3c2f4"/>
                </a:solidFill>
                <a:latin typeface="Times New Roman"/>
              </a:rPr>
              <a:t>how you suffered for your sanity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58560" y="640080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3c2f4"/>
                </a:solidFill>
                <a:latin typeface="Times New Roman"/>
              </a:rPr>
              <a:t>how you tried to set them free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9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003640" y="4076640"/>
            <a:ext cx="41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81800"/>
                </a:solidFill>
                <a:latin typeface="Times New Roman"/>
              </a:rPr>
              <a:t>They would not listen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81800"/>
                </a:solidFill>
                <a:latin typeface="Times New Roman"/>
              </a:rPr>
              <a:t>they did not know how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6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20:13:39Z</dcterms:created>
  <dc:creator>Jim Rupe</dc:creator>
  <dc:description/>
  <dc:language>en-US</dc:language>
  <cp:lastModifiedBy>Jim Rupe</cp:lastModifiedBy>
  <dcterms:modified xsi:type="dcterms:W3CDTF">2007-03-18T08:05:08Z</dcterms:modified>
  <cp:revision>108</cp:revision>
  <dc:subject/>
  <dc:title>Van Gogh</dc:title>
</cp:coreProperties>
</file>