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9D1C-F63B-4479-8B4E-D29691EDF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4106-B81E-4A72-9D3E-2C8B41BE5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EDE5-04DD-4434-9973-370BDDF7D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E31A-2388-439C-8BD8-95225693A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A75D2-43DC-4DF9-B5EC-3D2883797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ECC3E-0D58-47B4-ACFE-FF60D32AA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45AA7-46CA-40BF-A946-0F3FB2B7E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883A3-E138-46CC-A3CF-13285D25B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41CE7-6940-4786-8767-B257B808B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B2BA2-CA1F-42A8-8F67-56C9BF2FF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7C2B0-897B-4BD5-94CE-D000D14E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A0A0-19F5-4691-80CB-0B8ED51F5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5A936-9799-409A-AA40-845EBFC7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40F0A-5D5A-4A0C-95A5-65404E1C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B3720-4F56-4A98-8889-5B53C26AE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64B89-5F6B-4301-A192-7C64F1298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7D74F-E02F-4048-A6DA-3EDC7E76B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09E5-3104-426D-8594-BC55ED2A9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5D74-1B47-4426-9203-FEDBB102D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4366-19B4-4516-8CFB-19013298C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F5A9-ED84-43FD-B159-D4082ED24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EFF5-E74A-4A43-A2E7-E338740B8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4003-E0EC-424F-9E64-AE36B588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B01F-3C2A-47D3-82AD-0FB07BCD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4000" cy="1905120"/>
            </a:xfrm>
            <a:prstGeom prst="rect">
              <a:avLst/>
            </a:prstGeom>
            <a:gradFill rotWithShape="0">
              <a:gsLst>
                <a:gs pos="0">
                  <a:srgbClr val="a38d77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rcRect l="0" t="66688" r="0" b="0"/>
            <a:stretch/>
          </p:blipFill>
          <p:spPr>
            <a:xfrm>
              <a:off x="0" y="0"/>
              <a:ext cx="914400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eae8e2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ae8e2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  <a:ea typeface="Times New Roman (Hebrew)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  <a:ea typeface="Times New Roman (Hebrew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D75B9-5140-47A4-8A4E-16D49AF704E8}" type="slidenum">
              <a:rPr b="0" lang="pt-BR" sz="1400" spc="-1" strike="noStrike">
                <a:solidFill>
                  <a:srgbClr val="eae8e2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0" y="1143000"/>
              <a:ext cx="9144000" cy="13716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rcRect l="5827" t="8501" r="35924" b="0"/>
            <a:stretch/>
          </p:blipFill>
          <p:spPr>
            <a:xfrm>
              <a:off x="0" y="0"/>
              <a:ext cx="9144000" cy="143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ae8e2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  <a:ea typeface="Times New Roman (Hebrew)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  <a:ea typeface="Times New Roman (Hebrew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AFAE5-2F95-45C9-B6EF-70DC68D2AA38}" type="slidenum">
              <a:rPr b="0" lang="pt-BR" sz="1400" spc="-1" strike="noStrike">
                <a:solidFill>
                  <a:srgbClr val="eae8e2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708360" y="198900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93300"/>
                </a:solidFill>
                <a:latin typeface="AvantGarde Bk BT"/>
              </a:rPr>
              <a:t>VAN </a:t>
            </a:r>
            <a:r>
              <a:rPr b="1" lang="pt-BR" sz="3200" spc="-1" strike="noStrike">
                <a:solidFill>
                  <a:srgbClr val="cc9900"/>
                </a:solidFill>
                <a:latin typeface="AvantGarde Bk BT"/>
              </a:rPr>
              <a:t>GOGH</a:t>
            </a:r>
            <a:endParaRPr b="0" lang="en-US" sz="32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24000" y="162864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8e2"/>
                </a:solidFill>
                <a:latin typeface="AvantGarde Bk BT"/>
              </a:rPr>
              <a:t>V  I N  C  E  N  T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solidFill>
            <a:srgbClr val="a38d77"/>
          </a:solidFill>
          <a:ln w="9360">
            <a:solidFill>
              <a:srgbClr val="a38d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76720" y="249228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Times New Roman"/>
              </a:rPr>
              <a:t>(1853-1890)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1280" y="3068640"/>
            <a:ext cx="79930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njoy the paintings with the music and lyrics.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r the greatest impact and the most enjoyment,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lease just let the slides advance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utomatically in sync with the music.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ou’ll definitely want your speakers turned on for this.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47628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Times New Roman"/>
              </a:rPr>
              <a:t>Music: Vincent (Starry, Starry Night)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Times New Roman"/>
              </a:rPr>
              <a:t>Composed &amp; Performed by Don Mclean    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4120" y="5322960"/>
            <a:ext cx="793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ow, press the space bar or mouse click to begin, then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it back and let the show run itself.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908000" y="47628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Times New Roman"/>
              </a:rPr>
              <a:t>perhaps they'll listen now.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med" advTm="5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012000" y="4149720"/>
            <a:ext cx="2916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8e2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8e2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dbc03"/>
                </a:solidFill>
                <a:latin typeface="Times New Roman"/>
              </a:rPr>
              <a:t>Starry, starry night,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med" advTm="6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284720" y="6276960"/>
            <a:ext cx="48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dbc03"/>
                </a:solidFill>
                <a:latin typeface="Times New Roman"/>
              </a:rPr>
              <a:t>flaming flowers that brightly blaze,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med" advTm="6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5805360"/>
            <a:ext cx="63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dca302"/>
                </a:solidFill>
                <a:latin typeface="Times New Roman"/>
              </a:rPr>
              <a:t>swirling</a:t>
            </a:r>
            <a:r>
              <a:rPr b="1" lang="pt-BR" sz="2400" spc="-1" strike="noStrike">
                <a:solidFill>
                  <a:srgbClr val="fdbc03"/>
                </a:solidFill>
                <a:latin typeface="Times New Roman"/>
              </a:rPr>
              <a:t> clouds in violet haze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-2160" y="6165720"/>
            <a:ext cx="524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dbc03"/>
                </a:solidFill>
                <a:latin typeface="Times New Roman"/>
              </a:rPr>
              <a:t>reflect in Vincent's eyes of China blue.</a:t>
            </a:r>
            <a:r>
              <a:rPr b="1" lang="pt-BR" sz="2400" spc="-1" strike="noStrike">
                <a:solidFill>
                  <a:srgbClr val="99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med" advTm="9000">
    <p:zoom dir="ou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00000" y="62373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66"/>
                </a:solidFill>
                <a:latin typeface="Times New Roman"/>
              </a:rPr>
              <a:t>Colors changing hue,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med" advTm="6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440" y="228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24000" y="26028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a50021"/>
                </a:solidFill>
                <a:latin typeface="Times New Roman"/>
              </a:rPr>
              <a:t>morning fields of amber grain,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med" advTm="6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5670720"/>
            <a:ext cx="64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7ca5a"/>
                </a:solidFill>
                <a:latin typeface="Times New Roman"/>
              </a:rPr>
              <a:t>weathered faces lined in pain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4920" y="6165720"/>
            <a:ext cx="59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7ca5a"/>
                </a:solidFill>
                <a:latin typeface="Times New Roman"/>
              </a:rPr>
              <a:t>are soothed beneath the artist's loving hand.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med" advTm="9000">
    <p:zoom dir="ou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995640" y="333360"/>
            <a:ext cx="4572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99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c2400"/>
                </a:solidFill>
                <a:latin typeface="Times New Roman"/>
              </a:rPr>
              <a:t>Now I understand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med" advTm="6000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47640" y="649116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76720" y="404640"/>
            <a:ext cx="57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3300"/>
                </a:solidFill>
                <a:latin typeface="Times New Roman"/>
              </a:rPr>
              <a:t>what you tried to say to me,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52560" y="785880"/>
            <a:ext cx="45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3300"/>
                </a:solidFill>
                <a:latin typeface="Times New Roman"/>
              </a:rPr>
              <a:t>how you suffered for your sanity,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32360" y="119700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3300"/>
                </a:solidFill>
                <a:latin typeface="Times New Roman"/>
              </a:rPr>
              <a:t>how you tried to set them free.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med" advTm="14000">
    <p:zoom dir="ou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65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404640"/>
            <a:ext cx="37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3300"/>
                </a:solidFill>
                <a:latin typeface="Times New Roman"/>
              </a:rPr>
              <a:t>They would not listen.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3300"/>
                </a:solidFill>
                <a:latin typeface="Times New Roman"/>
              </a:rPr>
              <a:t>They did not know how.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3640" y="1341360"/>
            <a:ext cx="36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3300"/>
                </a:solidFill>
                <a:latin typeface="Times New Roman"/>
              </a:rPr>
              <a:t>Perhaps they'll listen now.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med" advTm="13000">
    <p:zoom dir="ou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8317080" y="65530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544500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Starry, starry night,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-720" y="5950080"/>
            <a:ext cx="49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99"/>
                </a:solidFill>
                <a:latin typeface="Times New Roman"/>
              </a:rPr>
              <a:t>paint your palette blue and grey.</a:t>
            </a:r>
            <a:r>
              <a:rPr b="0" lang="pt-BR" sz="2400" spc="-1" strike="noStrike">
                <a:solidFill>
                  <a:srgbClr val="9933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med" advTm="14000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700360" y="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66"/>
                </a:solidFill>
                <a:latin typeface="Times New Roman"/>
              </a:rPr>
              <a:t>For they could not love you,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med" advTm="6000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958d8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875200" cy="6958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345280" y="1844640"/>
            <a:ext cx="379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a694a5"/>
                </a:solidFill>
                <a:latin typeface="Times New Roman"/>
              </a:rPr>
              <a:t>but still your love was true,</a:t>
            </a:r>
            <a:endParaRPr b="0" lang="en-US" sz="20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56360" y="2421000"/>
            <a:ext cx="298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a694a5"/>
                </a:solidFill>
                <a:latin typeface="Times New Roman"/>
              </a:rPr>
              <a:t>and when no hope</a:t>
            </a:r>
            <a:endParaRPr b="0" lang="en-US" sz="2000" spc="-1" strike="noStrike">
              <a:solidFill>
                <a:srgbClr val="eae8e2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a694a5"/>
                </a:solidFill>
                <a:latin typeface="Times New Roman"/>
              </a:rPr>
              <a:t>was left in sight</a:t>
            </a:r>
            <a:endParaRPr b="0" lang="en-US" sz="2000" spc="-1" strike="noStrike">
              <a:solidFill>
                <a:srgbClr val="eae8e2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a694a5"/>
                </a:solidFill>
                <a:latin typeface="Times New Roman"/>
              </a:rPr>
              <a:t>on that starry, starry night,</a:t>
            </a:r>
            <a:endParaRPr b="0" lang="en-US" sz="20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med" advTm="14000">
    <p:zoom dir="ou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032360" y="213372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64400"/>
                </a:solidFill>
                <a:latin typeface="Times New Roman"/>
              </a:rPr>
              <a:t>You took your life as lovers often do;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49640" y="2728800"/>
            <a:ext cx="4704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64400"/>
                </a:solidFill>
                <a:latin typeface="Times New Roman"/>
              </a:rPr>
              <a:t>But I could have told you, Vincent,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this world was never meant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for one as beautiful as you.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med" advTm="23000">
    <p:zoom dir="ou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012000" y="6276960"/>
            <a:ext cx="31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66"/>
                </a:solidFill>
                <a:latin typeface="Times New Roman"/>
              </a:rPr>
              <a:t>Starry, starry night,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med" advTm="6000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067280" y="62769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66"/>
                </a:solidFill>
                <a:latin typeface="Times New Roman"/>
              </a:rPr>
              <a:t>portraits hung in empty halls,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med" advTm="6000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619280" y="26028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3300"/>
                </a:solidFill>
                <a:latin typeface="Times New Roman"/>
              </a:rPr>
              <a:t>frameless heads on nameless walls,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med" advTm="4000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95280" y="544500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29002"/>
                </a:solidFill>
                <a:latin typeface="Times New Roman"/>
              </a:rPr>
              <a:t>with eyes that watch the world and can't forget.          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50200" y="6021360"/>
            <a:ext cx="47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29002"/>
                </a:solidFill>
                <a:latin typeface="Times New Roman"/>
              </a:rPr>
              <a:t>Like the strangers that you've met,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med" advTm="11000">
    <p:zoom dir="ou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284720" y="9810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a50021"/>
                </a:solidFill>
                <a:latin typeface="Times New Roman"/>
              </a:rPr>
              <a:t>the ragged men in ragged clothes,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med" advTm="7000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547640" y="640080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5911920"/>
            <a:ext cx="74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Times New Roman"/>
              </a:rPr>
              <a:t>the silver thorn of bloody rose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Times New Roman"/>
              </a:rPr>
              <a:t>lie crushed and broken on the virgin snow.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med" advTm="10000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47640" y="228600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0" y="36450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66"/>
                </a:solidFill>
                <a:latin typeface="Times New Roman"/>
              </a:rPr>
              <a:t>Now I think I know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61480" y="4149720"/>
            <a:ext cx="37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66"/>
                </a:solidFill>
                <a:latin typeface="Times New Roman"/>
              </a:rPr>
              <a:t>what you tried to say to me,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641480" y="4653000"/>
            <a:ext cx="450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66"/>
                </a:solidFill>
                <a:latin typeface="Times New Roman"/>
              </a:rPr>
              <a:t>how you suffered for your sanity,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med" advTm="17000">
    <p:zoom dir="ou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70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476360" y="486900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Look out on a summer's day</a:t>
            </a:r>
            <a:endParaRPr b="0" lang="en-US" sz="32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advTm="3000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533520" y="662940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195640" y="4581360"/>
            <a:ext cx="69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eae8e2"/>
                </a:solidFill>
                <a:latin typeface="Times New Roman"/>
              </a:rPr>
              <a:t>how you tried to set them free.</a:t>
            </a:r>
            <a:endParaRPr b="0" lang="en-US" sz="32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8480" y="5157720"/>
            <a:ext cx="4568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eae8e2"/>
                </a:solidFill>
                <a:latin typeface="Times New Roman"/>
              </a:rPr>
              <a:t>They would not listen.</a:t>
            </a:r>
            <a:endParaRPr b="0" lang="en-US" sz="3200" spc="-1" strike="noStrike">
              <a:solidFill>
                <a:srgbClr val="eae8e2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eae8e2"/>
                </a:solidFill>
                <a:latin typeface="Times New Roman"/>
              </a:rPr>
              <a:t>They're not list’ning still.</a:t>
            </a:r>
            <a:endParaRPr b="0" lang="en-US" sz="3200" spc="-1" strike="noStrike">
              <a:solidFill>
                <a:srgbClr val="eae8e2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med" advTm="11000">
    <p:zoom dir="out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132000" y="119700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Times New Roman"/>
              </a:rPr>
              <a:t>Perhaps, 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645800" y="1197000"/>
            <a:ext cx="249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993300"/>
                </a:solidFill>
                <a:latin typeface="Times New Roman"/>
              </a:rPr>
              <a:t>they never will.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med" advTm="12000">
    <p:zoom dir="ou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28600" y="30492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ffcc"/>
                </a:solidFill>
                <a:latin typeface="AvantGarde Md BT"/>
              </a:rPr>
              <a:t>V  I  N  C  E  N  T</a:t>
            </a:r>
            <a:endParaRPr b="0" lang="en-US" sz="12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5335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cc"/>
                </a:solidFill>
                <a:latin typeface="AvantGarde Bk BT"/>
              </a:rPr>
              <a:t>VAN</a:t>
            </a:r>
            <a:r>
              <a:rPr b="1" lang="en-US" sz="2000" spc="-1" strike="noStrike">
                <a:solidFill>
                  <a:srgbClr val="cc9900"/>
                </a:solidFill>
                <a:latin typeface="AvantGarde Bk BT"/>
              </a:rPr>
              <a:t>GOGH</a:t>
            </a:r>
            <a:endParaRPr b="0" lang="en-US" sz="20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5589720"/>
            <a:ext cx="67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I hope you enjoyed the show.  Feel free to share it with others.</a:t>
            </a:r>
            <a:endParaRPr b="0" lang="en-US" sz="16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med" advTm="10000">
    <p:zoom dir="out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50920" y="260280"/>
            <a:ext cx="74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with eyes that know the darkness in my soul.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78880" y="1125360"/>
            <a:ext cx="336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Shadows on the hills,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med" advTm="11000">
    <p:zoom dir="ou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907920"/>
            <a:ext cx="73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sketch the trees and the daffodils,</a:t>
            </a:r>
            <a:endParaRPr b="0" lang="en-US" sz="32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5040" y="1628640"/>
            <a:ext cx="662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catch the breeze and the winter chills</a:t>
            </a:r>
            <a:endParaRPr b="0" lang="en-US" sz="32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med" advTm="11000">
    <p:zoom dir="ou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5280" y="260280"/>
            <a:ext cx="85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c2400"/>
                </a:solidFill>
                <a:latin typeface="Times New Roman"/>
              </a:rPr>
              <a:t>in colors on the snowy linen land.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67600" y="1197000"/>
            <a:ext cx="292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c2400"/>
                </a:solidFill>
                <a:latin typeface="Times New Roman"/>
              </a:rPr>
              <a:t>Now I understand</a:t>
            </a: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med" advTm="14000">
    <p:zoom dir="ou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427640" y="4292640"/>
            <a:ext cx="40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819e7c"/>
                </a:solidFill>
                <a:latin typeface="Times New Roman"/>
              </a:rPr>
              <a:t>what you tried to say to me,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med" advTm="5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427640" y="6035760"/>
            <a:ext cx="47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3c2f4"/>
                </a:solidFill>
                <a:latin typeface="Times New Roman"/>
              </a:rPr>
              <a:t>how you suffered for your sanity,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58560" y="6400800"/>
            <a:ext cx="41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3c2f4"/>
                </a:solidFill>
                <a:latin typeface="Times New Roman"/>
              </a:rPr>
              <a:t>how you tried to set them free.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med" advTm="9000"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003640" y="4076640"/>
            <a:ext cx="41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81800"/>
                </a:solidFill>
                <a:latin typeface="Times New Roman"/>
              </a:rPr>
              <a:t>They would not listen,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81800"/>
                </a:solidFill>
                <a:latin typeface="Times New Roman"/>
              </a:rPr>
              <a:t>they did not know how.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med" advTm="6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7T20:13:39Z</dcterms:created>
  <dc:creator>Jim Rupe</dc:creator>
  <dc:description/>
  <dc:language>en-US</dc:language>
  <cp:lastModifiedBy>Jim Rupe</cp:lastModifiedBy>
  <dcterms:modified xsi:type="dcterms:W3CDTF">2007-03-18T08:05:08Z</dcterms:modified>
  <cp:revision>108</cp:revision>
  <dc:subject/>
  <dc:title>Van Gogh</dc:title>
</cp:coreProperties>
</file>