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Ann%20Christy%20-%20De%20Roos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172-1244-4A66-9609-BB92973E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2F6-0ED2-460F-9500-DC2ADEAA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9098-24F6-4E1E-9E77-DC75562B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215D-5F96-453C-A814-1AA3F30D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4FD2-8689-43DE-A895-064399E3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06B-BF2C-4A3B-A7D2-91C76D5A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7DE3-31B6-444E-881A-5129D9CD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E84E-4AEF-4696-BCF2-CDBA86CB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B266-1A58-444D-903E-68BFF1BB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CEA-3AA5-4FA3-8D31-5FF4F533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39C-DC2F-4676-9D25-CD3F6653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9C05-5115-42EE-B112-8EB4F44F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7FFC-EB3C-4510-BB36-6B1807A92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Ann%20Christy%20-%20De%20Roos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1268280"/>
            <a:ext cx="3313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25067"/>
                </a:solidFill>
                <a:latin typeface="Elephant"/>
              </a:rPr>
              <a:t>Muziek : Ann Chris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3357720"/>
            <a:ext cx="464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5400" spc="-1" strike="noStrike">
                <a:solidFill>
                  <a:srgbClr val="333399"/>
                </a:solidFill>
                <a:latin typeface="Signature"/>
              </a:rPr>
              <a:t>DE  RO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932360" y="765000"/>
            <a:ext cx="3632040" cy="4991400"/>
          </a:xfrm>
          <a:prstGeom prst="rect">
            <a:avLst/>
          </a:prstGeom>
          <a:ln w="203040">
            <a:solidFill>
              <a:srgbClr val="669900">
                <a:alpha val="61000"/>
              </a:srgbClr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4360" y="512640"/>
            <a:ext cx="7775280" cy="58327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4176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e3de00"/>
                </a:solidFill>
                <a:latin typeface="Monotype Corsiva"/>
              </a:rPr>
              <a:t>En is de nacht</a:t>
            </a:r>
            <a:br>
              <a:rPr sz="4000"/>
            </a:br>
            <a:r>
              <a:rPr b="0" lang="nl-BE" sz="4000" spc="-1" strike="noStrike">
                <a:solidFill>
                  <a:srgbClr val="e3de00"/>
                </a:solidFill>
                <a:latin typeface="Monotype Corsiva"/>
              </a:rPr>
              <a:t>Zo koud en eenza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50920" y="4652640"/>
            <a:ext cx="45356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Duurt het wach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Veel te l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360" y="566640"/>
            <a:ext cx="7704000" cy="5778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24000" y="620280"/>
            <a:ext cx="42498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Monotype Corsiva"/>
              </a:rPr>
              <a:t>Denk dan maar</a:t>
            </a:r>
            <a:br>
              <a:rPr sz="4000"/>
            </a:br>
            <a:r>
              <a:rPr b="0" lang="nl-BE" sz="4000" spc="-1" strike="noStrike">
                <a:solidFill>
                  <a:srgbClr val="000000"/>
                </a:solidFill>
                <a:latin typeface="Monotype Corsiva"/>
              </a:rPr>
              <a:t>Dat geluk alleen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24000" y="5013000"/>
            <a:ext cx="3672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9cc00"/>
                </a:solidFill>
                <a:latin typeface="Monotype Corsiva"/>
              </a:rPr>
              <a:t>Voor wie er hev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9cc00"/>
                </a:solidFill>
                <a:latin typeface="Monotype Corsiva"/>
              </a:rPr>
              <a:t>Naar verlang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7632720" cy="572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34920" y="549000"/>
            <a:ext cx="4753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25067"/>
                </a:solidFill>
                <a:latin typeface="Monotype Corsiva"/>
              </a:rPr>
              <a:t>Denk dan maar</a:t>
            </a:r>
            <a:br>
              <a:rPr sz="4000"/>
            </a:br>
            <a:r>
              <a:rPr b="0" lang="nl-BE" sz="4000" spc="-1" strike="noStrike">
                <a:solidFill>
                  <a:srgbClr val="f25067"/>
                </a:solidFill>
                <a:latin typeface="Monotype Corsiva"/>
              </a:rPr>
              <a:t>Dat bittere win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07640" y="4797360"/>
            <a:ext cx="38163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25067"/>
                </a:solidFill>
                <a:latin typeface="Monotype Corsiva"/>
              </a:rPr>
              <a:t>En dik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25067"/>
                </a:solidFill>
                <a:latin typeface="Monotype Corsiva"/>
              </a:rPr>
              <a:t>Lagen sneeu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458640"/>
            <a:ext cx="42480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25067"/>
                </a:solidFill>
                <a:latin typeface="Monotype Corsiva"/>
              </a:rPr>
              <a:t>Nog nooit</a:t>
            </a:r>
            <a:br>
              <a:rPr sz="4000"/>
            </a:br>
            <a:r>
              <a:rPr b="0" lang="nl-BE" sz="4000" spc="-1" strike="noStrike">
                <a:solidFill>
                  <a:srgbClr val="f25067"/>
                </a:solidFill>
                <a:latin typeface="Monotype Corsiva"/>
              </a:rPr>
              <a:t>Hebben verhinde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12000" y="4913280"/>
            <a:ext cx="334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25067"/>
                </a:solidFill>
                <a:latin typeface="Monotype Corsiva"/>
              </a:rPr>
              <a:t>Dat de ro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25067"/>
                </a:solidFill>
                <a:latin typeface="Monotype Corsiva"/>
              </a:rPr>
              <a:t>Hen overlee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87640" y="1052280"/>
            <a:ext cx="3240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7200" spc="-1" strike="noStrike">
                <a:solidFill>
                  <a:srgbClr val="333399"/>
                </a:solidFill>
                <a:latin typeface="Monotype Corsiva"/>
              </a:rPr>
              <a:t>Eind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7632720" cy="5726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2920" y="4437000"/>
            <a:ext cx="2160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333399"/>
                </a:solidFill>
                <a:latin typeface="Monotype Corsiva"/>
              </a:rPr>
              <a:t>Een Ro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0" lang="nl-BE" sz="4000" spc="-1" strike="noStrike">
                <a:solidFill>
                  <a:srgbClr val="333399"/>
                </a:solidFill>
                <a:latin typeface="Monotype Corsiva"/>
              </a:rPr>
              <a:t>voor  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56163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25067"/>
                </a:solidFill>
                <a:latin typeface="Monotype Corsiva"/>
              </a:rPr>
              <a:t>Men zegt van liefde</a:t>
            </a:r>
            <a:br>
              <a:rPr sz="4000"/>
            </a:br>
            <a:r>
              <a:rPr b="0" lang="nl-BE" sz="4000" spc="-1" strike="noStrike">
                <a:solidFill>
                  <a:srgbClr val="f25067"/>
                </a:solidFill>
                <a:latin typeface="Monotype Corsiva"/>
              </a:rPr>
              <a:t>Dat ze zach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3640" y="3933720"/>
            <a:ext cx="5832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25067"/>
                </a:solidFill>
                <a:latin typeface="Monotype Corsiva"/>
              </a:rPr>
              <a:t>Als een lief</a:t>
            </a:r>
            <a:r>
              <a:rPr b="0" lang="nl-BE" sz="3200" spc="-1" strike="noStrike">
                <a:solidFill>
                  <a:srgbClr val="f2506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25067"/>
                </a:solidFill>
                <a:latin typeface="Monotype Corsiva"/>
              </a:rPr>
              <a:t>En teder wo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7775280" cy="5832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e3de00"/>
                </a:solidFill>
                <a:latin typeface="Monotype Corsiva"/>
              </a:rPr>
              <a:t>Men zegt van liefde</a:t>
            </a:r>
            <a:br>
              <a:rPr sz="4000"/>
            </a:br>
            <a:r>
              <a:rPr b="0" lang="nl-BE" sz="4000" spc="-1" strike="noStrike">
                <a:solidFill>
                  <a:srgbClr val="e3de00"/>
                </a:solidFill>
                <a:latin typeface="Monotype Corsiva"/>
              </a:rPr>
              <a:t>Dat ze hard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8920" y="407628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En zo va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Het geluk vermoord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513396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e3de00"/>
                </a:solidFill>
                <a:latin typeface="Monotype Corsiva"/>
              </a:rPr>
              <a:t>Men noemt haar</a:t>
            </a:r>
            <a:br>
              <a:rPr sz="4000"/>
            </a:br>
            <a:r>
              <a:rPr b="0" lang="nl-BE" sz="4000" spc="-1" strike="noStrike">
                <a:solidFill>
                  <a:srgbClr val="e3de00"/>
                </a:solidFill>
                <a:latin typeface="Monotype Corsiva"/>
              </a:rPr>
              <a:t>Hunker en verla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42920" y="4797360"/>
            <a:ext cx="5041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Men noemt ha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Redder in n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07280" cy="6156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627280" y="3357360"/>
            <a:ext cx="5688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Monotype Corsiva"/>
              </a:rPr>
              <a:t>Waarop de z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Monotype Corsiva"/>
              </a:rPr>
              <a:t>Haar stralen stroo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Monotype Corsiva"/>
              </a:rPr>
              <a:t>Ik zeg dat liefde</a:t>
            </a:r>
            <a:br>
              <a:rPr sz="4000"/>
            </a:br>
            <a:r>
              <a:rPr b="0" lang="nl-BE" sz="4000" spc="-1" strike="noStrike">
                <a:solidFill>
                  <a:srgbClr val="000000"/>
                </a:solidFill>
                <a:latin typeface="Monotype Corsiva"/>
              </a:rPr>
              <a:t>Als een bloem 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280360" cy="56941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63216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Ze is het hart</a:t>
            </a:r>
            <a:br>
              <a:rPr sz="4000"/>
            </a:b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Zo bang en breekba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59280" y="3789000"/>
            <a:ext cx="410544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Zo wank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En zo bro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7991280" cy="60105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Ze is de droom</a:t>
            </a:r>
            <a:br>
              <a:rPr sz="4000"/>
            </a:b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Bang voor ‘t ontwa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58560" y="4005360"/>
            <a:ext cx="4608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Omdat ze d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De waarheid ho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6480000" cy="61419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e3de00"/>
                </a:solidFill>
                <a:latin typeface="Monotype Corsiva"/>
              </a:rPr>
              <a:t>Ze wacht op wie</a:t>
            </a:r>
            <a:br>
              <a:rPr sz="4000"/>
            </a:br>
            <a:r>
              <a:rPr b="0" lang="nl-BE" sz="4000" spc="-1" strike="noStrike">
                <a:solidFill>
                  <a:srgbClr val="e3de00"/>
                </a:solidFill>
                <a:latin typeface="Monotype Corsiva"/>
              </a:rPr>
              <a:t>Haar nu wil pluk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2920" y="4149720"/>
            <a:ext cx="4032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e3de00"/>
                </a:solidFill>
                <a:latin typeface="Monotype Corsiva"/>
              </a:rPr>
              <a:t>Op w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e3de00"/>
                </a:solidFill>
                <a:latin typeface="Monotype Corsiva"/>
              </a:rPr>
              <a:t>Haar tranen stee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7993080" cy="5994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95280" y="0"/>
            <a:ext cx="4319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e3de00"/>
                </a:solidFill>
                <a:latin typeface="Monotype Corsiva"/>
              </a:rPr>
              <a:t>Zo bang</a:t>
            </a:r>
            <a:br>
              <a:rPr sz="4000"/>
            </a:br>
            <a:r>
              <a:rPr b="0" lang="nl-BE" sz="4000" spc="-1" strike="noStrike">
                <a:solidFill>
                  <a:srgbClr val="e3de00"/>
                </a:solidFill>
                <a:latin typeface="Monotype Corsiva"/>
              </a:rPr>
              <a:t>Om vroeg te ster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4869000"/>
            <a:ext cx="4464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Voor ze werkelij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Heeft geleef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7T21:12:56Z</dcterms:created>
  <dc:creator>Joris</dc:creator>
  <dc:description/>
  <dc:language>en-US</dc:language>
  <cp:lastModifiedBy>Joris</cp:lastModifiedBy>
  <dcterms:modified xsi:type="dcterms:W3CDTF">2006-05-27T21:20:51Z</dcterms:modified>
  <cp:revision>1</cp:revision>
  <dc:subject/>
  <dc:title>Muziek : Ann Christy</dc:title>
</cp:coreProperties>
</file>