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Ann%20Christy%20-%20De%20Roos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FD1-2B92-45A5-893A-5A706877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DEEB-85EB-4239-B0D8-751746F6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410-6F9F-4B38-9F4C-D5D423F1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094F-5A60-48BD-AE45-6CF5FDE2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435-C9AF-4D45-A92B-F134818F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0A00-35A6-430E-9991-2B272351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D9B2-31E0-493F-A864-03C9A8FA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1A5-FA81-4398-883C-77802EEE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AE7C-F0CE-477E-BC9D-0D0CB3FF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7A3-4EF5-4710-A891-995C0647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44B9-E112-4882-A0B6-753F841D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41A-E916-4A69-919A-33FC59D6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2A3F-219D-43D7-9E6B-ACFC218EA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Ann%20Christy%20-%20De%20Roos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1268280"/>
            <a:ext cx="3313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Elephant"/>
              </a:rPr>
              <a:t>Muziek : Ann Chris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3357720"/>
            <a:ext cx="464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5400" spc="-1" strike="noStrike">
                <a:solidFill>
                  <a:srgbClr val="333399"/>
                </a:solidFill>
                <a:latin typeface="Signature"/>
              </a:rPr>
              <a:t>DE  RO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32360" y="765000"/>
            <a:ext cx="3632040" cy="4991400"/>
          </a:xfrm>
          <a:prstGeom prst="rect">
            <a:avLst/>
          </a:prstGeom>
          <a:ln w="203040">
            <a:solidFill>
              <a:srgbClr val="669900">
                <a:alpha val="61000"/>
              </a:srgbClr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4360" y="512640"/>
            <a:ext cx="7775280" cy="58327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4176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En is de nacht</a:t>
            </a:r>
            <a:br>
              <a:rPr sz="4000"/>
            </a:b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Zo koud en eenza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50920" y="4652640"/>
            <a:ext cx="4535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Duurt het wach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Veel te l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566640"/>
            <a:ext cx="7704000" cy="5778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24000" y="620280"/>
            <a:ext cx="42498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Monotype Corsiva"/>
              </a:rPr>
              <a:t>Denk dan maar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Monotype Corsiva"/>
              </a:rPr>
              <a:t>Dat geluk alleen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124000" y="5013000"/>
            <a:ext cx="3672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9cc00"/>
                </a:solidFill>
                <a:latin typeface="Monotype Corsiva"/>
              </a:rPr>
              <a:t>Voor wie er hev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99cc00"/>
                </a:solidFill>
                <a:latin typeface="Monotype Corsiva"/>
              </a:rPr>
              <a:t>Naar verlang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32720" cy="572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34920" y="549000"/>
            <a:ext cx="4753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Denk dan maar</a:t>
            </a:r>
            <a:br>
              <a:rPr sz="4000"/>
            </a:b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Dat bittere wi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7640" y="4797360"/>
            <a:ext cx="38163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En dik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Lagen sneeu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458640"/>
            <a:ext cx="42480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Nog nooit</a:t>
            </a:r>
            <a:br>
              <a:rPr sz="4000"/>
            </a:b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Hebben verhinde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12000" y="4913280"/>
            <a:ext cx="334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Dat de ro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Hen overlee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87640" y="1052280"/>
            <a:ext cx="324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7200" spc="-1" strike="noStrike">
                <a:solidFill>
                  <a:srgbClr val="333399"/>
                </a:solidFill>
                <a:latin typeface="Monotype Corsiva"/>
              </a:rPr>
              <a:t>Ein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32720" cy="572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920" y="4437000"/>
            <a:ext cx="2160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333399"/>
                </a:solidFill>
                <a:latin typeface="Monotype Corsiva"/>
              </a:rPr>
              <a:t>Een Ro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0" lang="nl-BE" sz="4000" spc="-1" strike="noStrike">
                <a:solidFill>
                  <a:srgbClr val="333399"/>
                </a:solidFill>
                <a:latin typeface="Monotype Corsiva"/>
              </a:rPr>
              <a:t>voor  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5616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Men zegt van liefde</a:t>
            </a:r>
            <a:br>
              <a:rPr sz="4000"/>
            </a:b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Dat ze zacht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393372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Als een lief</a:t>
            </a:r>
            <a:r>
              <a:rPr b="0" lang="nl-BE" sz="3200" spc="-1" strike="noStrike">
                <a:solidFill>
                  <a:srgbClr val="f2506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25067"/>
                </a:solidFill>
                <a:latin typeface="Monotype Corsiva"/>
              </a:rPr>
              <a:t>En teder wo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7775280" cy="5832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6922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Men zegt van liefde</a:t>
            </a:r>
            <a:br>
              <a:rPr sz="4000"/>
            </a:b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Dat ze hard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58920" y="407628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En zo va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Het geluk vermoord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5133960" cy="15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Men noemt haar</a:t>
            </a:r>
            <a:br>
              <a:rPr sz="4000"/>
            </a:b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Hunker en verla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42920" y="4797360"/>
            <a:ext cx="5041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Men noemt ha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Redder in n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8207280" cy="6156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627280" y="3357360"/>
            <a:ext cx="56880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Monotype Corsiva"/>
              </a:rPr>
              <a:t>Waarop de z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fff"/>
                </a:solidFill>
                <a:latin typeface="Monotype Corsiva"/>
              </a:rPr>
              <a:t>Haar stralen stroo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Monotype Corsiva"/>
              </a:rPr>
              <a:t>Ik zeg dat liefde</a:t>
            </a:r>
            <a:br>
              <a:rPr sz="4000"/>
            </a:br>
            <a:r>
              <a:rPr b="0" lang="nl-BE" sz="4000" spc="-1" strike="noStrike">
                <a:solidFill>
                  <a:srgbClr val="000000"/>
                </a:solidFill>
                <a:latin typeface="Monotype Corsiva"/>
              </a:rPr>
              <a:t>Als een bloem 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280360" cy="5694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773360"/>
            <a:ext cx="63216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Ze is het hart</a:t>
            </a:r>
            <a:br>
              <a:rPr sz="4000"/>
            </a:b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Zo bang en breekba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9280" y="3789000"/>
            <a:ext cx="41054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Zo wank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En zo bro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991280" cy="60105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Ze is de droom</a:t>
            </a:r>
            <a:br>
              <a:rPr sz="4000"/>
            </a:b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Bang voor ‘t ontw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58560" y="4005360"/>
            <a:ext cx="4608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Omdat ze d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De waarheid ho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480000" cy="6141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Ze wacht op wie</a:t>
            </a:r>
            <a:br>
              <a:rPr sz="4000"/>
            </a:b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Haar nu wil pluk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2920" y="4149720"/>
            <a:ext cx="40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Op w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Haar tranen stee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993080" cy="5994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5280" y="0"/>
            <a:ext cx="4319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Zo bang</a:t>
            </a:r>
            <a:br>
              <a:rPr sz="4000"/>
            </a:br>
            <a:r>
              <a:rPr b="0" lang="nl-BE" sz="4000" spc="-1" strike="noStrike">
                <a:solidFill>
                  <a:srgbClr val="e3de00"/>
                </a:solidFill>
                <a:latin typeface="Monotype Corsiva"/>
              </a:rPr>
              <a:t>Om vroeg te ster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4869000"/>
            <a:ext cx="4464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Voor ze werkelij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fffc89"/>
                </a:solidFill>
                <a:latin typeface="Monotype Corsiva"/>
              </a:rPr>
              <a:t>Heeft geleef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7T21:12:56Z</dcterms:created>
  <dc:creator>Joris</dc:creator>
  <dc:description/>
  <dc:language>en-US</dc:language>
  <cp:lastModifiedBy>Joris</cp:lastModifiedBy>
  <dcterms:modified xsi:type="dcterms:W3CDTF">2006-05-27T21:20:51Z</dcterms:modified>
  <cp:revision>1</cp:revision>
  <dc:subject/>
  <dc:title>Muziek : Ann Christy</dc:title>
</cp:coreProperties>
</file>