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ManciniRomeoAndJuliet.wav" ContentType="audio/x-wav"/>
  <Override PartName="/ppt/media/image5.jpeg" ContentType="image/jpeg"/>
  <Override PartName="/ppt/media/image8.jpeg" ContentType="image/jpeg"/>
  <Override PartName="/ppt/media/image2.gif" ContentType="image/gif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84AC-C379-4F58-AC5D-9D61B83F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FB7F-4D87-4611-A18B-A841CF94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B214-3055-48CA-99E1-B849CE2F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1B5C-469C-4A58-A002-91CC8B38C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BB95-E3CB-4EE9-A65B-A5CD89A6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C41F-1CB3-403C-B0F6-C5950769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3FA4-8EFC-414B-B386-F708B8D2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E6DE-BF6D-4A68-B6F4-65A1B8F1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8D6E-5BD3-4F1D-85B6-CD6A3B86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EB3A-45F2-4E8E-8EE9-CB453989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E12E-8F26-4A16-B36C-4CB2E102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5FA6-FA85-47E7-ADEF-1B64488C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2A22-31BE-488B-9FA8-F5371A866EDD}" type="datetime">
              <a:rPr b="0" lang="nl-BE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r>
              <a:rPr b="0" lang="nl-B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8EB8969-580B-4AC9-B78B-F8556B920252}" type="datetime10">
              <a:rPr b="0" lang="nl-BE" sz="1400" spc="-1" strike="noStrike">
                <a:solidFill>
                  <a:srgbClr val="000000"/>
                </a:solidFill>
                <a:latin typeface="Times New Roman"/>
              </a:rPr>
              <a:t>18:3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53ED-2815-4B80-9AE0-E1C84197751E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audio" Target="../media/ManciniRomeoAndJuliet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84360" y="5006880"/>
            <a:ext cx="1047600" cy="1086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08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dddddd"/>
                </a:solidFill>
                <a:latin typeface="Verdana"/>
              </a:rPr>
              <a:t>Romeo And Julli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44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dddddd"/>
                </a:solidFill>
                <a:latin typeface="Verdana"/>
              </a:rPr>
              <a:t>Sound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79132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dddddd"/>
                </a:solidFill>
                <a:latin typeface="Verdana"/>
              </a:rPr>
              <a:t>Henry Mancini</a:t>
            </a: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981000"/>
            <a:ext cx="4176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44280">
                  <a:solidFill>
                    <a:srgbClr val="d3e9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riendschap</a:t>
            </a:r>
            <a:endParaRPr b="0" i="1" lang="en-US" sz="2400" spc="1" strike="noStrike">
              <a:ln w="44280">
                <a:solidFill>
                  <a:srgbClr val="d3e9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44280">
                  <a:solidFill>
                    <a:srgbClr val="d3e9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s zwijgen</a:t>
            </a:r>
            <a:endParaRPr b="0" i="1" lang="en-US" sz="2400" spc="1" strike="noStrike">
              <a:ln w="44280">
                <a:solidFill>
                  <a:srgbClr val="d3e9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6084720" y="4265640"/>
            <a:ext cx="3313440" cy="27637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woon even geniet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A1DBF-CDAA-4E72-AAB9-B15083222B76}" type="datetime8">
              <a:rPr lang="en-US"/>
              <a:t>07/29/26 18:36</a:t>
            </a:fld>
          </a:p>
        </p:txBody>
      </p:sp>
    </p:spTree>
  </p:cSld>
  <p:transition spd="slow" advTm="11000">
    <p:split dir="out" orient="horz"/>
    <p:sndAc>
      <p:stSnd>
        <p:snd r:embed="rId4" name="ManciniRomeoAndJulie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4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8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79280" y="1413000"/>
            <a:ext cx="680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e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kostbaar kleinood</a:t>
            </a:r>
            <a:r>
              <a:rPr b="1" lang="tr-T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4291920"/>
            <a:ext cx="6513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dat met je meega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tot in de dood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0"/>
            <a:ext cx="71280" cy="710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6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44600" y="187920"/>
            <a:ext cx="68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En heb je echte vriendschap gevonden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619560"/>
            <a:ext cx="66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legt ze een pleister op vele wonden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68360" y="5600160"/>
            <a:ext cx="7066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Daarom is het fijn </a:t>
            </a:r>
            <a:br>
              <a:rPr sz="1600"/>
            </a:b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om goede vrienden te zijn</a:t>
            </a: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451640" y="6093000"/>
            <a:ext cx="1224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Eind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plit dir="out" orient="horz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4000" y="191628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zwijgen , niets zeg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2276640"/>
            <a:ext cx="4751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Maar een arm om schouders legg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5661000"/>
            <a:ext cx="914400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in iemands lev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Samen vreugde en verdriet delen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3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26920" y="476280"/>
            <a:ext cx="64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niets vragen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836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maar gewoon helpen drag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284720" y="5877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gauw even mailen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623736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om laatste nieuwtjes te delen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252360" y="26028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durven tonen</a:t>
            </a:r>
            <a:r>
              <a:rPr b="0" lang="nl-BE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765000"/>
            <a:ext cx="48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welke gevoelens er in je wonen</a:t>
            </a:r>
            <a:r>
              <a:rPr b="0" lang="nl-BE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8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2636280"/>
            <a:ext cx="518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de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in iemands geluk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005360"/>
            <a:ext cx="51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en d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bidden “ Ga toch nooit stuk 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0"/>
            <a:ext cx="73080" cy="70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100"/>
                            </p:stCondLst>
                            <p:childTnLst>
                              <p:par>
                                <p:cTn id="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1915560"/>
            <a:ext cx="4392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z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in kleine dingen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005360"/>
            <a:ext cx="70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die je niet t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wedervriendschap dwing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0"/>
            <a:ext cx="73080" cy="710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188640"/>
            <a:ext cx="71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663300"/>
                </a:solidFill>
                <a:latin typeface="Verdana"/>
              </a:rPr>
              <a:t>Aan een goede vriendschap komt geen end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19200"/>
            <a:ext cx="611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663300"/>
                </a:solidFill>
                <a:latin typeface="Verdana"/>
              </a:rPr>
              <a:t>waar ter wereld je ook bent</a:t>
            </a:r>
            <a:r>
              <a:rPr b="0" lang="nl-BE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200"/>
                            </p:stCondLst>
                            <p:childTnLst>
                              <p:par>
                                <p:cTn id="1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7T17:02:33Z</dcterms:created>
  <dc:creator>Annelies Verfaillie</dc:creator>
  <dc:description/>
  <dc:language>en-US</dc:language>
  <cp:lastModifiedBy>Administrator</cp:lastModifiedBy>
  <dcterms:modified xsi:type="dcterms:W3CDTF">2008-02-14T18:31:20Z</dcterms:modified>
  <cp:revision>8</cp:revision>
  <dc:subject>vrienden</dc:subject>
  <dc:title>Dia 1</dc:title>
</cp:coreProperties>
</file>