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ManciniRomeoAndJuliet.wav" ContentType="audio/x-wav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4CB-094B-4101-AE59-0129F302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8385-2BF9-4A35-BF68-0C52BD35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2E0-CECA-4C44-9AD7-8DB101A7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AC63-EEBA-486D-A51D-4E21CAB9C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41DB-5A6B-4367-85D5-D82016E8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0C4-6544-4574-B3DF-402914B5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49B9-B9A2-4AE2-8B43-23920391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C42-4CC0-4A3E-BDFF-683DDB4D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12C-9F1D-4F79-9E61-FFAADA7C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D59-BC38-41B3-B4EC-89A4F275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C64-DCE2-4267-8C53-E06C8AA6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EC8-7BCD-47C0-AC77-8A08F2E1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9F7E-2BA6-4857-B346-30E50E223F1B}" type="datetime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B286769-23C3-465B-B600-744F04E1EB8F}" type="datetime10">
              <a:rPr b="0" lang="nl-BE" sz="1400" spc="-1" strike="noStrike">
                <a:solidFill>
                  <a:srgbClr val="000000"/>
                </a:solidFill>
                <a:latin typeface="Times New Roman"/>
              </a:rPr>
              <a:t>13:35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1159-A894-4ADD-BF53-B6F8175D55E9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audio" Target="../media/ManciniRomeoAndJuliet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84360" y="5006880"/>
            <a:ext cx="1047600" cy="1086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08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dddddd"/>
                </a:solidFill>
                <a:latin typeface="Verdana"/>
              </a:rPr>
              <a:t>Romeo And Julli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445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dddddd"/>
                </a:solidFill>
                <a:latin typeface="Verdana"/>
              </a:rPr>
              <a:t>Sound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79132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dddddd"/>
                </a:solidFill>
                <a:latin typeface="Verdana"/>
              </a:rPr>
              <a:t>Henry Mancini</a:t>
            </a:r>
            <a:r>
              <a:rPr b="0" lang="nl-B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981000"/>
            <a:ext cx="4176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44280">
                  <a:solidFill>
                    <a:srgbClr val="d3e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riendschap</a:t>
            </a:r>
            <a:endParaRPr b="0" i="1" lang="en-US" sz="2400" spc="1" strike="noStrike">
              <a:ln w="44280">
                <a:solidFill>
                  <a:srgbClr val="d3e9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44280">
                  <a:solidFill>
                    <a:srgbClr val="d3e9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s zwijgen</a:t>
            </a:r>
            <a:endParaRPr b="0" i="1" lang="en-US" sz="2400" spc="1" strike="noStrike">
              <a:ln w="44280">
                <a:solidFill>
                  <a:srgbClr val="d3e9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4265640"/>
            <a:ext cx="3313440" cy="2763720"/>
          </a:xfrm>
          <a:prstGeom prst="rect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ewoon even geniete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37DBA-CF18-412B-9554-2E185C38552B}" type="datetime8">
              <a:rPr lang="en-US"/>
              <a:t>07/28/26 13:35</a:t>
            </a:fld>
          </a:p>
        </p:txBody>
      </p:sp>
    </p:spTree>
  </p:cSld>
  <p:transition spd="slow" advTm="11000">
    <p:split dir="out" orient="horz"/>
    <p:sndAc>
      <p:stSnd>
        <p:snd r:embed="rId4" name="ManciniRomeoAndJuli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4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79280" y="1413000"/>
            <a:ext cx="680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e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kostbaar kleinood</a:t>
            </a:r>
            <a:r>
              <a:rPr b="1" lang="tr-T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291920"/>
            <a:ext cx="6513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at met je meega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tot in de dood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0"/>
            <a:ext cx="7128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44600" y="187920"/>
            <a:ext cx="68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En heb je echte vriendschap gevond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619560"/>
            <a:ext cx="66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legt ze een pleister op vele wond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68360" y="5600160"/>
            <a:ext cx="7066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aarom is het fijn </a:t>
            </a:r>
            <a:br>
              <a:rPr sz="1600"/>
            </a:b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om goede vrienden te zijn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7451640" y="6093000"/>
            <a:ext cx="122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Eind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split dir="out" orient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1916280"/>
            <a:ext cx="48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zwijgen , niets zeg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276640"/>
            <a:ext cx="4751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Maar een arm om schouders leg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661000"/>
            <a:ext cx="914400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in iemands lev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Samen vreugde en verdriet de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3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3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476280"/>
            <a:ext cx="64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niets vrag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83664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maar gewoon helpen dra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3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284720" y="5877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gauw even mai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62373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om laatste nieuwtjes te delen</a:t>
            </a:r>
            <a:r>
              <a:rPr b="0" lang="nl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52360" y="260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durven tonen</a:t>
            </a:r>
            <a:r>
              <a:rPr b="0" lang="nl-BE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500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welke gevoelens er in je wonen</a:t>
            </a:r>
            <a:r>
              <a:rPr b="0" lang="nl-BE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8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2636280"/>
            <a:ext cx="518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is de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in iemands geluk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005360"/>
            <a:ext cx="511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en d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bidden “ Ga toch nooit stuk 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0"/>
            <a:ext cx="73080" cy="70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100"/>
                            </p:stCondLst>
                            <p:childTnLst>
                              <p:par>
                                <p:cTn id="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915560"/>
            <a:ext cx="4392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Vriendschap z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in kleine dingen</a:t>
            </a: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005360"/>
            <a:ext cx="70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die je niet t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Verdana"/>
              </a:rPr>
              <a:t>wedervriendschap dwin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0"/>
            <a:ext cx="73080" cy="710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188640"/>
            <a:ext cx="71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663300"/>
                </a:solidFill>
                <a:latin typeface="Verdana"/>
              </a:rPr>
              <a:t>Aan een goede vriendschap komt geen end</a:t>
            </a:r>
            <a:r>
              <a:rPr b="1" lang="tr-TR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19200"/>
            <a:ext cx="61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663300"/>
                </a:solidFill>
                <a:latin typeface="Verdana"/>
              </a:rPr>
              <a:t>waar ter wereld je ook bent</a:t>
            </a:r>
            <a:r>
              <a:rPr b="0" lang="nl-BE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1000">
    <p:split dir="out" orient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200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7:02:33Z</dcterms:created>
  <dc:creator>Annelies Verfaillie</dc:creator>
  <dc:description/>
  <dc:language>en-US</dc:language>
  <cp:lastModifiedBy>Administrator</cp:lastModifiedBy>
  <dcterms:modified xsi:type="dcterms:W3CDTF">2008-02-14T18:31:20Z</dcterms:modified>
  <cp:revision>8</cp:revision>
  <dc:subject>vrienden</dc:subject>
  <dc:title>Dia 1</dc:title>
</cp:coreProperties>
</file>