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elcome%20to%20my%20world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2D8-80EA-4898-99B3-DB18CEDFD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98D-E0BC-4918-95DA-90528DE6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A1C-A260-45D5-9D5F-B23379D9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7C18-8E9F-44AC-853F-64C78CE7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8E0-3942-45F3-AB6E-BC7267A8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8E2-5B3E-4F48-810C-75110669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B1E0-AF25-4F60-93F0-3ED953A7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E6A-68BE-4BA1-9F83-9ECEB9918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D60-B614-4064-9CB0-8297C38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FB5-754F-4CE5-A5B7-DBA642A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A54-812F-4BFF-AF01-CD99EB1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E92-D3A0-478F-82A5-C550A87B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6CFC-0F06-4CF9-8BA4-7677181F3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elcome%20to%20my%20world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Arial"/>
              </a:rPr>
              <a:t>Wondermooie Grot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Muziek : Welcome to my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08560" y="6977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0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ettige dag ve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maak er wat moois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3:43:36Z</dcterms:created>
  <dc:creator>eli</dc:creator>
  <dc:description/>
  <dc:language>en-US</dc:language>
  <cp:lastModifiedBy>John</cp:lastModifiedBy>
  <dcterms:modified xsi:type="dcterms:W3CDTF">2006-02-26T09:06:22Z</dcterms:modified>
  <cp:revision>5</cp:revision>
  <dc:subject/>
  <dc:title>אלבום תמונות</dc:title>
</cp:coreProperties>
</file>