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elcome%20to%20my%20world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711-66D4-4B60-9ECE-DB1755CD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B82-9642-4D93-A7E3-8981EE8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718-9B28-4758-966E-DFF34882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D7D-F761-49CD-9F09-ECC58E5B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31E-793C-498E-9D99-7B71901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A9B-6383-4869-8289-74AEB339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487-7CEF-4102-B6E9-85253953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E6E-792B-4728-8E5F-DBF9C11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952-15DC-4406-B40A-4FB701A9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676-8250-4FC6-A4E9-E9B6EEE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154-3CB2-492D-B765-27D4677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D51-8AB7-4DD0-8F9B-2C31E19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8761-3FB8-45CA-AD9F-EB1DFD16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elcome%20to%20my%20world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ondermooie Gro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uziek : Welcome to my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08560" y="6977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0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ttige dag v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maak er wat moois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3:43:36Z</dcterms:created>
  <dc:creator>eli</dc:creator>
  <dc:description/>
  <dc:language>en-US</dc:language>
  <cp:lastModifiedBy>John</cp:lastModifiedBy>
  <dcterms:modified xsi:type="dcterms:W3CDTF">2006-02-26T09:06:22Z</dcterms:modified>
  <cp:revision>5</cp:revision>
  <dc:subject/>
  <dc:title>אלבום תמונות</dc:title>
</cp:coreProperties>
</file>