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gif" ContentType="image/gif"/>
  <Override PartName="/ppt/media/image4.gif" ContentType="image/gif"/>
  <Override PartName="/ppt/media/image22.jpeg" ContentType="image/jpeg"/>
  <Override PartName="/ppt/media/image33.gif" ContentType="image/gif"/>
  <Override PartName="/ppt/media/image3.gif" ContentType="image/gif"/>
  <Override PartName="/ppt/media/image11.jpeg" ContentType="image/jpeg"/>
  <Override PartName="/ppt/media/image1.gif" ContentType="image/gif"/>
  <Override PartName="/ppt/media/image13.jpeg" ContentType="image/jpeg"/>
  <Override PartName="/ppt/media/Ventures%20-%20Christmas%20Joy%20-%2003%20-%20Winter%20Wonderland.wav" ContentType="audio/x-wav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82F-DB81-427A-BA36-ACDB490D91FE}" type="slidenum"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23A-DA20-4254-B9E7-86EBFD4AF4FD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542-AAE9-4490-B107-4E7FA93428DC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0656-8B2E-44A4-A6DD-60787F3ADFAC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0BC-4068-4150-9431-FBAE1D53F389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D15B-A719-4A45-A542-FEECC8DF7DDA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95F-4BA6-483B-BC69-D605B542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6C0-9E27-403B-886C-421985C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B5E-1F00-4D01-BF37-C9DA507E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570-9D1D-42E4-B72C-05DDD39E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610-7C6F-40D2-921A-64C90D1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1F7-5006-480A-A80B-FE1C288B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1F9-97B7-418F-B1E2-D087ADE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154-72E3-40B5-8B12-6CAD381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E94-F4DF-4BC4-B5A6-B642073E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7C2-4C47-4AA8-AC3C-A50C78E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890-C3D2-4ABC-B04B-A77FF0E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5C2-EA5F-4A2D-987A-4D9735E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B34-DF42-47E2-BBC7-2017C26A06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2.png"/><Relationship Id="rId17" Type="http://schemas.openxmlformats.org/officeDocument/2006/relationships/image" Target="../media/image3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audio" Target="../media/Ventures%20-%20Christmas%20Joy%20-%2003%20-%20Winter%20Wonderland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SNOW522222"/>
          <p:cNvPicPr/>
          <p:nvPr/>
        </p:nvPicPr>
        <p:blipFill>
          <a:blip r:embed="rId1"/>
          <a:stretch/>
        </p:blipFill>
        <p:spPr>
          <a:xfrm>
            <a:off x="7161120" y="0"/>
            <a:ext cx="1982880" cy="249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SNOW522222"/>
          <p:cNvPicPr/>
          <p:nvPr/>
        </p:nvPicPr>
        <p:blipFill>
          <a:blip r:embed="rId2"/>
          <a:stretch/>
        </p:blipFill>
        <p:spPr>
          <a:xfrm>
            <a:off x="5148360" y="0"/>
            <a:ext cx="198252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SNOW522222"/>
          <p:cNvPicPr/>
          <p:nvPr/>
        </p:nvPicPr>
        <p:blipFill>
          <a:blip r:embed="rId3"/>
          <a:stretch/>
        </p:blipFill>
        <p:spPr>
          <a:xfrm>
            <a:off x="3059280" y="0"/>
            <a:ext cx="19825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NOW522222"/>
          <p:cNvPicPr/>
          <p:nvPr/>
        </p:nvPicPr>
        <p:blipFill>
          <a:blip r:embed="rId4"/>
          <a:stretch/>
        </p:blipFill>
        <p:spPr>
          <a:xfrm>
            <a:off x="7161120" y="2133720"/>
            <a:ext cx="198288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NOW522222"/>
          <p:cNvPicPr/>
          <p:nvPr/>
        </p:nvPicPr>
        <p:blipFill>
          <a:blip r:embed="rId5"/>
          <a:stretch/>
        </p:blipFill>
        <p:spPr>
          <a:xfrm>
            <a:off x="0" y="0"/>
            <a:ext cx="198288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NOW522222"/>
          <p:cNvPicPr/>
          <p:nvPr/>
        </p:nvPicPr>
        <p:blipFill>
          <a:blip r:embed="rId6"/>
          <a:stretch/>
        </p:blipFill>
        <p:spPr>
          <a:xfrm>
            <a:off x="0" y="2492280"/>
            <a:ext cx="198288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SNOW522222"/>
          <p:cNvPicPr/>
          <p:nvPr/>
        </p:nvPicPr>
        <p:blipFill>
          <a:blip r:embed="rId7"/>
          <a:stretch/>
        </p:blipFill>
        <p:spPr>
          <a:xfrm>
            <a:off x="1403280" y="4508640"/>
            <a:ext cx="1982880" cy="234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SNOW522222"/>
          <p:cNvPicPr/>
          <p:nvPr/>
        </p:nvPicPr>
        <p:blipFill>
          <a:blip r:embed="rId8"/>
          <a:stretch/>
        </p:blipFill>
        <p:spPr>
          <a:xfrm>
            <a:off x="3348000" y="4149720"/>
            <a:ext cx="198288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SNOW522222"/>
          <p:cNvPicPr/>
          <p:nvPr/>
        </p:nvPicPr>
        <p:blipFill>
          <a:blip r:embed="rId9"/>
          <a:stretch/>
        </p:blipFill>
        <p:spPr>
          <a:xfrm>
            <a:off x="1547640" y="2637000"/>
            <a:ext cx="198288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SNOW522222"/>
          <p:cNvPicPr/>
          <p:nvPr/>
        </p:nvPicPr>
        <p:blipFill>
          <a:blip r:embed="rId10"/>
          <a:stretch/>
        </p:blipFill>
        <p:spPr>
          <a:xfrm>
            <a:off x="5003640" y="2492280"/>
            <a:ext cx="19828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SNOW522222"/>
          <p:cNvPicPr/>
          <p:nvPr/>
        </p:nvPicPr>
        <p:blipFill>
          <a:blip r:embed="rId11"/>
          <a:stretch/>
        </p:blipFill>
        <p:spPr>
          <a:xfrm>
            <a:off x="3059280" y="3068640"/>
            <a:ext cx="198252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SNOW522222"/>
          <p:cNvPicPr/>
          <p:nvPr/>
        </p:nvPicPr>
        <p:blipFill>
          <a:blip r:embed="rId12"/>
          <a:stretch/>
        </p:blipFill>
        <p:spPr>
          <a:xfrm>
            <a:off x="7161120" y="4122720"/>
            <a:ext cx="1982880" cy="273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SNOW522222"/>
          <p:cNvPicPr/>
          <p:nvPr/>
        </p:nvPicPr>
        <p:blipFill>
          <a:blip r:embed="rId13"/>
          <a:stretch/>
        </p:blipFill>
        <p:spPr>
          <a:xfrm>
            <a:off x="5292720" y="4336920"/>
            <a:ext cx="198288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SNOW522222"/>
          <p:cNvPicPr/>
          <p:nvPr/>
        </p:nvPicPr>
        <p:blipFill>
          <a:blip r:embed="rId14"/>
          <a:stretch/>
        </p:blipFill>
        <p:spPr>
          <a:xfrm>
            <a:off x="0" y="4437000"/>
            <a:ext cx="198288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SNOW522222"/>
          <p:cNvPicPr/>
          <p:nvPr/>
        </p:nvPicPr>
        <p:blipFill>
          <a:blip r:embed="rId15"/>
          <a:stretch/>
        </p:blipFill>
        <p:spPr>
          <a:xfrm>
            <a:off x="1285920" y="0"/>
            <a:ext cx="198288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2"/>
          <p:cNvSpPr/>
          <p:nvPr/>
        </p:nvSpPr>
        <p:spPr>
          <a:xfrm>
            <a:off x="1692360" y="260280"/>
            <a:ext cx="52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HET NIEUWE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0" y="2048040"/>
            <a:ext cx="7086600" cy="480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5324400" y="2362320"/>
            <a:ext cx="3819600" cy="44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3924360" y="2060640"/>
            <a:ext cx="431640" cy="40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4140360" y="155736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3564000" y="1557360"/>
            <a:ext cx="561960" cy="5238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edge/>
    <p:sndAc>
      <p:stSnd>
        <p:snd r:embed="rId21" name="Ventures%20-%20Christmas%20Joy%20-%2003%20-%20Winter%20Wonderla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fbeelding 4" descr="2091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2" descr="209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2"/>
          <p:cNvSpPr/>
          <p:nvPr/>
        </p:nvSpPr>
        <p:spPr>
          <a:xfrm>
            <a:off x="324000" y="90792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0000"/>
                </a:solidFill>
                <a:latin typeface="Mistral"/>
              </a:rPr>
              <a:t>VEEL GELUK IN KLEINE EN GROTE DINGEN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fbeelding 4" descr="dutch-winter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3" descr="dutch-win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2"/>
          <p:cNvSpPr/>
          <p:nvPr/>
        </p:nvSpPr>
        <p:spPr>
          <a:xfrm>
            <a:off x="1116000" y="40464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DE DAGEN GEVULD MET ZONNESCHIJN EN WARMT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2" descr="Afbeelding1`y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pic>
        <p:nvPicPr>
          <p:cNvPr id="97" name="Afbeelding 3" descr="Afbeelding1`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2"/>
          <p:cNvSpPr/>
          <p:nvPr/>
        </p:nvSpPr>
        <p:spPr>
          <a:xfrm>
            <a:off x="395280" y="404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GENIET VAN DE KLEINE DIN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Ren\My Documents\My Photos\June Whaun\Cool Pictures 30\image.35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2"/>
          <p:cNvSpPr/>
          <p:nvPr/>
        </p:nvSpPr>
        <p:spPr>
          <a:xfrm>
            <a:off x="395280" y="404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ZONDER ZORGEN VOOR MOR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2"/>
          <p:cNvSpPr/>
          <p:nvPr/>
        </p:nvSpPr>
        <p:spPr>
          <a:xfrm>
            <a:off x="611280" y="40464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LAAT DE HARDE NO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MAAR HANGEN AAN DE BOM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Brug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2"/>
          <p:cNvSpPr/>
          <p:nvPr/>
        </p:nvSpPr>
        <p:spPr>
          <a:xfrm>
            <a:off x="539640" y="40464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N BEGIN DE DAG MET EEN LACH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Ren\My Documents\My Photos\June Whaun\Cool Pictures 30\image.35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IK WENS JE 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wintersport24wall5"/>
          <p:cNvPicPr/>
          <p:nvPr/>
        </p:nvPicPr>
        <p:blipFill>
          <a:blip r:embed="rId1"/>
          <a:stretch/>
        </p:blipFill>
        <p:spPr>
          <a:xfrm>
            <a:off x="0" y="-42840"/>
            <a:ext cx="9828360" cy="6945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2"/>
          <p:cNvSpPr/>
          <p:nvPr/>
        </p:nvSpPr>
        <p:spPr>
          <a:xfrm>
            <a:off x="1547640" y="404640"/>
            <a:ext cx="66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LEUKE GEZELLIGE MOMEN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fbeelding 4" descr="Afbeelding3dddd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2" descr="Afbeelding3ddd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2"/>
          <p:cNvSpPr/>
          <p:nvPr/>
        </p:nvSpPr>
        <p:spPr>
          <a:xfrm>
            <a:off x="826920" y="40464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OEDE GEZONDHEID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fbeelding 1" descr="Brug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2"/>
          <p:cNvSpPr/>
          <p:nvPr/>
        </p:nvSpPr>
        <p:spPr>
          <a:xfrm>
            <a:off x="684360" y="404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VEEL LIEFDE EN VRIENDSCHAP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3" descr="107960084_7TgH1A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2"/>
          <p:cNvSpPr/>
          <p:nvPr/>
        </p:nvSpPr>
        <p:spPr>
          <a:xfrm>
            <a:off x="1692360" y="260280"/>
            <a:ext cx="52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KOMT ER WEERAL AA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Brugge1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BERGEN VAN GEL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beelding 2" descr="Afbeelding1f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8" name="Afbeelding 3" descr="Afbeelding1f.jpg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2"/>
          <p:cNvSpPr/>
          <p:nvPr/>
        </p:nvSpPr>
        <p:spPr>
          <a:xfrm>
            <a:off x="539640" y="40464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HEEL JAAR AAN EEN ST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OED EIND 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2"/>
          <p:cNvSpPr/>
          <p:nvPr/>
        </p:nvSpPr>
        <p:spPr>
          <a:xfrm>
            <a:off x="468360" y="404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VREUGDEVOL BEG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2"/>
          <p:cNvSpPr/>
          <p:nvPr/>
        </p:nvSpPr>
        <p:spPr>
          <a:xfrm>
            <a:off x="539640" y="404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JAAR VOLKOMEN NAAR JE Z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411280" y="170028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956720" y="53006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8667720" y="4149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7380360" y="263700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308720" y="134136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1908000" y="263700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619280" y="1197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774072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8191440" y="2492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508720" y="1268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2411280" y="1197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5292720" y="105264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2987640" y="198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2268360" y="4952880"/>
            <a:ext cx="151164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4716360" y="5373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6372360" y="414972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684360" y="5445000"/>
            <a:ext cx="95220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24560" y="431316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826920" y="1125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HEF EEN GLAS CHAMPAGN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2"/>
          <p:cNvSpPr/>
          <p:nvPr/>
        </p:nvSpPr>
        <p:spPr>
          <a:xfrm>
            <a:off x="324000" y="57340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OP EEN GEZOND EN ZORGELOOS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2"/>
          <p:cNvSpPr/>
          <p:nvPr/>
        </p:nvSpPr>
        <p:spPr>
          <a:xfrm>
            <a:off x="1476360" y="404640"/>
            <a:ext cx="648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VOL GELUK EN VRIENDSCHAP VOOR ELK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2"/>
          <p:cNvSpPr/>
          <p:nvPr/>
        </p:nvSpPr>
        <p:spPr>
          <a:xfrm>
            <a:off x="1619280" y="333360"/>
            <a:ext cx="633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DAN KAN HET NIEUWE JAAR ZEKER NIET MEER ST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2"/>
          <p:cNvSpPr/>
          <p:nvPr/>
        </p:nvSpPr>
        <p:spPr>
          <a:xfrm>
            <a:off x="2700360" y="404640"/>
            <a:ext cx="51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PRETTIGE FEES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16800" y="4941720"/>
            <a:ext cx="1627200" cy="191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956720" y="18900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 rot="734400">
            <a:off x="8172000" y="764640"/>
            <a:ext cx="561960" cy="524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77920" cy="981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2"/>
          <p:cNvSpPr/>
          <p:nvPr/>
        </p:nvSpPr>
        <p:spPr>
          <a:xfrm>
            <a:off x="2771640" y="4437000"/>
            <a:ext cx="52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EZOND en VREUGDEVOL 2010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3357720"/>
            <a:ext cx="3014640" cy="35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D:\Mijn Documenten\Bijlagen\Gif Werkmap\Wintersport310.gif"/>
          <p:cNvPicPr/>
          <p:nvPr/>
        </p:nvPicPr>
        <p:blipFill>
          <a:blip r:embed="rId7"/>
          <a:stretch/>
        </p:blipFill>
        <p:spPr>
          <a:xfrm>
            <a:off x="4500720" y="1341360"/>
            <a:ext cx="3000240" cy="26402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by_Polar_Be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2"/>
          <p:cNvSpPr/>
          <p:nvPr/>
        </p:nvSpPr>
        <p:spPr>
          <a:xfrm>
            <a:off x="1187280" y="40464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2009 IS VOORBIJ GEVLO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2" descr="Afbeelding1jh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3" descr="Afbeelding1jh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2"/>
          <p:cNvSpPr/>
          <p:nvPr/>
        </p:nvSpPr>
        <p:spPr>
          <a:xfrm>
            <a:off x="900000" y="404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2010 DOET ZIJN DEUR AL OP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3" descr="90617835_Q75E3QY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NIEUW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NIEUW BEG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2"/>
          <p:cNvSpPr/>
          <p:nvPr/>
        </p:nvSpPr>
        <p:spPr>
          <a:xfrm>
            <a:off x="611280" y="404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00"/>
                </a:solidFill>
                <a:latin typeface="Mistral"/>
              </a:rPr>
              <a:t>VLIEG ERIN MET EEN SWING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2" descr="Afbeelding1s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5" descr="Afbeelding1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IK WENS J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Ren\My Documents\My Photos\June Whaun\Cool Pictures 30\image.35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2"/>
          <p:cNvSpPr/>
          <p:nvPr/>
        </p:nvSpPr>
        <p:spPr>
          <a:xfrm>
            <a:off x="395280" y="1268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0000"/>
                </a:solidFill>
                <a:latin typeface="Mistral"/>
              </a:rPr>
              <a:t>EEN STRALEND EN SCHITTEREND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05:50Z</dcterms:created>
  <dc:creator>Knutsel</dc:creator>
  <dc:description/>
  <dc:language>en-US</dc:language>
  <cp:lastModifiedBy>DeConinck</cp:lastModifiedBy>
  <dcterms:modified xsi:type="dcterms:W3CDTF">2009-12-15T13:14:43Z</dcterms:modified>
  <cp:revision>77</cp:revision>
  <dc:subject>??????????</dc:subject>
  <dc:title>Hij Komt Eraan</dc:title>
</cp:coreProperties>
</file>